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3.png" ContentType="image/png"/>
  <Override PartName="/ppt/media/image4.png" ContentType="image/png"/>
  <Override PartName="/ppt/media/image5.wmf" ContentType="image/x-wmf"/>
  <Override PartName="/ppt/media/image10.wmf" ContentType="image/x-wmf"/>
  <Override PartName="/ppt/media/image2.png" ContentType="image/png"/>
  <Override PartName="/ppt/media/image11.png" ContentType="image/png"/>
  <Override PartName="/ppt/media/image6.wmf" ContentType="image/x-wmf"/>
  <Override PartName="/ppt/media/image12.png" ContentType="image/png"/>
  <Override PartName="/ppt/media/image7.png" ContentType="image/png"/>
  <Override PartName="/ppt/media/image1.jpeg" ContentType="image/jpeg"/>
  <Override PartName="/ppt/media/image8.png" ContentType="image/png"/>
  <Override PartName="/ppt/media/image13.png" ContentType="image/png"/>
  <Override PartName="/ppt/media/image9.wmf" ContentType="image/x-wmf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4AD1E9-FFB6-4785-B025-B54F26F5C72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379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d295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815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15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815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15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1C1B01-7E77-43AC-8D7A-CC4CF0D0C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379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d295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15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63960" y="152388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15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15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863960" y="391212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15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D2C8B3-9EE9-4FF5-B9D3-7154D1634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379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d295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15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442680" y="152388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15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99200" y="152388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15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15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442680" y="391212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15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99200" y="391212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15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A6FBFA-E77B-445C-988A-B0E20C53B1F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138856-08E1-4DFA-BBFF-9DB0DAA17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379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d295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7AD55E-F501-4474-BC7D-AF4DEE60B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379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d295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15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E57FF5-45E4-4CEB-923C-2A4658F5F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79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d295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97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15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63960" y="1523880"/>
            <a:ext cx="397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15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4454F1-C119-487F-9D9A-527DBAED2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79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d29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80CAEE-9984-4AAD-8190-B373320C0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spcAft>
                <a:spcPts val="15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90CFCF-6E64-40C2-B67C-62C0B98E9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79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d295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15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63960" y="1523880"/>
            <a:ext cx="397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15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15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F52FCC-BBC1-4C9A-B066-0F1E9EB3D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379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d295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9A5A1D-D3E5-4596-8522-9E41DE88C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79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d295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97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15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63960" y="152388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15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63960" y="391212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15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5940A8-761C-4D2C-B494-1917075F3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79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d295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15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63960" y="152388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15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815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15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B5FC29-5F37-4BDA-AA40-CD7B093AB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79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d295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815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15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815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15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882DF5-BEAB-4AB4-BCBF-F13C9A74A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79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d295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15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63960" y="152388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15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15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63960" y="391212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15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5A7914-2118-4B31-AD1D-B65A9A18B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379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d295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15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442680" y="152388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15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99200" y="152388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15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15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442680" y="391212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15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99200" y="391212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15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793258-6A49-43CA-B2B6-A28D38486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379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d295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15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622F6A-D37A-4108-91E6-25521EE12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379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d295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97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15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863960" y="1523880"/>
            <a:ext cx="397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15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C2CA8C-FB8B-48B4-8991-332FF2DBE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379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d29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BEC05C-6D6C-4825-A3B1-BC5FE2CA7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spcAft>
                <a:spcPts val="15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6FB250-EF6C-4A94-BFE9-EF8DB8F1B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379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d295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15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63960" y="1523880"/>
            <a:ext cx="397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15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15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871D36-45AB-44C1-9BF3-44806C12B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79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d295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97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15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3960" y="152388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15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863960" y="391212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15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C360D1-EB3D-4C64-BAA6-D299BC6E7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379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d295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15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3960" y="152388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15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815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spcAft>
                <a:spcPts val="15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E83E84-31A7-42DE-BA3E-0D4123A34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7d295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7d295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52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D. Hanig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02/18/20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2CC52-BB41-46E1-8DC4-A4989B92DDF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body"/>
          </p:nvPr>
        </p:nvSpPr>
        <p:spPr>
          <a:xfrm>
            <a:off x="685800" y="152388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>
              <a:spcBef>
                <a:spcPts val="799"/>
              </a:spcBef>
              <a:spcAft>
                <a:spcPts val="1599"/>
              </a:spcAft>
              <a:buClr>
                <a:srgbClr val="fed592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8280" indent="-242640">
              <a:spcBef>
                <a:spcPts val="799"/>
              </a:spcBef>
              <a:spcAft>
                <a:spcPts val="1599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15640" indent="-289800">
              <a:spcBef>
                <a:spcPts val="799"/>
              </a:spcBef>
              <a:spcAft>
                <a:spcPts val="1599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407240" indent="-194040">
              <a:spcBef>
                <a:spcPts val="799"/>
              </a:spcBef>
              <a:spcAft>
                <a:spcPts val="15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748520" indent="-194040">
              <a:spcBef>
                <a:spcPts val="799"/>
              </a:spcBef>
              <a:spcAft>
                <a:spcPts val="1599"/>
              </a:spcAft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748520" indent="-194040">
              <a:spcBef>
                <a:spcPts val="799"/>
              </a:spcBef>
              <a:spcAft>
                <a:spcPts val="15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748520" indent="-194040">
              <a:spcBef>
                <a:spcPts val="799"/>
              </a:spcBef>
              <a:spcAft>
                <a:spcPts val="15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7d295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7d295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BD849-2142-4688-BF08-FCE20750CCF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spcAft>
                <a:spcPts val="15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57240" algn="ctr">
              <a:spcBef>
                <a:spcPts val="601"/>
              </a:spcBef>
              <a:spcAft>
                <a:spcPts val="1199"/>
              </a:spcAft>
              <a:buClr>
                <a:srgbClr val="ffcc66"/>
              </a:buClr>
              <a:buSzPct val="11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55440" algn="ctr">
              <a:spcBef>
                <a:spcPts val="499"/>
              </a:spcBef>
              <a:spcAft>
                <a:spcPts val="1001"/>
              </a:spcAft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spcAft>
                <a:spcPts val="1001"/>
              </a:spcAft>
              <a:buClr>
                <a:srgbClr val="ffcc66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healthaffairs.org/WebExclusives/Heffler_Web_Excl_020703.htm" TargetMode="External"/><Relationship Id="rId3" Type="http://schemas.openxmlformats.org/officeDocument/2006/relationships/hyperlink" Target="http://www.ehcca.com/presentations/healthpolicyaudio20020730/robinson.pdf" TargetMode="External"/><Relationship Id="rId4" Type="http://schemas.openxmlformats.org/officeDocument/2006/relationships/hyperlink" Target="http://cg.harvard.edu/~sa54/lectures/PDF/lecture_4-15-02.pdf" TargetMode="External"/><Relationship Id="rId5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depts.washington.edu/hpap/" TargetMode="External"/><Relationship Id="rId3" Type="http://schemas.openxmlformats.org/officeDocument/2006/relationships/hyperlink" Target="http://cms.hhs.gov/about/history/milestones.asp" TargetMode="External"/><Relationship Id="rId4" Type="http://schemas.openxmlformats.org/officeDocument/2006/relationships/hyperlink" Target="http://www.fvcc.edu/academics/dept_pages/human.services/poorlaws.htm" TargetMode="External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94960" y="1971360"/>
            <a:ext cx="714204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7d295"/>
                </a:solidFill>
                <a:latin typeface="Arial"/>
              </a:rPr>
              <a:t>Healthcare in America</a:t>
            </a:r>
            <a:endParaRPr b="0" lang="en-US" sz="5400" spc="-1" strike="noStrike">
              <a:solidFill>
                <a:srgbClr val="f7d295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09120" y="4876560"/>
            <a:ext cx="76964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6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avid Hani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bruary 18, 200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295"/>
                </a:solidFill>
                <a:latin typeface="Arial"/>
              </a:rPr>
              <a:t>And uninsured are growing faster</a:t>
            </a:r>
            <a:endParaRPr b="0" lang="en-US" sz="4000" spc="-1" strike="noStrike">
              <a:solidFill>
                <a:srgbClr val="f7d295"/>
              </a:solidFill>
              <a:latin typeface="Arial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533520" y="1185840"/>
          <a:ext cx="8001000" cy="5367240"/>
        </p:xfrm>
        <a:graphic>
          <a:graphicData uri="http://schemas.openxmlformats.org/drawingml/2006/table">
            <a:tbl>
              <a:tblPr/>
              <a:tblGrid>
                <a:gridCol w="6576840"/>
                <a:gridCol w="1424160"/>
              </a:tblGrid>
              <a:tr h="5814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spcAft>
                          <a:spcPts val="15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A State Survey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 indent="114480">
                        <a:spcBef>
                          <a:spcPts val="700"/>
                        </a:spcBef>
                        <a:spcAft>
                          <a:spcPts val="1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ninsured in 2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spcAft>
                          <a:spcPts val="1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.4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 indent="114480">
                        <a:spcBef>
                          <a:spcPts val="700"/>
                        </a:spcBef>
                        <a:spcAft>
                          <a:spcPts val="1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ninsured 200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spcAft>
                          <a:spcPts val="1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.7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713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spcAft>
                          <a:spcPts val="15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te:  U.S. Census Bureau shows much higher levels of uninsured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14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spcAft>
                          <a:spcPts val="15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re Stats about Uninsured: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 indent="114480">
                        <a:spcBef>
                          <a:spcPts val="700"/>
                        </a:spcBef>
                        <a:spcAft>
                          <a:spcPts val="1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ge 19-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spcAft>
                          <a:spcPts val="1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.5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064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 indent="114480">
                        <a:spcBef>
                          <a:spcPts val="700"/>
                        </a:spcBef>
                        <a:spcAft>
                          <a:spcPts val="1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ouseholds below $35,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spcAft>
                          <a:spcPts val="1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.5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 indent="114480">
                        <a:spcBef>
                          <a:spcPts val="700"/>
                        </a:spcBef>
                        <a:spcAft>
                          <a:spcPts val="1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spanic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spcAft>
                          <a:spcPts val="1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.8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 indent="114480">
                        <a:spcBef>
                          <a:spcPts val="700"/>
                        </a:spcBef>
                        <a:spcAft>
                          <a:spcPts val="1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tive American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spcAft>
                          <a:spcPts val="1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.4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379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d295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9627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3520" y="22096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7d295"/>
                </a:solidFill>
                <a:latin typeface="Arial"/>
              </a:rPr>
              <a:t>How did we get here?</a:t>
            </a:r>
            <a:endParaRPr b="0" lang="en-US" sz="4800" spc="-1" strike="noStrike">
              <a:solidFill>
                <a:srgbClr val="f7d295"/>
              </a:solidFill>
              <a:latin typeface="Arial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80769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7d295"/>
                </a:solidFill>
                <a:latin typeface="Arial"/>
              </a:rPr>
              <a:t>Beginnings - </a:t>
            </a:r>
            <a:r>
              <a:rPr b="1" lang="en-US" sz="4000" spc="-1" strike="noStrike">
                <a:solidFill>
                  <a:srgbClr val="f7d295"/>
                </a:solidFill>
                <a:latin typeface="Arial"/>
              </a:rPr>
              <a:t> Poor Law of 1601</a:t>
            </a:r>
            <a:endParaRPr b="0" lang="en-US" sz="4000" spc="-1" strike="noStrike">
              <a:solidFill>
                <a:srgbClr val="f7d295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49"/>
              </a:spcBef>
              <a:spcAft>
                <a:spcPts val="1301"/>
              </a:spcAft>
              <a:buClr>
                <a:srgbClr val="fed592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Primary focus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1" i="1" lang="en-US" sz="2600" spc="-1" strike="noStrike">
                <a:solidFill>
                  <a:srgbClr val="ffffff"/>
                </a:solidFill>
                <a:latin typeface="Arial"/>
              </a:rPr>
              <a:t>Deserving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or </a:t>
            </a:r>
            <a:r>
              <a:rPr b="1" i="1" lang="en-US" sz="2600" spc="-1" strike="noStrike">
                <a:solidFill>
                  <a:srgbClr val="ffffff"/>
                </a:solidFill>
                <a:latin typeface="Arial"/>
              </a:rPr>
              <a:t>Undeserving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649"/>
              </a:spcBef>
              <a:spcAft>
                <a:spcPts val="1301"/>
              </a:spcAft>
              <a:buClr>
                <a:srgbClr val="fed592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vide care for “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the lame, old, impotent, blind, and such other among them being poor and not able to work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.” 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649"/>
              </a:spcBef>
              <a:spcAft>
                <a:spcPts val="1301"/>
              </a:spcAft>
              <a:buClr>
                <a:srgbClr val="fed592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ciety should help those in need through “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no fault of their own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”.  As for other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57160" indent="-285480">
              <a:spcBef>
                <a:spcPts val="649"/>
              </a:spcBef>
              <a:spcAft>
                <a:spcPts val="1301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ble-bodied poor – put to work in poorhous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57160" indent="-285480">
              <a:spcBef>
                <a:spcPts val="649"/>
              </a:spcBef>
              <a:spcAft>
                <a:spcPts val="1301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ble, but unwilling – provide nothing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57200" indent="0" algn="ctr">
              <a:spcBef>
                <a:spcPts val="700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se ideas continue unbroken to our ti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5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7d295"/>
                </a:solidFill>
                <a:latin typeface="Arial"/>
              </a:rPr>
              <a:t>The U.S. Built on Poor Laws</a:t>
            </a:r>
            <a:endParaRPr b="0" lang="en-US" sz="4400" spc="-1" strike="noStrike">
              <a:solidFill>
                <a:srgbClr val="f7d295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spcAft>
                <a:spcPts val="1599"/>
              </a:spcAft>
              <a:buClr>
                <a:srgbClr val="fed592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rly Republic initiated some programs – notably Public Health Service, which started as insurance for indigent sailo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spcAft>
                <a:spcPts val="1599"/>
              </a:spcAft>
              <a:buClr>
                <a:srgbClr val="fed592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fter Civil War, Veterans services.  Grew substantially after WWI.  (Is VA obstacle to universal coverage?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spcAft>
                <a:spcPts val="1599"/>
              </a:spcAft>
              <a:buClr>
                <a:srgbClr val="fed592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se programs conformed to strict notions of deserving v. undeserv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7d295"/>
                </a:solidFill>
                <a:latin typeface="Arial"/>
              </a:rPr>
              <a:t>20</a:t>
            </a:r>
            <a:r>
              <a:rPr b="0" lang="en-US" sz="4400" spc="-1" strike="noStrike" baseline="30000">
                <a:solidFill>
                  <a:srgbClr val="f7d295"/>
                </a:solidFill>
                <a:latin typeface="Arial"/>
              </a:rPr>
              <a:t>th</a:t>
            </a:r>
            <a:r>
              <a:rPr b="0" lang="en-US" sz="4400" spc="-1" strike="noStrike">
                <a:solidFill>
                  <a:srgbClr val="f7d295"/>
                </a:solidFill>
                <a:latin typeface="Arial"/>
              </a:rPr>
              <a:t> Century Attempts</a:t>
            </a:r>
            <a:endParaRPr b="0" lang="en-US" sz="4400" spc="-1" strike="noStrike">
              <a:solidFill>
                <a:srgbClr val="f7d295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spcAft>
                <a:spcPts val="1599"/>
              </a:spcAft>
              <a:buClr>
                <a:srgbClr val="fed592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ral attempts for healthcare coverage through 1946, including one major effort under Roosevelt in 1930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spcAft>
                <a:spcPts val="1599"/>
              </a:spcAft>
              <a:buClr>
                <a:srgbClr val="fed592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 the end of World War II, Truman promoted comprehensive, prepaid medical insurance pl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spcAft>
                <a:spcPts val="1599"/>
              </a:spcAft>
              <a:buClr>
                <a:srgbClr val="fed592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MA and business opposed it as “socialized medicine” and it was defeat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7d295"/>
                </a:solidFill>
                <a:latin typeface="Arial"/>
              </a:rPr>
              <a:t>Finding the “Deserving”</a:t>
            </a:r>
            <a:endParaRPr b="0" lang="en-US" sz="4400" spc="-1" strike="noStrike">
              <a:solidFill>
                <a:srgbClr val="f7d295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8839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spcAft>
                <a:spcPts val="1400"/>
              </a:spcAft>
              <a:buClr>
                <a:srgbClr val="fed592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st-Truman, focus shifted from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universal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verage to covering the “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deservin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spcAft>
                <a:spcPts val="1400"/>
              </a:spcAft>
              <a:buClr>
                <a:srgbClr val="fed592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965 – Passage of Medicare &amp; Medica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57160" indent="-285480">
              <a:lnSpc>
                <a:spcPct val="90000"/>
              </a:lnSpc>
              <a:spcBef>
                <a:spcPts val="649"/>
              </a:spcBef>
              <a:spcAft>
                <a:spcPts val="1301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Elderl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(could not get private insurance coverage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57160" indent="-285480">
              <a:lnSpc>
                <a:spcPct val="90000"/>
              </a:lnSpc>
              <a:spcBef>
                <a:spcPts val="649"/>
              </a:spcBef>
              <a:spcAft>
                <a:spcPts val="1301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Disable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57160" indent="-285480">
              <a:lnSpc>
                <a:spcPct val="90000"/>
              </a:lnSpc>
              <a:spcBef>
                <a:spcPts val="649"/>
              </a:spcBef>
              <a:spcAft>
                <a:spcPts val="1301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Poor Children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(in need through no fault of their own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spcAft>
                <a:spcPts val="1599"/>
              </a:spcAft>
              <a:buClr>
                <a:srgbClr val="fed592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Redux Elizabethan Poor Laws –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e lame, old, impotent, blind, and such other among them being poor and not able to work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7d295"/>
                </a:solidFill>
                <a:latin typeface="Arial"/>
              </a:rPr>
              <a:t>Focus on deserving leads to:</a:t>
            </a:r>
            <a:endParaRPr b="0" lang="en-US" sz="4400" spc="-1" strike="noStrike">
              <a:solidFill>
                <a:srgbClr val="f7d295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1349"/>
              </a:spcBef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yzantine screening rules.  Example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975"/>
              </a:spcBef>
              <a:spcAft>
                <a:spcPts val="1301"/>
              </a:spcAft>
              <a:buClr>
                <a:srgbClr val="fed592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Aliens who were in U.S. </a:t>
            </a:r>
            <a:r>
              <a:rPr b="1" i="1" lang="en-US" sz="2600" spc="-1" strike="noStrike">
                <a:solidFill>
                  <a:srgbClr val="ffffff"/>
                </a:solidFill>
                <a:latin typeface="Arial"/>
              </a:rPr>
              <a:t>before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August 22, 1996 can get Medicaid; BU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326"/>
              </a:spcBef>
              <a:spcAft>
                <a:spcPts val="649"/>
              </a:spcAft>
              <a:buClr>
                <a:srgbClr val="fed592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Aliens who entered U.S. </a:t>
            </a:r>
            <a:r>
              <a:rPr b="1" i="1" lang="en-US" sz="2600" spc="-1" strike="noStrike">
                <a:solidFill>
                  <a:srgbClr val="ffffff"/>
                </a:solidFill>
                <a:latin typeface="Arial"/>
              </a:rPr>
              <a:t>after 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August 21, 1996 can’t get Medicaid for 5 years, EXCEPT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970560" indent="-410400">
              <a:lnSpc>
                <a:spcPct val="80000"/>
              </a:lnSpc>
              <a:spcBef>
                <a:spcPts val="326"/>
              </a:spcBef>
              <a:spcAft>
                <a:spcPts val="649"/>
              </a:spcAft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ose in U.S. militar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970560" indent="-410400">
              <a:lnSpc>
                <a:spcPct val="80000"/>
              </a:lnSpc>
              <a:spcBef>
                <a:spcPts val="326"/>
              </a:spcBef>
              <a:spcAft>
                <a:spcPts val="649"/>
              </a:spcAft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Veterans of the Philippines military </a:t>
            </a: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before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July 1, 1946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970560" indent="-410400">
              <a:lnSpc>
                <a:spcPct val="80000"/>
              </a:lnSpc>
              <a:spcBef>
                <a:spcPts val="326"/>
              </a:spcBef>
              <a:spcAft>
                <a:spcPts val="649"/>
              </a:spcAft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mong or Highland Lao veteran; or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970560" indent="-410400">
              <a:lnSpc>
                <a:spcPct val="80000"/>
              </a:lnSpc>
              <a:spcBef>
                <a:spcPts val="326"/>
              </a:spcBef>
              <a:spcAft>
                <a:spcPts val="649"/>
              </a:spcAft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pouse or child of abov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597240" indent="0" algn="ctr">
              <a:lnSpc>
                <a:spcPct val="8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And this is just one of literally tens of thousands of similar regs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!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10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7d295"/>
                </a:solidFill>
                <a:latin typeface="Arial"/>
              </a:rPr>
              <a:t>Result:  Costly, bureaucratic system</a:t>
            </a:r>
            <a:endParaRPr b="0" lang="en-US" sz="3600" spc="-1" strike="noStrike">
              <a:solidFill>
                <a:srgbClr val="f7d295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spcAft>
                <a:spcPts val="1599"/>
              </a:spcAft>
              <a:buClr>
                <a:srgbClr val="fed592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sts millions to determine who is eligible and who is no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spcAft>
                <a:spcPts val="1599"/>
              </a:spcAft>
              <a:buClr>
                <a:srgbClr val="fed592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,000 FTEs in WA State just for eligibility – and that is not nearly enough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spcAft>
                <a:spcPts val="1599"/>
              </a:spcAft>
              <a:buClr>
                <a:srgbClr val="fed592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fusing rules pose barriers to entitled and require expensive outreach effor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0" algn="ctr">
              <a:lnSpc>
                <a:spcPct val="90000"/>
              </a:lnSpc>
              <a:spcBef>
                <a:spcPts val="799"/>
              </a:spcBef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A system designed by Kafka and executed by the Marx Brothers!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8077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7d295"/>
                </a:solidFill>
                <a:latin typeface="Verdana"/>
              </a:rPr>
              <a:t>Other Ills - </a:t>
            </a:r>
            <a:r>
              <a:rPr b="1" i="1" lang="en-US" sz="3300" spc="-1" strike="noStrike">
                <a:solidFill>
                  <a:srgbClr val="f7d295"/>
                </a:solidFill>
                <a:latin typeface="Verdana"/>
              </a:rPr>
              <a:t>to shift or not to shift</a:t>
            </a:r>
            <a:r>
              <a:rPr b="1" lang="en-US" sz="3300" spc="-1" strike="noStrike">
                <a:solidFill>
                  <a:srgbClr val="f7d295"/>
                </a:solidFill>
                <a:latin typeface="Verdana"/>
              </a:rPr>
              <a:t> </a:t>
            </a:r>
            <a:endParaRPr b="0" lang="en-US" sz="3300" spc="-1" strike="noStrike">
              <a:solidFill>
                <a:srgbClr val="f7d295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spcAft>
                <a:spcPts val="1599"/>
              </a:spcAft>
              <a:buClr>
                <a:srgbClr val="fed592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ministrative costs highest in the world ~25% of healthcare dolla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spcAft>
                <a:spcPts val="1599"/>
              </a:spcAft>
              <a:buClr>
                <a:srgbClr val="fed592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st-shifting primary driver – find someone else to pay the bi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spcAft>
                <a:spcPts val="1599"/>
              </a:spcAft>
              <a:buClr>
                <a:srgbClr val="fed592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verage primary care provider has +3.0 FTEs just to handle billing and admi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294920"/>
            <a:ext cx="8229600" cy="26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Bookman Old Style"/>
              </a:rPr>
              <a:t>Of all the forms of inequality, injustice in health care is the most shocking and inhumane.”</a:t>
            </a:r>
            <a:endParaRPr b="0" lang="en-US" sz="4800" spc="-1" strike="noStrike">
              <a:solidFill>
                <a:srgbClr val="f7d295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447920" y="56383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700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-Martin Luther King, J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839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7d295"/>
                </a:solidFill>
                <a:latin typeface="Arial"/>
              </a:rPr>
              <a:t>Meanwhile, outside the U.S. . . . </a:t>
            </a:r>
            <a:endParaRPr b="0" lang="en-US" sz="4000" spc="-1" strike="noStrike">
              <a:solidFill>
                <a:srgbClr val="f7d295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601280"/>
            <a:ext cx="8153280" cy="487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spcAft>
                <a:spcPts val="1599"/>
              </a:spcAft>
              <a:buClr>
                <a:srgbClr val="fed592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1900s, other industrializing nations established health insurance for workers and depend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spcAft>
                <a:spcPts val="1599"/>
              </a:spcAft>
              <a:buClr>
                <a:srgbClr val="fed592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ter extended cover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spcAft>
                <a:spcPts val="1599"/>
              </a:spcAft>
              <a:buClr>
                <a:srgbClr val="fed592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st-WW2 devastation prompted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universa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social programs – moving away from deserving v. undeserv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7d295"/>
                </a:solidFill>
                <a:latin typeface="Arial"/>
              </a:rPr>
              <a:t>Result – Uncontrolled Expenditures in U.S.</a:t>
            </a:r>
            <a:endParaRPr b="0" lang="en-US" sz="3400" spc="-1" strike="noStrike">
              <a:solidFill>
                <a:srgbClr val="f7d295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0" y="114300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7d295"/>
                </a:solidFill>
                <a:latin typeface="Arial"/>
              </a:rPr>
              <a:t>Compare &amp; Contrast</a:t>
            </a:r>
            <a:endParaRPr b="0" lang="en-US" sz="4400" spc="-1" strike="noStrike">
              <a:solidFill>
                <a:srgbClr val="f7d295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1640" y="1371240"/>
            <a:ext cx="4419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51"/>
              </a:spcBef>
              <a:spcAft>
                <a:spcPts val="1500"/>
              </a:spcAft>
              <a:buClr>
                <a:srgbClr val="fed592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ountries with universal, public- financed coverage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857160" indent="-285480">
              <a:lnSpc>
                <a:spcPct val="90000"/>
              </a:lnSpc>
              <a:spcBef>
                <a:spcPts val="649"/>
              </a:spcBef>
              <a:spcAft>
                <a:spcPts val="1301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etter control of rising costs by bargaining with physicians, hospitals, and corporation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57160" indent="-285480">
              <a:lnSpc>
                <a:spcPct val="90000"/>
              </a:lnSpc>
              <a:spcBef>
                <a:spcPts val="649"/>
              </a:spcBef>
              <a:spcAft>
                <a:spcPts val="1301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ried to maintain social equity in access to facilities and treatment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1371600"/>
            <a:ext cx="480060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00"/>
              </a:spcBef>
              <a:spcAft>
                <a:spcPts val="1400"/>
              </a:spcAft>
              <a:buClr>
                <a:srgbClr val="fed592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U.S.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57160" indent="-285480">
              <a:spcBef>
                <a:spcPts val="649"/>
              </a:spcBef>
              <a:spcAft>
                <a:spcPts val="1301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Government subsidized employers, private hospitals, physicians, and pharmaceutical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57160" indent="-285480">
              <a:spcBef>
                <a:spcPts val="649"/>
              </a:spcBef>
              <a:spcAft>
                <a:spcPts val="1301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kyrocketing cos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57160" indent="-285480">
              <a:spcBef>
                <a:spcPts val="649"/>
              </a:spcBef>
              <a:spcAft>
                <a:spcPts val="1301"/>
              </a:spcAft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hrinking acces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57160" indent="-285480">
              <a:spcBef>
                <a:spcPts val="649"/>
              </a:spcBef>
              <a:spcAft>
                <a:spcPts val="1301"/>
              </a:spcAft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Growing social inequit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33520" y="22096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7d295"/>
                </a:solidFill>
                <a:latin typeface="Arial"/>
              </a:rPr>
              <a:t>What’s next?</a:t>
            </a:r>
            <a:endParaRPr b="0" lang="en-US" sz="6000" spc="-1" strike="noStrike">
              <a:solidFill>
                <a:srgbClr val="f7d295"/>
              </a:solidFill>
              <a:latin typeface="Arial"/>
            </a:endParaRPr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380880" y="68544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It is now more than half a century since the first European country passed from debate on the advisability of social health insurance – to actual legislation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ere are now 22 countries, including all the industrialized countries of the world except the United States, that have compulsory health insurance . . .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e time is ripe for action."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700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. Barbara Armstrong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stimony to Congress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uly 5,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1935</a:t>
            </a: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7d295"/>
                </a:solidFill>
                <a:latin typeface="Arial"/>
              </a:rPr>
              <a:t>Current Federal Initiatives</a:t>
            </a:r>
            <a:endParaRPr b="0" lang="en-US" sz="4400" spc="-1" strike="noStrike">
              <a:solidFill>
                <a:srgbClr val="f7d295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spcAft>
                <a:spcPts val="1599"/>
              </a:spcAft>
              <a:buClr>
                <a:srgbClr val="fed592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lock grant Medicaid and shift long-term responsibility to sta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spcAft>
                <a:spcPts val="1599"/>
              </a:spcAft>
              <a:buClr>
                <a:srgbClr val="fed592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 of tax incentives to expand cover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spcAft>
                <a:spcPts val="1599"/>
              </a:spcAft>
              <a:buClr>
                <a:srgbClr val="fed592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dicare Rx cover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spcAft>
                <a:spcPts val="1599"/>
              </a:spcAft>
              <a:buClr>
                <a:srgbClr val="fed592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fety net for po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0" algn="ctr">
              <a:spcBef>
                <a:spcPts val="799"/>
              </a:spcBef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ll these steps help or hinde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7d295"/>
                </a:solidFill>
                <a:latin typeface="Arial"/>
              </a:rPr>
              <a:t>Our Future (according to Feds)</a:t>
            </a:r>
            <a:endParaRPr b="0" lang="en-US" sz="4000" spc="-1" strike="noStrike">
              <a:solidFill>
                <a:srgbClr val="f7d295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Aft>
                <a:spcPts val="1599"/>
              </a:spcAft>
              <a:buClr>
                <a:srgbClr val="fed592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lower Medicare and private personal health spending grow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Aft>
                <a:spcPts val="1599"/>
              </a:spcAft>
              <a:buClr>
                <a:srgbClr val="fed592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gher Medicaid spending growth due to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57160" indent="-285480">
              <a:spcAft>
                <a:spcPts val="1400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ak labor marke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57160" indent="-285480">
              <a:spcAft>
                <a:spcPts val="1400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inued private health premium infl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751"/>
              </a:spcBef>
              <a:spcAft>
                <a:spcPts val="1500"/>
              </a:spcAft>
              <a:buClr>
                <a:srgbClr val="fed592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rivate health insurance enrollment peaked in 2000 during hot job market.  Enrollment  has since declined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7d295"/>
                </a:solidFill>
                <a:latin typeface="Arial"/>
              </a:rPr>
              <a:t>More Health Care Inflation</a:t>
            </a:r>
            <a:endParaRPr b="0" lang="en-US" sz="4500" spc="-1" strike="noStrike">
              <a:solidFill>
                <a:srgbClr val="f7d295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761760" y="1447560"/>
            <a:ext cx="8001000" cy="510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452520" indent="-452520">
              <a:spcBef>
                <a:spcPts val="751"/>
              </a:spcBef>
              <a:spcAft>
                <a:spcPts val="1500"/>
              </a:spcAft>
              <a:buClr>
                <a:srgbClr val="fed592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harmaceutical products – few control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52520" indent="-452520">
              <a:spcBef>
                <a:spcPts val="751"/>
              </a:spcBef>
              <a:spcAft>
                <a:spcPts val="1500"/>
              </a:spcAft>
              <a:buClr>
                <a:srgbClr val="fed592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Labor market: nurses, techs, pharmacist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52520" indent="-452520">
              <a:spcBef>
                <a:spcPts val="751"/>
              </a:spcBef>
              <a:spcAft>
                <a:spcPts val="1500"/>
              </a:spcAft>
              <a:buClr>
                <a:srgbClr val="fed592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Hospital consolidation and market power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52520" indent="-452520">
              <a:spcBef>
                <a:spcPts val="751"/>
              </a:spcBef>
              <a:spcAft>
                <a:spcPts val="1500"/>
              </a:spcAft>
              <a:buClr>
                <a:srgbClr val="fed592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New, innovative drugs, devices, procedur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52520" indent="-452520">
              <a:spcBef>
                <a:spcPts val="751"/>
              </a:spcBef>
              <a:spcAft>
                <a:spcPts val="1500"/>
              </a:spcAft>
              <a:buClr>
                <a:srgbClr val="fed592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Elderly &amp; those with disabilities living longer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52520" indent="-452520">
              <a:spcAft>
                <a:spcPts val="1599"/>
              </a:spcAft>
              <a:buClr>
                <a:srgbClr val="fed592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Resul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 2001-2012, healthcare share of GDP will increase from 14.1% to 17.7%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7d295"/>
                </a:solidFill>
                <a:latin typeface="Arial"/>
              </a:rPr>
              <a:t>Result – Uncontrolled Expenditures in U.S.</a:t>
            </a:r>
            <a:endParaRPr b="0" lang="en-US" sz="3400" spc="-1" strike="noStrike">
              <a:solidFill>
                <a:srgbClr val="f7d295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0" y="114300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7d295"/>
                </a:solidFill>
                <a:latin typeface="Arial"/>
              </a:rPr>
              <a:t>Future (continued)</a:t>
            </a:r>
            <a:endParaRPr b="0" lang="en-US" sz="4400" spc="-1" strike="noStrike">
              <a:solidFill>
                <a:srgbClr val="f7d295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429480" indent="-429480">
              <a:lnSpc>
                <a:spcPct val="90000"/>
              </a:lnSpc>
              <a:spcBef>
                <a:spcPts val="751"/>
              </a:spcBef>
              <a:spcAft>
                <a:spcPts val="1500"/>
              </a:spcAft>
              <a:buClr>
                <a:srgbClr val="fed592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ercent of people with private insurance will declin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29480" indent="-429480">
              <a:lnSpc>
                <a:spcPct val="90000"/>
              </a:lnSpc>
              <a:spcBef>
                <a:spcPts val="799"/>
              </a:spcBef>
              <a:spcAft>
                <a:spcPts val="1599"/>
              </a:spcAft>
              <a:buClr>
                <a:srgbClr val="fed592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ift to service jobs without cover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29480" indent="-429480">
              <a:lnSpc>
                <a:spcPct val="90000"/>
              </a:lnSpc>
              <a:spcBef>
                <a:spcPts val="799"/>
              </a:spcBef>
              <a:spcAft>
                <a:spcPts val="1599"/>
              </a:spcAft>
              <a:buClr>
                <a:srgbClr val="fed592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lowing real per capita income grow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29480" indent="-429480">
              <a:lnSpc>
                <a:spcPct val="90000"/>
              </a:lnSpc>
              <a:spcBef>
                <a:spcPts val="751"/>
              </a:spcBef>
              <a:spcAft>
                <a:spcPts val="1500"/>
              </a:spcAft>
              <a:buClr>
                <a:srgbClr val="fed592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Employers and insurers to shift more costs to employe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29480" indent="-429480">
              <a:lnSpc>
                <a:spcPct val="90000"/>
              </a:lnSpc>
              <a:spcBef>
                <a:spcPts val="751"/>
              </a:spcBef>
              <a:spcAft>
                <a:spcPts val="1500"/>
              </a:spcAft>
              <a:buClr>
                <a:srgbClr val="fed592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#1 Cause of bankruptcy – healthcare cost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29480" indent="-429480">
              <a:lnSpc>
                <a:spcPct val="90000"/>
              </a:lnSpc>
              <a:spcBef>
                <a:spcPts val="799"/>
              </a:spcBef>
              <a:spcAft>
                <a:spcPts val="1599"/>
              </a:spcAft>
              <a:buClr>
                <a:srgbClr val="fed592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Resul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 Increase in uninsured AND increase in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unde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sur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7d295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7d295"/>
                </a:solidFill>
                <a:latin typeface="Arial"/>
              </a:rPr>
              <a:t>A Roadmap</a:t>
            </a:r>
            <a:endParaRPr b="0" lang="en-US" sz="4400" spc="-1" strike="noStrike">
              <a:solidFill>
                <a:srgbClr val="f7d295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901"/>
              </a:spcBef>
              <a:spcAft>
                <a:spcPts val="24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ver the next hour, we will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901"/>
              </a:spcBef>
              <a:spcAft>
                <a:spcPts val="2475"/>
              </a:spcAft>
              <a:buClr>
                <a:srgbClr val="fed592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escribe the state of healthcare tod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901"/>
              </a:spcBef>
              <a:spcAft>
                <a:spcPts val="2475"/>
              </a:spcAft>
              <a:buClr>
                <a:srgbClr val="fed592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ry to explain how we got her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901"/>
              </a:spcBef>
              <a:spcAft>
                <a:spcPts val="2475"/>
              </a:spcAft>
              <a:buClr>
                <a:srgbClr val="fed592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int at where we are heade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7d295"/>
                </a:solidFill>
                <a:latin typeface="Arial"/>
              </a:rPr>
              <a:t>Long-Term Prospects</a:t>
            </a:r>
            <a:endParaRPr b="0" lang="en-US" sz="4400" spc="-1" strike="noStrike">
              <a:solidFill>
                <a:srgbClr val="f7d295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spcAft>
                <a:spcPts val="1599"/>
              </a:spcAft>
              <a:buClr>
                <a:srgbClr val="fed592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 costs escalate, coverage declines and more people have no or catastrophic coverage, pressure will gro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spcAft>
                <a:spcPts val="1599"/>
              </a:spcAft>
              <a:buClr>
                <a:srgbClr val="fed592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t, groups getting some of the $1.5 trillion will resist systemic chang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spcAft>
                <a:spcPts val="1599"/>
              </a:spcAft>
              <a:buClr>
                <a:srgbClr val="fed592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tend to look for incremental solu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spcAft>
                <a:spcPts val="1599"/>
              </a:spcAft>
              <a:buClr>
                <a:srgbClr val="fed592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 Government the solutio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379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d295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ly one other time in our history did we move away from our focus on helping only the deserving to supporting all. During the Great Depression, when over 1/3 of people were unemployed and nearly all Americans were suffering, we recognized our connectedness to others and enacted programs to benefit al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379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7d295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indent="0">
              <a:lnSpc>
                <a:spcPct val="90000"/>
              </a:lnSpc>
              <a:spcBef>
                <a:spcPts val="901"/>
              </a:spcBef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otype Corsiva"/>
              </a:rPr>
              <a:t>“</a:t>
            </a:r>
            <a:r>
              <a:rPr b="0" lang="en-US" sz="3600" spc="-1" strike="noStrike">
                <a:solidFill>
                  <a:srgbClr val="ffffff"/>
                </a:solidFill>
                <a:latin typeface="Monotype Corsiva"/>
              </a:rPr>
              <a:t>This seeking for a greater measure of welfare and happiness does not indicate a change in values. It is rather a return to values lost in the course of our economic development and expansion . . ."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700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ranklin D. Roosevelt: Message to Congress regarding passage of Social Security A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une 8, 1934</a:t>
            </a:r>
            <a:r>
              <a:rPr b="0" lang="en-US" sz="2400" spc="-1" strike="noStrike">
                <a:solidFill>
                  <a:srgbClr val="ffffff"/>
                </a:solidFill>
                <a:latin typeface="Monotype Corsiv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7d295"/>
                </a:solidFill>
                <a:latin typeface="Arial"/>
              </a:rPr>
              <a:t>Citations</a:t>
            </a:r>
            <a:endParaRPr b="0" lang="en-US" sz="4400" spc="-1" strike="noStrike">
              <a:solidFill>
                <a:srgbClr val="f7d295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Aft>
                <a:spcPts val="1199"/>
              </a:spcAft>
              <a:buClr>
                <a:srgbClr val="fed592"/>
              </a:buClr>
              <a:buSzPct val="12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alth Spending Projections For 2002–2012 Stephen Heffler, Sheila Smith, Sean Keehan, M. Kent Clemens, Greg Won, and Mark Zezza in Health Affairs:  7 February 2003. </a:t>
            </a:r>
            <a:r>
              <a:rPr b="0" lang="en-US" sz="1600" spc="-1" strike="noStrike" u="sng">
                <a:solidFill>
                  <a:srgbClr val="00cc99"/>
                </a:solidFill>
                <a:uFillTx/>
                <a:latin typeface="Arial"/>
                <a:hlinkClick r:id="rId2"/>
              </a:rPr>
              <a:t>http://www.healthaffairs.org/WebExclusives/Heffler_Web_Excl_020703.ht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Aft>
                <a:spcPts val="1349"/>
              </a:spcAft>
              <a:buClr>
                <a:srgbClr val="fed592"/>
              </a:buClr>
              <a:buSzPct val="12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cope of the Health Care Cost Challenge. 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ational Health Policy Audioconference, July 30, 2002.  Professor James C. Robinson, University of California, Berkeley. </a:t>
            </a:r>
            <a:r>
              <a:rPr b="0" lang="en-US" sz="1800" spc="-1" strike="noStrike" u="sng">
                <a:solidFill>
                  <a:srgbClr val="00cc99"/>
                </a:solidFill>
                <a:uFillTx/>
                <a:latin typeface="Arial"/>
                <a:hlinkClick r:id="rId3"/>
              </a:rPr>
              <a:t>www.ehcca.com/presentations/healthpolicyaudio20020730/robinson.pd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Aft>
                <a:spcPts val="1199"/>
              </a:spcAft>
              <a:buClr>
                <a:srgbClr val="fed592"/>
              </a:buClr>
              <a:buSzPct val="12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Development of the American Health Care System.  Lecture for Social Analysis 54, by Theda Skocpol.   </a:t>
            </a:r>
            <a:r>
              <a:rPr b="0" lang="en-US" sz="1600" spc="-1" strike="noStrike" u="sng">
                <a:solidFill>
                  <a:srgbClr val="00cc99"/>
                </a:solidFill>
                <a:uFillTx/>
                <a:latin typeface="Arial"/>
                <a:hlinkClick r:id="rId4"/>
              </a:rPr>
              <a:t>http://cg.harvard.edu/~sa54/lectures/PDF/lecture_4-15-02.pd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685800" y="152388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spcAft>
                <a:spcPts val="1199"/>
              </a:spcAft>
              <a:buClr>
                <a:srgbClr val="fed592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alth Policy Analysis Program University of Washington School of Public Health and Community Medicine  </a:t>
            </a:r>
            <a:r>
              <a:rPr b="0" lang="en-US" sz="2400" spc="-1" strike="noStrike" u="sng">
                <a:solidFill>
                  <a:srgbClr val="00cc99"/>
                </a:solidFill>
                <a:uFillTx/>
                <a:latin typeface="Arial"/>
                <a:hlinkClick r:id="rId2"/>
              </a:rPr>
              <a:t>http://depts.washington.edu/hpap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spcAft>
                <a:spcPts val="1599"/>
              </a:spcAft>
              <a:buClr>
                <a:srgbClr val="fed592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99"/>
                </a:solidFill>
                <a:uFillTx/>
                <a:latin typeface="Arial"/>
                <a:hlinkClick r:id="rId3"/>
              </a:rPr>
              <a:t>http://cms.hhs.gov/about/history/milestones.as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spcAft>
                <a:spcPts val="1599"/>
              </a:spcAft>
              <a:buClr>
                <a:srgbClr val="fed592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99"/>
                </a:solidFill>
                <a:uFillTx/>
                <a:latin typeface="Arial"/>
                <a:hlinkClick r:id="rId4"/>
              </a:rPr>
              <a:t>http://www.fvcc.edu/academics/dept_pages/human.services/poorlaws.ht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7d295"/>
                </a:solidFill>
                <a:latin typeface="Arial"/>
              </a:rPr>
              <a:t>Citations</a:t>
            </a:r>
            <a:endParaRPr b="0" lang="en-US" sz="4400" spc="-1" strike="noStrike">
              <a:solidFill>
                <a:srgbClr val="f7d295"/>
              </a:solidFill>
              <a:latin typeface="Arial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0" y="1219320"/>
            <a:ext cx="9144000" cy="563868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822960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tal U.S. Health Care Expenditures as a Percentage of Gross Domestic Product, 1960-95</a:t>
            </a:r>
            <a:endParaRPr b="0" lang="en-US" sz="2600" spc="-1" strike="noStrike">
              <a:solidFill>
                <a:srgbClr val="f7d295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7d295"/>
                </a:solidFill>
                <a:latin typeface="Arial"/>
              </a:rPr>
              <a:t>Healthcare costs grow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7d295"/>
                </a:solidFill>
                <a:latin typeface="Arial"/>
              </a:rPr>
              <a:t>No Sector is Spared</a:t>
            </a:r>
            <a:endParaRPr b="0" lang="en-US" sz="4600" spc="-1" strike="noStrike">
              <a:solidFill>
                <a:srgbClr val="f7d295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0" y="1496880"/>
          <a:ext cx="9226440" cy="540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496880"/>
                    <a:ext cx="9226440" cy="540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" name=""/>
          <p:cNvSpPr/>
          <p:nvPr/>
        </p:nvSpPr>
        <p:spPr>
          <a:xfrm>
            <a:off x="609480" y="121932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7d295"/>
                </a:solidFill>
                <a:latin typeface="Arial"/>
              </a:rPr>
              <a:t>National Per Capita Health Expenditures 1980-2001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3048120" y="1447920"/>
            <a:ext cx="2074680" cy="11412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1fffc"/>
                </a:solidFill>
                <a:latin typeface="Arial Black"/>
              </a:rPr>
              <a:t>The Rising Cost of Medic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85800" y="228600"/>
            <a:ext cx="800100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7d295"/>
                </a:solidFill>
                <a:latin typeface="Arial"/>
              </a:rPr>
              <a:t>In WA State, Healthcare Increasing Faster than Other Area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57200" y="6381720"/>
            <a:ext cx="8381880" cy="4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Narrow"/>
              </a:rPr>
              <a:t>SOURCE: Legislative Evaluation and Program Committee (LEAP), ProShare calculation from DSHS Budget Division. Medical costs include the Washington State Health Care Authority and DSHS Medical Assistance payments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565200" y="609480"/>
            <a:ext cx="8578080" cy="6022440"/>
            <a:chOff x="565200" y="609480"/>
            <a:chExt cx="8578080" cy="6022440"/>
          </a:xfrm>
        </p:grpSpPr>
        <p:sp>
          <p:nvSpPr>
            <p:cNvPr id="98" name=""/>
            <p:cNvSpPr/>
            <p:nvPr/>
          </p:nvSpPr>
          <p:spPr>
            <a:xfrm>
              <a:off x="565200" y="4674960"/>
              <a:ext cx="1208520" cy="53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Wingdings 3"/>
                  <a:ea typeface="Wingdings 3"/>
                </a:rPr>
                <a:t></a:t>
              </a:r>
              <a:r>
                <a:rPr b="1" lang="en-US" sz="800" spc="-1" strike="noStrike">
                  <a:solidFill>
                    <a:srgbClr val="ff3300"/>
                  </a:solidFill>
                  <a:latin typeface="Arial Narrow"/>
                </a:rPr>
                <a:t> </a:t>
              </a:r>
              <a:r>
                <a:rPr b="1" lang="en-US" sz="1800" spc="-1" strike="noStrike">
                  <a:solidFill>
                    <a:srgbClr val="ffff99"/>
                  </a:solidFill>
                  <a:latin typeface="Arial Narrow"/>
                </a:rPr>
                <a:t>55%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cc00"/>
                  </a:solidFill>
                  <a:latin typeface="Arial Narrow"/>
                </a:rPr>
                <a:t>from 1989-91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601560" y="609480"/>
              <a:ext cx="8541720" cy="6022440"/>
              <a:chOff x="601560" y="609480"/>
              <a:chExt cx="8541720" cy="6022440"/>
            </a:xfrm>
          </p:grpSpPr>
          <p:graphicFrame>
            <p:nvGraphicFramePr>
              <p:cNvPr id="100" name=""/>
              <p:cNvGraphicFramePr/>
              <p:nvPr/>
            </p:nvGraphicFramePr>
            <p:xfrm>
              <a:off x="601560" y="610920"/>
              <a:ext cx="8541720" cy="6021000"/>
            </p:xfrm>
            <a:graphic>
              <a:graphicData uri="http://schemas.openxmlformats.org/presentationml/2006/ole">
                <p:oleObj r:id="rId2" spid="">
                  <p:embed/>
                  <p:pic>
                    <p:nvPicPr>
                      <p:cNvPr id="101" name="" descr=""/>
                      <p:cNvPicPr/>
                      <p:nvPr/>
                    </p:nvPicPr>
                    <p:blipFill>
                      <a:blip r:embed="rId3"/>
                      <a:stretch/>
                    </p:blipFill>
                    <p:spPr>
                      <a:xfrm>
                        <a:off x="601560" y="610920"/>
                        <a:ext cx="8541720" cy="60210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02" name=""/>
              <p:cNvSpPr/>
              <p:nvPr/>
            </p:nvSpPr>
            <p:spPr>
              <a:xfrm>
                <a:off x="831240" y="5250240"/>
                <a:ext cx="1008720" cy="505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7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 Narrow"/>
                  </a:rPr>
                  <a:t>Health Care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2529000" y="5581440"/>
                <a:ext cx="974520" cy="60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6699"/>
                    </a:solidFill>
                    <a:latin typeface="Arial Narrow"/>
                  </a:rPr>
                  <a:t>Rest of</a:t>
                </a:r>
                <a:r>
                  <a:rPr b="1" lang="en-US" sz="1400" spc="-1" strike="noStrike">
                    <a:solidFill>
                      <a:srgbClr val="006699"/>
                    </a:solidFill>
                    <a:latin typeface="Arial Narrow"/>
                  </a:rPr>
                  <a:t> Budget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890520" y="5393880"/>
                <a:ext cx="974520" cy="60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6699"/>
                    </a:solidFill>
                    <a:latin typeface="Arial Narrow"/>
                  </a:rPr>
                  <a:t>Rest of</a:t>
                </a:r>
                <a:r>
                  <a:rPr b="1" lang="en-US" sz="1400" spc="-1" strike="noStrike">
                    <a:solidFill>
                      <a:srgbClr val="006699"/>
                    </a:solidFill>
                    <a:latin typeface="Arial Narrow"/>
                  </a:rPr>
                  <a:t> Budget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5266440" y="5193000"/>
                <a:ext cx="974520" cy="60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6699"/>
                    </a:solidFill>
                    <a:latin typeface="Arial Narrow"/>
                  </a:rPr>
                  <a:t>Rest of</a:t>
                </a:r>
                <a:r>
                  <a:rPr b="1" lang="en-US" sz="1400" spc="-1" strike="noStrike">
                    <a:solidFill>
                      <a:srgbClr val="006699"/>
                    </a:solidFill>
                    <a:latin typeface="Arial Narrow"/>
                  </a:rPr>
                  <a:t> Budget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627960" y="4932720"/>
                <a:ext cx="974520" cy="60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6699"/>
                    </a:solidFill>
                    <a:latin typeface="Arial Narrow"/>
                  </a:rPr>
                  <a:t>Rest of</a:t>
                </a:r>
                <a:r>
                  <a:rPr b="1" lang="en-US" sz="1400" spc="-1" strike="noStrike">
                    <a:solidFill>
                      <a:srgbClr val="006699"/>
                    </a:solidFill>
                    <a:latin typeface="Arial Narrow"/>
                  </a:rPr>
                  <a:t> Budget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7973280" y="4728240"/>
                <a:ext cx="974880" cy="60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6699"/>
                    </a:solidFill>
                    <a:latin typeface="Arial Narrow"/>
                  </a:rPr>
                  <a:t>Rest of</a:t>
                </a:r>
                <a:r>
                  <a:rPr b="1" lang="en-US" sz="1400" spc="-1" strike="noStrike">
                    <a:solidFill>
                      <a:srgbClr val="006699"/>
                    </a:solidFill>
                    <a:latin typeface="Arial Narrow"/>
                  </a:rPr>
                  <a:t> Budget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1922760" y="3877200"/>
                <a:ext cx="1207800" cy="533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3300"/>
                    </a:solidFill>
                    <a:latin typeface="Wingdings 3"/>
                    <a:ea typeface="Wingdings 3"/>
                  </a:rPr>
                  <a:t></a:t>
                </a:r>
                <a:r>
                  <a:rPr b="1" lang="en-US" sz="800" spc="-1" strike="noStrike">
                    <a:solidFill>
                      <a:srgbClr val="ff3300"/>
                    </a:solidFill>
                    <a:latin typeface="Arial Narrow"/>
                  </a:rPr>
                  <a:t> </a:t>
                </a:r>
                <a:r>
                  <a:rPr b="1" lang="en-US" sz="1800" spc="-1" strike="noStrike">
                    <a:solidFill>
                      <a:srgbClr val="ffff99"/>
                    </a:solidFill>
                    <a:latin typeface="Arial Narrow"/>
                  </a:rPr>
                  <a:t>109%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cc00"/>
                    </a:solidFill>
                    <a:latin typeface="Arial Narrow"/>
                  </a:rPr>
                  <a:t>from 1989-91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3282120" y="3242520"/>
                <a:ext cx="1208520" cy="533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3300"/>
                    </a:solidFill>
                    <a:latin typeface="Wingdings 3"/>
                    <a:ea typeface="Wingdings 3"/>
                  </a:rPr>
                  <a:t></a:t>
                </a:r>
                <a:r>
                  <a:rPr b="1" lang="en-US" sz="800" spc="-1" strike="noStrike">
                    <a:solidFill>
                      <a:srgbClr val="ff3300"/>
                    </a:solidFill>
                    <a:latin typeface="Arial Narrow"/>
                  </a:rPr>
                  <a:t> </a:t>
                </a:r>
                <a:r>
                  <a:rPr b="1" lang="en-US" sz="1800" spc="-1" strike="noStrike">
                    <a:solidFill>
                      <a:srgbClr val="ffff99"/>
                    </a:solidFill>
                    <a:latin typeface="Arial Narrow"/>
                  </a:rPr>
                  <a:t>151%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cc00"/>
                    </a:solidFill>
                    <a:latin typeface="Arial Narrow"/>
                  </a:rPr>
                  <a:t>from 1989-91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4641840" y="2557800"/>
                <a:ext cx="1208520" cy="533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3300"/>
                    </a:solidFill>
                    <a:latin typeface="Wingdings 3"/>
                    <a:ea typeface="Wingdings 3"/>
                  </a:rPr>
                  <a:t></a:t>
                </a:r>
                <a:r>
                  <a:rPr b="1" lang="en-US" sz="800" spc="-1" strike="noStrike">
                    <a:solidFill>
                      <a:srgbClr val="ff3300"/>
                    </a:solidFill>
                    <a:latin typeface="Arial Narrow"/>
                  </a:rPr>
                  <a:t> </a:t>
                </a:r>
                <a:r>
                  <a:rPr b="1" lang="en-US" sz="1800" spc="-1" strike="noStrike">
                    <a:solidFill>
                      <a:srgbClr val="ffff99"/>
                    </a:solidFill>
                    <a:latin typeface="Arial Narrow"/>
                  </a:rPr>
                  <a:t>198%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cc00"/>
                    </a:solidFill>
                    <a:latin typeface="Arial Narrow"/>
                  </a:rPr>
                  <a:t>from 1989-91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1200" y="1392840"/>
                <a:ext cx="1208520" cy="533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3300"/>
                    </a:solidFill>
                    <a:latin typeface="Wingdings 3"/>
                    <a:ea typeface="Wingdings 3"/>
                  </a:rPr>
                  <a:t></a:t>
                </a:r>
                <a:r>
                  <a:rPr b="1" lang="en-US" sz="800" spc="-1" strike="noStrike">
                    <a:solidFill>
                      <a:srgbClr val="ff3300"/>
                    </a:solidFill>
                    <a:latin typeface="Arial Narrow"/>
                  </a:rPr>
                  <a:t> </a:t>
                </a:r>
                <a:r>
                  <a:rPr b="1" lang="en-US" sz="1800" spc="-1" strike="noStrike">
                    <a:solidFill>
                      <a:srgbClr val="ffff99"/>
                    </a:solidFill>
                    <a:latin typeface="Arial Narrow"/>
                  </a:rPr>
                  <a:t>275%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cc00"/>
                    </a:solidFill>
                    <a:latin typeface="Arial Narrow"/>
                  </a:rPr>
                  <a:t>from 1989-91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7360920" y="609480"/>
                <a:ext cx="1208520" cy="533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3300"/>
                    </a:solidFill>
                    <a:latin typeface="Wingdings 3"/>
                    <a:ea typeface="Wingdings 3"/>
                  </a:rPr>
                  <a:t></a:t>
                </a:r>
                <a:r>
                  <a:rPr b="1" lang="en-US" sz="800" spc="-1" strike="noStrike">
                    <a:solidFill>
                      <a:srgbClr val="ff3300"/>
                    </a:solidFill>
                    <a:latin typeface="Arial Narrow"/>
                  </a:rPr>
                  <a:t> </a:t>
                </a:r>
                <a:r>
                  <a:rPr b="1" lang="en-US" sz="1800" spc="-1" strike="noStrike">
                    <a:solidFill>
                      <a:srgbClr val="ffff99"/>
                    </a:solidFill>
                    <a:latin typeface="Arial Narrow"/>
                  </a:rPr>
                  <a:t>327%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cc00"/>
                    </a:solidFill>
                    <a:latin typeface="Arial Narrow"/>
                  </a:rPr>
                  <a:t>from 1989-91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38600" y="5397480"/>
                <a:ext cx="1208520" cy="298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7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2404080" y="5231160"/>
                <a:ext cx="1207800" cy="40464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2600" dir="5400000" blurRad="0" rotWithShape="0">
                  <a:srgbClr val="00669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3300"/>
                    </a:solidFill>
                    <a:latin typeface="Wingdings 3"/>
                    <a:ea typeface="Wingdings 3"/>
                  </a:rPr>
                  <a:t></a:t>
                </a:r>
                <a:r>
                  <a:rPr b="1" lang="en-US" sz="1400" spc="-1" strike="noStrike">
                    <a:solidFill>
                      <a:srgbClr val="ffcc00"/>
                    </a:solidFill>
                    <a:latin typeface="Arial Narrow"/>
                  </a:rPr>
                  <a:t> </a:t>
                </a:r>
                <a:r>
                  <a:rPr b="1" lang="en-US" sz="1600" spc="-1" strike="noStrike">
                    <a:solidFill>
                      <a:srgbClr val="ffcc00"/>
                    </a:solidFill>
                    <a:latin typeface="Arial Narrow"/>
                  </a:rPr>
                  <a:t>31%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3731760" y="5029920"/>
                <a:ext cx="1207800" cy="40464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2600" dir="5400000" blurRad="0" rotWithShape="0">
                  <a:srgbClr val="00669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3300"/>
                    </a:solidFill>
                    <a:latin typeface="Wingdings 3"/>
                    <a:ea typeface="Wingdings 3"/>
                  </a:rPr>
                  <a:t></a:t>
                </a:r>
                <a:r>
                  <a:rPr b="1" lang="en-US" sz="1400" spc="-1" strike="noStrike">
                    <a:solidFill>
                      <a:srgbClr val="ffcc00"/>
                    </a:solidFill>
                    <a:latin typeface="Arial Narrow"/>
                  </a:rPr>
                  <a:t> </a:t>
                </a:r>
                <a:r>
                  <a:rPr b="1" lang="en-US" sz="1600" spc="-1" strike="noStrike">
                    <a:solidFill>
                      <a:srgbClr val="ffcc00"/>
                    </a:solidFill>
                    <a:latin typeface="Arial Narrow"/>
                  </a:rPr>
                  <a:t>44%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100840" y="4809960"/>
                <a:ext cx="1208520" cy="40464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2600" dir="5400000" blurRad="0" rotWithShape="0">
                  <a:srgbClr val="00669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3300"/>
                    </a:solidFill>
                    <a:latin typeface="Wingdings 3"/>
                    <a:ea typeface="Wingdings 3"/>
                  </a:rPr>
                  <a:t></a:t>
                </a:r>
                <a:r>
                  <a:rPr b="1" lang="en-US" sz="1400" spc="-1" strike="noStrike">
                    <a:solidFill>
                      <a:srgbClr val="ffcc00"/>
                    </a:solidFill>
                    <a:latin typeface="Arial Narrow"/>
                  </a:rPr>
                  <a:t> </a:t>
                </a:r>
                <a:r>
                  <a:rPr b="1" lang="en-US" sz="1600" spc="-1" strike="noStrike">
                    <a:solidFill>
                      <a:srgbClr val="ffcc00"/>
                    </a:solidFill>
                    <a:latin typeface="Arial Narrow"/>
                  </a:rPr>
                  <a:t>58%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6462720" y="4537800"/>
                <a:ext cx="1208520" cy="40464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2600" dir="5400000" blurRad="0" rotWithShape="0">
                  <a:srgbClr val="00669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3300"/>
                    </a:solidFill>
                    <a:latin typeface="Wingdings 3"/>
                    <a:ea typeface="Wingdings 3"/>
                  </a:rPr>
                  <a:t></a:t>
                </a:r>
                <a:r>
                  <a:rPr b="1" lang="en-US" sz="1400" spc="-1" strike="noStrike">
                    <a:solidFill>
                      <a:srgbClr val="ffcc00"/>
                    </a:solidFill>
                    <a:latin typeface="Arial Narrow"/>
                  </a:rPr>
                  <a:t> </a:t>
                </a:r>
                <a:r>
                  <a:rPr b="1" lang="en-US" sz="1600" spc="-1" strike="noStrike">
                    <a:solidFill>
                      <a:srgbClr val="ffcc00"/>
                    </a:solidFill>
                    <a:latin typeface="Arial Narrow"/>
                  </a:rPr>
                  <a:t>76%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7805880" y="4319280"/>
                <a:ext cx="1208520" cy="40464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2600" dir="5400000" blurRad="0" rotWithShape="0">
                  <a:srgbClr val="00669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3300"/>
                    </a:solidFill>
                    <a:latin typeface="Wingdings 3"/>
                    <a:ea typeface="Wingdings 3"/>
                  </a:rPr>
                  <a:t></a:t>
                </a:r>
                <a:r>
                  <a:rPr b="1" lang="en-US" sz="1400" spc="-1" strike="noStrike">
                    <a:solidFill>
                      <a:srgbClr val="ffcc00"/>
                    </a:solidFill>
                    <a:latin typeface="Arial Narrow"/>
                  </a:rPr>
                  <a:t> </a:t>
                </a:r>
                <a:r>
                  <a:rPr b="1" lang="en-US" sz="1600" spc="-1" strike="noStrike">
                    <a:solidFill>
                      <a:srgbClr val="ffcc00"/>
                    </a:solidFill>
                    <a:latin typeface="Arial Narrow"/>
                  </a:rPr>
                  <a:t>89%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34400" y="6108480"/>
                <a:ext cx="82400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ctr" pos="463680"/>
                    <a:tab algn="ctr" pos="1547640"/>
                    <a:tab algn="ctr" pos="2631960"/>
                    <a:tab algn="ctr" pos="3651120"/>
                    <a:tab algn="ctr" pos="4749840"/>
                    <a:tab algn="ctr" pos="583416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 Narrow"/>
                  </a:rPr>
                  <a:t>	</a:t>
                </a:r>
                <a:r>
                  <a:rPr b="1" lang="en-US" sz="1400" spc="-1" strike="noStrike">
                    <a:solidFill>
                      <a:srgbClr val="ffcc00"/>
                    </a:solidFill>
                    <a:latin typeface="Arial Narrow"/>
                  </a:rPr>
                  <a:t>1991-93</a:t>
                </a:r>
                <a:r>
                  <a:rPr b="1" lang="en-US" sz="1400" spc="-1" strike="noStrike">
                    <a:solidFill>
                      <a:srgbClr val="ffcc00"/>
                    </a:solidFill>
                    <a:latin typeface="Arial Narrow"/>
                  </a:rPr>
                  <a:t>	</a:t>
                </a:r>
                <a:r>
                  <a:rPr b="1" lang="en-US" sz="1400" spc="-1" strike="noStrike">
                    <a:solidFill>
                      <a:srgbClr val="ffcc00"/>
                    </a:solidFill>
                    <a:latin typeface="Arial Narrow"/>
                  </a:rPr>
                  <a:t>1993-95</a:t>
                </a:r>
                <a:r>
                  <a:rPr b="1" lang="en-US" sz="1400" spc="-1" strike="noStrike">
                    <a:solidFill>
                      <a:srgbClr val="ffcc00"/>
                    </a:solidFill>
                    <a:latin typeface="Arial Narrow"/>
                  </a:rPr>
                  <a:t>	</a:t>
                </a:r>
                <a:r>
                  <a:rPr b="1" lang="en-US" sz="1400" spc="-1" strike="noStrike">
                    <a:solidFill>
                      <a:srgbClr val="ffcc00"/>
                    </a:solidFill>
                    <a:latin typeface="Arial Narrow"/>
                  </a:rPr>
                  <a:t>1995-97</a:t>
                </a:r>
                <a:r>
                  <a:rPr b="1" lang="en-US" sz="1400" spc="-1" strike="noStrike">
                    <a:solidFill>
                      <a:srgbClr val="ffcc00"/>
                    </a:solidFill>
                    <a:latin typeface="Arial Narrow"/>
                  </a:rPr>
                  <a:t>	</a:t>
                </a:r>
                <a:r>
                  <a:rPr b="1" lang="en-US" sz="1400" spc="-1" strike="noStrike">
                    <a:solidFill>
                      <a:srgbClr val="ffcc00"/>
                    </a:solidFill>
                    <a:latin typeface="Arial Narrow"/>
                  </a:rPr>
                  <a:t>1997-99</a:t>
                </a:r>
                <a:r>
                  <a:rPr b="1" lang="en-US" sz="1400" spc="-1" strike="noStrike">
                    <a:solidFill>
                      <a:srgbClr val="ffcc00"/>
                    </a:solidFill>
                    <a:latin typeface="Arial Narrow"/>
                  </a:rPr>
                  <a:t>	</a:t>
                </a:r>
                <a:r>
                  <a:rPr b="1" lang="en-US" sz="1400" spc="-1" strike="noStrike">
                    <a:solidFill>
                      <a:srgbClr val="ffcc00"/>
                    </a:solidFill>
                    <a:latin typeface="Arial Narrow"/>
                  </a:rPr>
                  <a:t>1999-01</a:t>
                </a:r>
                <a:r>
                  <a:rPr b="1" lang="en-US" sz="1400" spc="-1" strike="noStrike">
                    <a:solidFill>
                      <a:srgbClr val="ffcc00"/>
                    </a:solidFill>
                    <a:latin typeface="Arial Narrow"/>
                  </a:rPr>
                  <a:t>	</a:t>
                </a:r>
                <a:r>
                  <a:rPr b="1" lang="en-US" sz="1400" spc="-1" strike="noStrike">
                    <a:solidFill>
                      <a:srgbClr val="ffcc00"/>
                    </a:solidFill>
                    <a:latin typeface="Arial Narrow"/>
                  </a:rPr>
                  <a:t>2001-03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28760" y="4450680"/>
                <a:ext cx="1008720" cy="505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7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 Narrow"/>
                  </a:rPr>
                  <a:t>Health Care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3560400" y="3834000"/>
                <a:ext cx="1008720" cy="505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7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 Narrow"/>
                  </a:rPr>
                  <a:t>Health Care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919760" y="3145680"/>
                <a:ext cx="1009440" cy="505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7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 Narrow"/>
                  </a:rPr>
                  <a:t>Health Care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6281280" y="1980720"/>
                <a:ext cx="1009440" cy="505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7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 Narrow"/>
                  </a:rPr>
                  <a:t>Health Care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7635240" y="1208880"/>
                <a:ext cx="1008720" cy="505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7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 Narrow"/>
                  </a:rPr>
                  <a:t>Health Care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163160" y="5815440"/>
                <a:ext cx="9745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6699"/>
                    </a:solidFill>
                    <a:latin typeface="Arial Narrow"/>
                  </a:rPr>
                  <a:t>The Rest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p:transition>
    <p:random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500"/>
                            </p:stCondLst>
                            <p:childTnLst>
                              <p:par>
                                <p:cTn id="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"/>
          <p:cNvGrpSpPr/>
          <p:nvPr/>
        </p:nvGrpSpPr>
        <p:grpSpPr>
          <a:xfrm>
            <a:off x="846000" y="3182760"/>
            <a:ext cx="2673360" cy="3071880"/>
            <a:chOff x="846000" y="3182760"/>
            <a:chExt cx="2673360" cy="3071880"/>
          </a:xfrm>
        </p:grpSpPr>
        <p:sp>
          <p:nvSpPr>
            <p:cNvPr id="127" name=""/>
            <p:cNvSpPr/>
            <p:nvPr/>
          </p:nvSpPr>
          <p:spPr>
            <a:xfrm>
              <a:off x="2120760" y="3182760"/>
              <a:ext cx="246240" cy="307188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8" name=""/>
            <p:cNvGrpSpPr/>
            <p:nvPr/>
          </p:nvGrpSpPr>
          <p:grpSpPr>
            <a:xfrm>
              <a:off x="846000" y="3635280"/>
              <a:ext cx="2673360" cy="2616120"/>
              <a:chOff x="846000" y="3635280"/>
              <a:chExt cx="2673360" cy="2616120"/>
            </a:xfrm>
          </p:grpSpPr>
          <p:graphicFrame>
            <p:nvGraphicFramePr>
              <p:cNvPr id="129" name=""/>
              <p:cNvGraphicFramePr/>
              <p:nvPr/>
            </p:nvGraphicFramePr>
            <p:xfrm>
              <a:off x="846000" y="3635280"/>
              <a:ext cx="2673360" cy="2616120"/>
            </p:xfrm>
            <a:graphic>
              <a:graphicData uri="http://schemas.openxmlformats.org/presentationml/2006/ole">
                <p:oleObj r:id="rId2" spid="">
                  <p:embed/>
                  <p:pic>
                    <p:nvPicPr>
                      <p:cNvPr id="130" name="" descr=""/>
                      <p:cNvPicPr/>
                      <p:nvPr/>
                    </p:nvPicPr>
                    <p:blipFill>
                      <a:blip r:embed="rId3"/>
                      <a:stretch/>
                    </p:blipFill>
                    <p:spPr>
                      <a:xfrm>
                        <a:off x="846000" y="3635280"/>
                        <a:ext cx="2673360" cy="26161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31" name=""/>
              <p:cNvSpPr/>
              <p:nvPr/>
            </p:nvSpPr>
            <p:spPr>
              <a:xfrm>
                <a:off x="2217600" y="4010040"/>
                <a:ext cx="962280" cy="870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 Narrow"/>
                  </a:rPr>
                  <a:t>Agency Medical 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 Narrow"/>
                  </a:rPr>
                  <a:t>23%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1060560" y="5025960"/>
                <a:ext cx="1028520" cy="948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 Narrow"/>
                  </a:rPr>
                  <a:t>All Other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000000"/>
                    </a:solidFill>
                    <a:latin typeface="Arial Narrow"/>
                  </a:rPr>
                  <a:t>77%</a:t>
                </a:r>
                <a:endParaRPr b="0" lang="en-US" sz="2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3" name=""/>
          <p:cNvSpPr/>
          <p:nvPr/>
        </p:nvSpPr>
        <p:spPr>
          <a:xfrm>
            <a:off x="-76320" y="2575080"/>
            <a:ext cx="38102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ctr" pos="343080"/>
                <a:tab algn="ctr" pos="1085760"/>
                <a:tab algn="ctr" pos="1771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 Narrow"/>
              </a:rPr>
              <a:t>DSHS Budget 1987-8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ctr" pos="343080"/>
                <a:tab algn="ctr" pos="1085760"/>
                <a:tab algn="ctr" pos="1771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 Narrow"/>
              </a:rPr>
              <a:t>$4.5 Bill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30556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7d295"/>
                </a:solidFill>
                <a:latin typeface="Arial"/>
              </a:rPr>
              <a:t>Medical – “Pac Man” of DSHS?</a:t>
            </a:r>
            <a:endParaRPr b="0" lang="en-US" sz="4200" spc="-1" strike="noStrike">
              <a:solidFill>
                <a:srgbClr val="f7d295"/>
              </a:solidFill>
              <a:latin typeface="Arial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4124160" y="2025720"/>
            <a:ext cx="4368960" cy="4263840"/>
            <a:chOff x="4124160" y="2025720"/>
            <a:chExt cx="4368960" cy="4263840"/>
          </a:xfrm>
        </p:grpSpPr>
        <p:graphicFrame>
          <p:nvGraphicFramePr>
            <p:cNvPr id="136" name=""/>
            <p:cNvGraphicFramePr/>
            <p:nvPr/>
          </p:nvGraphicFramePr>
          <p:xfrm>
            <a:off x="4124160" y="2025720"/>
            <a:ext cx="4368960" cy="426384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37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4124160" y="2025720"/>
                      <a:ext cx="4368960" cy="4263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8" name=""/>
            <p:cNvSpPr/>
            <p:nvPr/>
          </p:nvSpPr>
          <p:spPr>
            <a:xfrm>
              <a:off x="6791400" y="3570120"/>
              <a:ext cx="1168200" cy="110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</a:rPr>
                <a:t>Agency Medical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 Narrow"/>
                </a:rPr>
                <a:t>41%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738680" y="3803760"/>
              <a:ext cx="1181160" cy="110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</a:rPr>
                <a:t>All Other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 Narrow"/>
                </a:rPr>
                <a:t>59%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4648320" y="1066680"/>
            <a:ext cx="3722400" cy="1069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ctr" pos="343080"/>
                <a:tab algn="ctr" pos="1085760"/>
                <a:tab algn="ctr" pos="1771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 Narrow"/>
              </a:rPr>
              <a:t>2001-03 Bienniu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ctr" pos="343080"/>
                <a:tab algn="ctr" pos="1085760"/>
                <a:tab algn="ctr" pos="1771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 Narrow"/>
              </a:rPr>
              <a:t>$14.1 Billion</a:t>
            </a:r>
            <a:r>
              <a:rPr b="0" lang="en-US" sz="2800" spc="-1" strike="noStrike">
                <a:solidFill>
                  <a:srgbClr val="ffcc00"/>
                </a:solidFill>
                <a:latin typeface="Arial Narrow"/>
              </a:rPr>
              <a:t>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000"/>
                            </p:stCondLst>
                            <p:childTnLst>
                              <p:par>
                                <p:cTn id="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500"/>
                            </p:stCondLst>
                            <p:childTnLst>
                              <p:par>
                                <p:cTn id="4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2000"/>
                            </p:stCondLst>
                            <p:childTnLst>
                              <p:par>
                                <p:cTn id="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763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d295"/>
                </a:solidFill>
                <a:latin typeface="Arial"/>
              </a:rPr>
              <a:t>Nationally, most coverage is employer-based,</a:t>
            </a:r>
            <a:endParaRPr b="0" lang="en-US" sz="3200" spc="-1" strike="noStrike">
              <a:solidFill>
                <a:srgbClr val="f7d295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2895480" y="1082520"/>
          <a:ext cx="8686800" cy="5448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895480" y="1082520"/>
                    <a:ext cx="8686800" cy="544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0" y="6013440"/>
            <a:ext cx="9144000" cy="84456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7d295"/>
                </a:solidFill>
                <a:latin typeface="Arial"/>
              </a:rPr>
              <a:t>Combined Medical Assistance and Basic Health Enrollment for Children and Adults as % of Population</a:t>
            </a:r>
            <a:endParaRPr b="0" lang="en-US" sz="2400" spc="-1" strike="noStrike">
              <a:solidFill>
                <a:srgbClr val="f7d295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0" y="838080"/>
          <a:ext cx="9144000" cy="5294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838080"/>
                    <a:ext cx="9144000" cy="529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" name=""/>
          <p:cNvSpPr/>
          <p:nvPr/>
        </p:nvSpPr>
        <p:spPr>
          <a:xfrm>
            <a:off x="228600" y="152280"/>
            <a:ext cx="87631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295"/>
                </a:solidFill>
                <a:latin typeface="Arial"/>
              </a:rPr>
              <a:t>But, public coverage is gaining  steadily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09T08:06:14Z</dcterms:created>
  <dc:creator>David Hanig</dc:creator>
  <dc:description/>
  <dc:language>en-US</dc:language>
  <cp:lastModifiedBy>HANIGDA</cp:lastModifiedBy>
  <dcterms:modified xsi:type="dcterms:W3CDTF">2003-02-18T23:02:42Z</dcterms:modified>
  <cp:revision>14</cp:revision>
  <dc:subject/>
  <dc:title>Healthcare in Americ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89652199</vt:r8>
  </property>
  <property fmtid="{D5CDD505-2E9C-101B-9397-08002B2CF9AE}" pid="3" name="_AuthorEmail">
    <vt:lpwstr>hanigda@attbi.com</vt:lpwstr>
  </property>
  <property fmtid="{D5CDD505-2E9C-101B-9397-08002B2CF9AE}" pid="4" name="_AuthorEmailDisplayName">
    <vt:lpwstr>D Hanig</vt:lpwstr>
  </property>
  <property fmtid="{D5CDD505-2E9C-101B-9397-08002B2CF9AE}" pid="5" name="_EmailSubject">
    <vt:lpwstr>Healthcare in America.ppt</vt:lpwstr>
  </property>
</Properties>
</file>