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E7A-C070-40E4-9FF3-10812DDB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293-4038-48AC-89ED-0D30177B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780-877D-4D33-B6F2-7F9BE60B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629-B363-4C28-B60B-52956F78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599-A206-4510-BC92-51166780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B5E-B740-46DD-930B-86024C04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090-1721-44DA-9A23-47C25ED0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073-813E-4205-B51A-E9E0C66B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DF0-6BB9-4DB4-BD6B-92DA1895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3CB-7305-413F-8D56-1F02BE0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F84-C596-42C2-A31D-32EC18DA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112-B333-4F36-97DA-54FB610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B90B-9D56-4C2B-88DC-8820DD8E2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iap.tuwien.ac.at/www/surface/STM_Gallery/stm_schematic.html" TargetMode="External"/><Relationship Id="rId3" Type="http://schemas.openxmlformats.org/officeDocument/2006/relationships/hyperlink" Target="http://www.iap.tuwien.ac.at/www/surface/STM_Gallery/stm_schematic.html" TargetMode="External"/><Relationship Id="rId4" Type="http://schemas.openxmlformats.org/officeDocument/2006/relationships/hyperlink" Target="http://www.iap.tuwien.ac.at/www/surface/STM_Gallery/stm_schematic.html" TargetMode="External"/><Relationship Id="rId5" Type="http://schemas.openxmlformats.org/officeDocument/2006/relationships/hyperlink" Target="http://www.iap.tuwien.ac.at/www/surface/STM_Gallery/stm_schematic.html" TargetMode="External"/><Relationship Id="rId6" Type="http://schemas.openxmlformats.org/officeDocument/2006/relationships/hyperlink" Target="http://www.iap.tuwien.ac.at/www/surface/STM_Gallery/stm_schematic.html" TargetMode="External"/><Relationship Id="rId7" Type="http://schemas.openxmlformats.org/officeDocument/2006/relationships/hyperlink" Target="http://www.iap.tuwien.ac.at/www/surface/STM_Gallery/stm_schematic.html" TargetMode="External"/><Relationship Id="rId8" Type="http://schemas.openxmlformats.org/officeDocument/2006/relationships/hyperlink" Target="http://www.iap.tuwien.ac.at/www/surface/STM_Gallery/stm_schematic.html" TargetMode="External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cryst.bbk.ac.uk/BBS/whatis/cryst_an.html" TargetMode="External"/><Relationship Id="rId3" Type="http://schemas.openxmlformats.org/officeDocument/2006/relationships/hyperlink" Target="http://www.cryst.bbk.ac.uk/BBS/whatis/cryst_an.html" TargetMode="External"/><Relationship Id="rId4" Type="http://schemas.openxmlformats.org/officeDocument/2006/relationships/hyperlink" Target="http://www.cryst.bbk.ac.uk/BBS/whatis/cryst_an.html" TargetMode="External"/><Relationship Id="rId5" Type="http://schemas.openxmlformats.org/officeDocument/2006/relationships/hyperlink" Target="http://www.cryst.bbk.ac.uk/BBS/whatis/cryst_an.html" TargetMode="External"/><Relationship Id="rId6" Type="http://schemas.openxmlformats.org/officeDocument/2006/relationships/hyperlink" Target="http://www.cryst.bbk.ac.uk/BBS/whatis/cryst_an.html" TargetMode="External"/><Relationship Id="rId7" Type="http://schemas.openxmlformats.org/officeDocument/2006/relationships/hyperlink" Target="http://www.cryst.bbk.ac.uk/BBS/whatis/cryst_an.html" TargetMode="External"/><Relationship Id="rId8" Type="http://schemas.openxmlformats.org/officeDocument/2006/relationships/hyperlink" Target="http://www.cryst.bbk.ac.uk/BBS/whatis/cryst_an.html" TargetMode="External"/><Relationship Id="rId9" Type="http://schemas.openxmlformats.org/officeDocument/2006/relationships/hyperlink" Target="http://www.cryst.bbk.ac.uk/BBS/whatis/cryst_an.html" TargetMode="External"/><Relationship Id="rId10" Type="http://schemas.openxmlformats.org/officeDocument/2006/relationships/hyperlink" Target="http://www.cryst.bbk.ac.uk/BBS/whatis/cryst_an.html" TargetMode="External"/><Relationship Id="rId11" Type="http://schemas.openxmlformats.org/officeDocument/2006/relationships/hyperlink" Target="http://www.cryst.bbk.ac.uk/BBS/whatis/cryst_an.html" TargetMode="External"/><Relationship Id="rId12" Type="http://schemas.openxmlformats.org/officeDocument/2006/relationships/hyperlink" Target="http://www.cryst.bbk.ac.uk/BBS/whatis/cryst_an.html" TargetMode="External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0560" y="380880"/>
            <a:ext cx="6627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Mas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w of Conservation of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w of Constant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w of Multiple Pro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Structure of th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ucleus (protons and neutr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lectrons (agents of chemical chang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Periodic Table and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Experiments regarding structure of th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02_1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867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2_14" descr=""/>
          <p:cNvPicPr/>
          <p:nvPr/>
        </p:nvPicPr>
        <p:blipFill>
          <a:blip r:embed="rId1"/>
          <a:stretch/>
        </p:blipFill>
        <p:spPr>
          <a:xfrm>
            <a:off x="838080" y="382680"/>
            <a:ext cx="7467840" cy="59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2_15" descr=""/>
          <p:cNvPicPr/>
          <p:nvPr/>
        </p:nvPicPr>
        <p:blipFill>
          <a:blip r:embed="rId1"/>
          <a:stretch/>
        </p:blipFill>
        <p:spPr>
          <a:xfrm>
            <a:off x="1143000" y="57240"/>
            <a:ext cx="6858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2_16" descr=""/>
          <p:cNvPicPr/>
          <p:nvPr/>
        </p:nvPicPr>
        <p:blipFill>
          <a:blip r:embed="rId1"/>
          <a:stretch/>
        </p:blipFill>
        <p:spPr>
          <a:xfrm>
            <a:off x="158760" y="812880"/>
            <a:ext cx="8826480" cy="5664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575720" y="152280"/>
            <a:ext cx="61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ormation of a Covalent Bond betwe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Two H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76520" y="457200"/>
            <a:ext cx="640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etals With Several Oxidation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9280" y="1447920"/>
            <a:ext cx="1124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80920" y="145404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Ion Fo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30240" y="145404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Systematic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3000" y="145404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mmo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58000" y="1911240"/>
            <a:ext cx="2505960" cy="749160"/>
            <a:chOff x="558000" y="1911240"/>
            <a:chExt cx="2505960" cy="749160"/>
          </a:xfrm>
        </p:grpSpPr>
        <p:sp>
          <p:nvSpPr>
            <p:cNvPr id="170" name=""/>
            <p:cNvSpPr/>
            <p:nvPr/>
          </p:nvSpPr>
          <p:spPr>
            <a:xfrm>
              <a:off x="558000" y="191124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Co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7480" y="191124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u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w Cen MT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33600" y="229212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u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w Cen MT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131000" y="1911240"/>
            <a:ext cx="1301040" cy="749160"/>
            <a:chOff x="4131000" y="1911240"/>
            <a:chExt cx="1301040" cy="749160"/>
          </a:xfrm>
        </p:grpSpPr>
        <p:sp>
          <p:nvSpPr>
            <p:cNvPr id="174" name=""/>
            <p:cNvSpPr/>
            <p:nvPr/>
          </p:nvSpPr>
          <p:spPr>
            <a:xfrm>
              <a:off x="4171320" y="1911240"/>
              <a:ext cx="121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opper</a:t>
              </a:r>
              <a:r>
                <a:rPr b="1" lang="en-US" sz="1800" spc="-1" strike="noStrike">
                  <a:solidFill>
                    <a:srgbClr val="500093"/>
                  </a:solidFill>
                  <a:latin typeface="Tw Cen MT"/>
                </a:rPr>
                <a:t>(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31000" y="229212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opper</a:t>
              </a:r>
              <a:r>
                <a:rPr b="1" lang="en-US" sz="1800" spc="-1" strike="noStrike">
                  <a:solidFill>
                    <a:srgbClr val="500093"/>
                  </a:solidFill>
                  <a:latin typeface="Tw Cen MT"/>
                </a:rPr>
                <a:t>(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823440" y="1924200"/>
            <a:ext cx="1104120" cy="736200"/>
            <a:chOff x="6823440" y="1924200"/>
            <a:chExt cx="1104120" cy="736200"/>
          </a:xfrm>
        </p:grpSpPr>
        <p:sp>
          <p:nvSpPr>
            <p:cNvPr id="177" name=""/>
            <p:cNvSpPr/>
            <p:nvPr/>
          </p:nvSpPr>
          <p:spPr>
            <a:xfrm>
              <a:off x="6823440" y="1924200"/>
              <a:ext cx="110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upr</a:t>
              </a:r>
              <a:r>
                <a:rPr b="1" lang="en-US" sz="1800" spc="-1" strike="noStrike">
                  <a:solidFill>
                    <a:srgbClr val="187534"/>
                  </a:solidFill>
                  <a:latin typeface="Tw Cen MT"/>
                </a:rPr>
                <a:t>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7920" y="229212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upr</a:t>
              </a:r>
              <a:r>
                <a:rPr b="1" lang="en-US" sz="1800" spc="-1" strike="noStrike">
                  <a:solidFill>
                    <a:srgbClr val="187534"/>
                  </a:solidFill>
                  <a:latin typeface="Tw Cen MT"/>
                </a:rPr>
                <a:t>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72760" y="2673360"/>
            <a:ext cx="2486520" cy="749160"/>
            <a:chOff x="572760" y="2673360"/>
            <a:chExt cx="2486520" cy="749160"/>
          </a:xfrm>
        </p:grpSpPr>
        <p:sp>
          <p:nvSpPr>
            <p:cNvPr id="180" name=""/>
            <p:cNvSpPr/>
            <p:nvPr/>
          </p:nvSpPr>
          <p:spPr>
            <a:xfrm>
              <a:off x="572760" y="282564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Coba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8280" y="2673360"/>
              <a:ext cx="62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o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w Cen MT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3054240"/>
              <a:ext cx="62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o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w Cen MT"/>
                </a:rPr>
                <a:t>+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158360" y="2673360"/>
            <a:ext cx="1372320" cy="749160"/>
            <a:chOff x="4158360" y="2673360"/>
            <a:chExt cx="1372320" cy="749160"/>
          </a:xfrm>
        </p:grpSpPr>
        <p:sp>
          <p:nvSpPr>
            <p:cNvPr id="184" name=""/>
            <p:cNvSpPr/>
            <p:nvPr/>
          </p:nvSpPr>
          <p:spPr>
            <a:xfrm>
              <a:off x="4235760" y="267336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obalt</a:t>
              </a:r>
              <a:r>
                <a:rPr b="1" lang="en-US" sz="1800" spc="-1" strike="noStrike">
                  <a:solidFill>
                    <a:srgbClr val="500093"/>
                  </a:solidFill>
                  <a:latin typeface="Tw Cen MT"/>
                </a:rPr>
                <a:t>(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58360" y="305424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obalt </a:t>
              </a:r>
              <a:r>
                <a:rPr b="1" lang="en-US" sz="1800" spc="-1" strike="noStrike">
                  <a:solidFill>
                    <a:srgbClr val="500093"/>
                  </a:solidFill>
                  <a:latin typeface="Tw Cen MT"/>
                </a:rPr>
                <a:t>(I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27200" y="3435480"/>
            <a:ext cx="7187040" cy="749520"/>
            <a:chOff x="727200" y="3435480"/>
            <a:chExt cx="7187040" cy="749520"/>
          </a:xfrm>
        </p:grpSpPr>
        <p:sp>
          <p:nvSpPr>
            <p:cNvPr id="187" name=""/>
            <p:cNvSpPr/>
            <p:nvPr/>
          </p:nvSpPr>
          <p:spPr>
            <a:xfrm>
              <a:off x="6895440" y="343548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ferr</a:t>
              </a:r>
              <a:r>
                <a:rPr b="1" lang="en-US" sz="1800" spc="-1" strike="noStrike">
                  <a:solidFill>
                    <a:srgbClr val="187534"/>
                  </a:solidFill>
                  <a:latin typeface="Tw Cen MT"/>
                </a:rPr>
                <a:t>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27200" y="3435480"/>
              <a:ext cx="4619160" cy="749520"/>
              <a:chOff x="727200" y="3435480"/>
              <a:chExt cx="4619160" cy="749520"/>
            </a:xfrm>
          </p:grpSpPr>
          <p:sp>
            <p:nvSpPr>
              <p:cNvPr id="189" name=""/>
              <p:cNvSpPr/>
              <p:nvPr/>
            </p:nvSpPr>
            <p:spPr>
              <a:xfrm>
                <a:off x="727200" y="3740400"/>
                <a:ext cx="63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w Cen MT"/>
                  </a:rPr>
                  <a:t>Ir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47280" y="3435480"/>
                <a:ext cx="59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w Cen MT"/>
                  </a:rPr>
                  <a:t>Fe</a:t>
                </a:r>
                <a:r>
                  <a:rPr b="1" lang="en-US" sz="1800" spc="-1" strike="noStrike" baseline="30000">
                    <a:solidFill>
                      <a:srgbClr val="3333cc"/>
                    </a:solidFill>
                    <a:latin typeface="Tw Cen MT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338000" y="3435480"/>
                <a:ext cx="97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w Cen MT"/>
                  </a:rPr>
                  <a:t>iron</a:t>
                </a:r>
                <a:r>
                  <a:rPr b="1" lang="en-US" sz="1800" spc="-1" strike="noStrike">
                    <a:solidFill>
                      <a:srgbClr val="500093"/>
                    </a:solidFill>
                    <a:latin typeface="Tw Cen MT"/>
                  </a:rPr>
                  <a:t>(I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34680" y="3816720"/>
                <a:ext cx="59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w Cen MT"/>
                  </a:rPr>
                  <a:t>Fe</a:t>
                </a:r>
                <a:r>
                  <a:rPr b="1" lang="en-US" sz="1800" spc="-1" strike="noStrike" baseline="30000">
                    <a:solidFill>
                      <a:srgbClr val="3333cc"/>
                    </a:solidFill>
                    <a:latin typeface="Tw Cen MT"/>
                  </a:rPr>
                  <a:t>+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278960" y="3816720"/>
                <a:ext cx="106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w Cen MT"/>
                  </a:rPr>
                  <a:t>iron</a:t>
                </a:r>
                <a:r>
                  <a:rPr b="1" lang="en-US" sz="1800" spc="-1" strike="noStrike">
                    <a:solidFill>
                      <a:srgbClr val="500093"/>
                    </a:solidFill>
                    <a:latin typeface="Tw Cen MT"/>
                  </a:rPr>
                  <a:t>(II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7016400" y="3816720"/>
              <a:ext cx="79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ferr</a:t>
              </a:r>
              <a:r>
                <a:rPr b="1" lang="en-US" sz="1800" spc="-1" strike="noStrike">
                  <a:solidFill>
                    <a:srgbClr val="187534"/>
                  </a:solidFill>
                  <a:latin typeface="Tw Cen MT"/>
                </a:rPr>
                <a:t>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83680" y="4197240"/>
            <a:ext cx="5447880" cy="749160"/>
            <a:chOff x="283680" y="4197240"/>
            <a:chExt cx="5447880" cy="749160"/>
          </a:xfrm>
        </p:grpSpPr>
        <p:sp>
          <p:nvSpPr>
            <p:cNvPr id="196" name=""/>
            <p:cNvSpPr/>
            <p:nvPr/>
          </p:nvSpPr>
          <p:spPr>
            <a:xfrm>
              <a:off x="283680" y="4425840"/>
              <a:ext cx="143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Mangan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23160" y="419724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Mn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w Cen MT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43360" y="4197240"/>
              <a:ext cx="184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manganese</a:t>
              </a:r>
              <a:r>
                <a:rPr b="1" lang="en-US" sz="1800" spc="-1" strike="noStrike">
                  <a:solidFill>
                    <a:srgbClr val="500093"/>
                  </a:solidFill>
                  <a:latin typeface="Tw Cen MT"/>
                </a:rPr>
                <a:t>(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3160" y="457812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Mn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w Cen MT"/>
                </a:rPr>
                <a:t>+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96920" y="4578120"/>
              <a:ext cx="193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manganese</a:t>
              </a:r>
              <a:r>
                <a:rPr b="1" lang="en-US" sz="1800" spc="-1" strike="noStrike">
                  <a:solidFill>
                    <a:srgbClr val="500093"/>
                  </a:solidFill>
                  <a:latin typeface="Tw Cen MT"/>
                </a:rPr>
                <a:t>(I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01720" y="4959360"/>
            <a:ext cx="4468320" cy="749160"/>
            <a:chOff x="801720" y="4959360"/>
            <a:chExt cx="4468320" cy="749160"/>
          </a:xfrm>
        </p:grpSpPr>
        <p:sp>
          <p:nvSpPr>
            <p:cNvPr id="202" name=""/>
            <p:cNvSpPr/>
            <p:nvPr/>
          </p:nvSpPr>
          <p:spPr>
            <a:xfrm>
              <a:off x="801720" y="518796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T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31800" y="4959360"/>
              <a:ext cx="61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Sn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w Cen MT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07840" y="495936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tin</a:t>
              </a:r>
              <a:r>
                <a:rPr b="1" lang="en-US" sz="1800" spc="-1" strike="noStrike">
                  <a:solidFill>
                    <a:srgbClr val="500093"/>
                  </a:solidFill>
                  <a:latin typeface="Tw Cen MT"/>
                </a:rPr>
                <a:t>(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31800" y="5340240"/>
              <a:ext cx="61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Sn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w Cen MT"/>
                </a:rPr>
                <a:t>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76160" y="534024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tin</a:t>
              </a:r>
              <a:r>
                <a:rPr b="1" lang="en-US" sz="1800" spc="-1" strike="noStrike">
                  <a:solidFill>
                    <a:srgbClr val="500093"/>
                  </a:solidFill>
                  <a:latin typeface="Tw Cen MT"/>
                </a:rPr>
                <a:t>(I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757200" y="4959360"/>
            <a:ext cx="1241280" cy="749160"/>
            <a:chOff x="6757200" y="4959360"/>
            <a:chExt cx="1241280" cy="749160"/>
          </a:xfrm>
        </p:grpSpPr>
        <p:sp>
          <p:nvSpPr>
            <p:cNvPr id="208" name=""/>
            <p:cNvSpPr/>
            <p:nvPr/>
          </p:nvSpPr>
          <p:spPr>
            <a:xfrm>
              <a:off x="6757200" y="495936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stann</a:t>
              </a:r>
              <a:r>
                <a:rPr b="1" lang="en-US" sz="1800" spc="-1" strike="noStrike">
                  <a:solidFill>
                    <a:srgbClr val="187534"/>
                  </a:solidFill>
                  <a:latin typeface="Tw Cen MT"/>
                </a:rPr>
                <a:t>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49720" y="5340240"/>
              <a:ext cx="102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stann</a:t>
              </a:r>
              <a:r>
                <a:rPr b="1" lang="en-US" sz="1800" spc="-1" strike="noStrike">
                  <a:solidFill>
                    <a:srgbClr val="187534"/>
                  </a:solidFill>
                  <a:latin typeface="Tw Cen MT"/>
                </a:rPr>
                <a:t>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7200" y="1828800"/>
            <a:ext cx="784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52480" y="228600"/>
            <a:ext cx="525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Some Common Polyatomic 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685800"/>
            <a:ext cx="114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Fo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1680" y="1143000"/>
            <a:ext cx="113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w Cen MT"/>
              </a:rPr>
              <a:t>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8000" y="1552680"/>
            <a:ext cx="692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4280" y="2133720"/>
            <a:ext cx="2261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e30"/>
                </a:solidFill>
                <a:latin typeface="Tw Cen MT"/>
              </a:rPr>
              <a:t>Common An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2590920"/>
            <a:ext cx="12193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O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1640" y="1479600"/>
            <a:ext cx="68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685800"/>
            <a:ext cx="121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Fo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3280" y="151776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mmon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22520" y="14796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ydron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9840" y="714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92360" y="714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066680"/>
            <a:ext cx="33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066680"/>
            <a:ext cx="33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9440" y="305748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14440" y="259380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ce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9760" y="305424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yan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6920" y="3511440"/>
            <a:ext cx="2726640" cy="459720"/>
            <a:chOff x="826920" y="3511440"/>
            <a:chExt cx="2726640" cy="459720"/>
          </a:xfrm>
        </p:grpSpPr>
        <p:sp>
          <p:nvSpPr>
            <p:cNvPr id="229" name=""/>
            <p:cNvSpPr/>
            <p:nvPr/>
          </p:nvSpPr>
          <p:spPr>
            <a:xfrm>
              <a:off x="826920" y="35114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O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w Cen MT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90680" y="351144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hydrox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838080" y="3956040"/>
            <a:ext cx="2513880" cy="497880"/>
            <a:chOff x="838080" y="3956040"/>
            <a:chExt cx="2513880" cy="497880"/>
          </a:xfrm>
        </p:grpSpPr>
        <p:sp>
          <p:nvSpPr>
            <p:cNvPr id="232" name=""/>
            <p:cNvSpPr/>
            <p:nvPr/>
          </p:nvSpPr>
          <p:spPr>
            <a:xfrm>
              <a:off x="838080" y="3962520"/>
              <a:ext cx="7621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Cl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w Cen MT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87440" y="3956040"/>
              <a:ext cx="106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chlo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838080" y="4483080"/>
            <a:ext cx="2289240" cy="491400"/>
            <a:chOff x="838080" y="4483080"/>
            <a:chExt cx="2289240" cy="491400"/>
          </a:xfrm>
        </p:grpSpPr>
        <p:sp>
          <p:nvSpPr>
            <p:cNvPr id="235" name=""/>
            <p:cNvSpPr/>
            <p:nvPr/>
          </p:nvSpPr>
          <p:spPr>
            <a:xfrm>
              <a:off x="838080" y="4483080"/>
              <a:ext cx="7621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N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2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w Cen MT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97520" y="448956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nit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838080" y="4952880"/>
            <a:ext cx="2360880" cy="491400"/>
            <a:chOff x="838080" y="4952880"/>
            <a:chExt cx="2360880" cy="491400"/>
          </a:xfrm>
        </p:grpSpPr>
        <p:sp>
          <p:nvSpPr>
            <p:cNvPr id="238" name=""/>
            <p:cNvSpPr/>
            <p:nvPr/>
          </p:nvSpPr>
          <p:spPr>
            <a:xfrm>
              <a:off x="838080" y="4952880"/>
              <a:ext cx="7621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N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w Cen MT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00400" y="49593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nit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05680" y="5477040"/>
            <a:ext cx="3196080" cy="486360"/>
            <a:chOff x="805680" y="5477040"/>
            <a:chExt cx="3196080" cy="486360"/>
          </a:xfrm>
        </p:grpSpPr>
        <p:sp>
          <p:nvSpPr>
            <p:cNvPr id="241" name=""/>
            <p:cNvSpPr/>
            <p:nvPr/>
          </p:nvSpPr>
          <p:spPr>
            <a:xfrm>
              <a:off x="805680" y="5477040"/>
              <a:ext cx="84924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Mn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4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w Cen MT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64320" y="5492880"/>
              <a:ext cx="183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permangan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495680" y="2654280"/>
            <a:ext cx="2870640" cy="491400"/>
            <a:chOff x="4495680" y="2654280"/>
            <a:chExt cx="2870640" cy="491400"/>
          </a:xfrm>
        </p:grpSpPr>
        <p:sp>
          <p:nvSpPr>
            <p:cNvPr id="244" name=""/>
            <p:cNvSpPr/>
            <p:nvPr/>
          </p:nvSpPr>
          <p:spPr>
            <a:xfrm>
              <a:off x="4495680" y="2654280"/>
              <a:ext cx="9907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C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w Cen MT"/>
                </a:rPr>
                <a:t>-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w Cen M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3000" y="266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carbon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495680" y="3111480"/>
            <a:ext cx="2793960" cy="491400"/>
            <a:chOff x="4495680" y="3111480"/>
            <a:chExt cx="2793960" cy="491400"/>
          </a:xfrm>
        </p:grpSpPr>
        <p:sp>
          <p:nvSpPr>
            <p:cNvPr id="247" name=""/>
            <p:cNvSpPr/>
            <p:nvPr/>
          </p:nvSpPr>
          <p:spPr>
            <a:xfrm>
              <a:off x="4495680" y="3111480"/>
              <a:ext cx="9907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Cr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4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w Cen MT"/>
                </a:rPr>
                <a:t>-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w Cen M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71040" y="311796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chrom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495680" y="3568680"/>
            <a:ext cx="2981880" cy="491400"/>
            <a:chOff x="4495680" y="3568680"/>
            <a:chExt cx="2981880" cy="491400"/>
          </a:xfrm>
        </p:grpSpPr>
        <p:sp>
          <p:nvSpPr>
            <p:cNvPr id="250" name=""/>
            <p:cNvSpPr/>
            <p:nvPr/>
          </p:nvSpPr>
          <p:spPr>
            <a:xfrm>
              <a:off x="4495680" y="3568680"/>
              <a:ext cx="10670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C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7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w Cen MT"/>
                </a:rPr>
                <a:t>-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w Cen M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9520" y="3575160"/>
              <a:ext cx="141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dichrom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503240" y="4032360"/>
            <a:ext cx="2405160" cy="492840"/>
            <a:chOff x="4503240" y="4032360"/>
            <a:chExt cx="2405160" cy="492840"/>
          </a:xfrm>
        </p:grpSpPr>
        <p:sp>
          <p:nvSpPr>
            <p:cNvPr id="253" name=""/>
            <p:cNvSpPr/>
            <p:nvPr/>
          </p:nvSpPr>
          <p:spPr>
            <a:xfrm>
              <a:off x="4503240" y="4033800"/>
              <a:ext cx="5832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2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w Cen MT"/>
                </a:rPr>
                <a:t>-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w Cen M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39440" y="403236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ox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497840" y="4489560"/>
            <a:ext cx="2524320" cy="491400"/>
            <a:chOff x="4497840" y="4489560"/>
            <a:chExt cx="2524320" cy="491400"/>
          </a:xfrm>
        </p:grpSpPr>
        <p:sp>
          <p:nvSpPr>
            <p:cNvPr id="256" name=""/>
            <p:cNvSpPr/>
            <p:nvPr/>
          </p:nvSpPr>
          <p:spPr>
            <a:xfrm>
              <a:off x="4497840" y="4489560"/>
              <a:ext cx="7081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S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4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w Cen MT"/>
                </a:rPr>
                <a:t>-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w Cen M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11360" y="4502160"/>
              <a:ext cx="91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sulf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491000" y="4948200"/>
            <a:ext cx="2911320" cy="491400"/>
            <a:chOff x="4491000" y="4948200"/>
            <a:chExt cx="2911320" cy="491400"/>
          </a:xfrm>
        </p:grpSpPr>
        <p:sp>
          <p:nvSpPr>
            <p:cNvPr id="259" name=""/>
            <p:cNvSpPr/>
            <p:nvPr/>
          </p:nvSpPr>
          <p:spPr>
            <a:xfrm>
              <a:off x="4491000" y="4948200"/>
              <a:ext cx="72216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P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4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w Cen MT"/>
                </a:rPr>
                <a:t>-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w Cen MT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69600" y="495936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phosph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3520" y="304920"/>
            <a:ext cx="264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w Cen MT"/>
              </a:rPr>
              <a:t>Naming  oxoan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689040"/>
            <a:ext cx="121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refi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-457560" y="1946520"/>
            <a:ext cx="207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No. of O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08320" y="129528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39840" y="1295280"/>
            <a:ext cx="609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76600" y="1295280"/>
            <a:ext cx="59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76600" y="1828800"/>
            <a:ext cx="59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17640" y="2438280"/>
            <a:ext cx="519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17640" y="2971800"/>
            <a:ext cx="519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55600" y="2971800"/>
            <a:ext cx="83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hy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08320" y="182880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08320" y="243828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08320" y="297180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35600" y="69372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99320" y="693720"/>
            <a:ext cx="12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Suffi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19360" y="69372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1295280"/>
            <a:ext cx="83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l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1828800"/>
            <a:ext cx="90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l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2438280"/>
            <a:ext cx="90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l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80920" y="2981160"/>
            <a:ext cx="6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l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09000" y="13032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erchl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53280" y="18367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57960" y="244620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hl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12240" y="297972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hypochl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914400" y="9144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3657600"/>
            <a:ext cx="8077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w Cen MT"/>
              </a:rPr>
              <a:t>Numerical Prefixes for Hydrates and Binary Covalent Comp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78280" y="4422600"/>
            <a:ext cx="2332080" cy="403920"/>
            <a:chOff x="278280" y="4422600"/>
            <a:chExt cx="2332080" cy="403920"/>
          </a:xfrm>
        </p:grpSpPr>
        <p:sp>
          <p:nvSpPr>
            <p:cNvPr id="288" name=""/>
            <p:cNvSpPr/>
            <p:nvPr/>
          </p:nvSpPr>
          <p:spPr>
            <a:xfrm>
              <a:off x="278280" y="4422600"/>
              <a:ext cx="1234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12800" y="442764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Pref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50080" y="4422600"/>
            <a:ext cx="2332080" cy="403920"/>
            <a:chOff x="3250080" y="4422600"/>
            <a:chExt cx="2332080" cy="403920"/>
          </a:xfrm>
        </p:grpSpPr>
        <p:sp>
          <p:nvSpPr>
            <p:cNvPr id="291" name=""/>
            <p:cNvSpPr/>
            <p:nvPr/>
          </p:nvSpPr>
          <p:spPr>
            <a:xfrm>
              <a:off x="3250080" y="4422600"/>
              <a:ext cx="1234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84600" y="442764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Pref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298200" y="4422600"/>
            <a:ext cx="2331720" cy="403920"/>
            <a:chOff x="6298200" y="4422600"/>
            <a:chExt cx="2331720" cy="403920"/>
          </a:xfrm>
        </p:grpSpPr>
        <p:sp>
          <p:nvSpPr>
            <p:cNvPr id="294" name=""/>
            <p:cNvSpPr/>
            <p:nvPr/>
          </p:nvSpPr>
          <p:spPr>
            <a:xfrm>
              <a:off x="6298200" y="4422600"/>
              <a:ext cx="1234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32360" y="442764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Pref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58160" y="4884840"/>
            <a:ext cx="1845720" cy="398880"/>
            <a:chOff x="758160" y="4884840"/>
            <a:chExt cx="1845720" cy="398880"/>
          </a:xfrm>
        </p:grpSpPr>
        <p:sp>
          <p:nvSpPr>
            <p:cNvPr id="297" name=""/>
            <p:cNvSpPr/>
            <p:nvPr/>
          </p:nvSpPr>
          <p:spPr>
            <a:xfrm>
              <a:off x="758160" y="4884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91640" y="4884840"/>
              <a:ext cx="91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mo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58160" y="5342040"/>
            <a:ext cx="1397520" cy="398880"/>
            <a:chOff x="758160" y="5342040"/>
            <a:chExt cx="1397520" cy="398880"/>
          </a:xfrm>
        </p:grpSpPr>
        <p:sp>
          <p:nvSpPr>
            <p:cNvPr id="300" name=""/>
            <p:cNvSpPr/>
            <p:nvPr/>
          </p:nvSpPr>
          <p:spPr>
            <a:xfrm>
              <a:off x="758160" y="5342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5560" y="534204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d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8160" y="5799240"/>
            <a:ext cx="1434960" cy="398880"/>
            <a:chOff x="758160" y="5799240"/>
            <a:chExt cx="1434960" cy="398880"/>
          </a:xfrm>
        </p:grpSpPr>
        <p:sp>
          <p:nvSpPr>
            <p:cNvPr id="303" name=""/>
            <p:cNvSpPr/>
            <p:nvPr/>
          </p:nvSpPr>
          <p:spPr>
            <a:xfrm>
              <a:off x="758160" y="579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09280" y="5799240"/>
              <a:ext cx="48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t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806280" y="4884840"/>
            <a:ext cx="1730880" cy="398880"/>
            <a:chOff x="3806280" y="4884840"/>
            <a:chExt cx="1730880" cy="398880"/>
          </a:xfrm>
        </p:grpSpPr>
        <p:sp>
          <p:nvSpPr>
            <p:cNvPr id="306" name=""/>
            <p:cNvSpPr/>
            <p:nvPr/>
          </p:nvSpPr>
          <p:spPr>
            <a:xfrm>
              <a:off x="3806280" y="4884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6360" y="488484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tet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806280" y="5342040"/>
            <a:ext cx="1844640" cy="398880"/>
            <a:chOff x="3806280" y="5342040"/>
            <a:chExt cx="1844640" cy="398880"/>
          </a:xfrm>
        </p:grpSpPr>
        <p:sp>
          <p:nvSpPr>
            <p:cNvPr id="309" name=""/>
            <p:cNvSpPr/>
            <p:nvPr/>
          </p:nvSpPr>
          <p:spPr>
            <a:xfrm>
              <a:off x="3806280" y="5342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6440" y="534204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p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806280" y="5799240"/>
            <a:ext cx="1749600" cy="398880"/>
            <a:chOff x="3806280" y="5799240"/>
            <a:chExt cx="1749600" cy="398880"/>
          </a:xfrm>
        </p:grpSpPr>
        <p:sp>
          <p:nvSpPr>
            <p:cNvPr id="312" name=""/>
            <p:cNvSpPr/>
            <p:nvPr/>
          </p:nvSpPr>
          <p:spPr>
            <a:xfrm>
              <a:off x="3806280" y="579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54880" y="579924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hex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806280" y="6256440"/>
            <a:ext cx="1844640" cy="398880"/>
            <a:chOff x="3806280" y="6256440"/>
            <a:chExt cx="1844640" cy="398880"/>
          </a:xfrm>
        </p:grpSpPr>
        <p:sp>
          <p:nvSpPr>
            <p:cNvPr id="315" name=""/>
            <p:cNvSpPr/>
            <p:nvPr/>
          </p:nvSpPr>
          <p:spPr>
            <a:xfrm>
              <a:off x="3806280" y="6256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26440" y="625644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hep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847920" y="4884840"/>
            <a:ext cx="1602000" cy="398880"/>
            <a:chOff x="6847920" y="4884840"/>
            <a:chExt cx="1602000" cy="398880"/>
          </a:xfrm>
        </p:grpSpPr>
        <p:sp>
          <p:nvSpPr>
            <p:cNvPr id="318" name=""/>
            <p:cNvSpPr/>
            <p:nvPr/>
          </p:nvSpPr>
          <p:spPr>
            <a:xfrm>
              <a:off x="6847920" y="4884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17680" y="488484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o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847920" y="5342040"/>
            <a:ext cx="1699200" cy="398880"/>
            <a:chOff x="6847920" y="5342040"/>
            <a:chExt cx="1699200" cy="398880"/>
          </a:xfrm>
        </p:grpSpPr>
        <p:sp>
          <p:nvSpPr>
            <p:cNvPr id="321" name=""/>
            <p:cNvSpPr/>
            <p:nvPr/>
          </p:nvSpPr>
          <p:spPr>
            <a:xfrm>
              <a:off x="6847920" y="5342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20200" y="5342040"/>
              <a:ext cx="82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no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772320" y="5799240"/>
            <a:ext cx="1728000" cy="398880"/>
            <a:chOff x="6772320" y="5799240"/>
            <a:chExt cx="1728000" cy="398880"/>
          </a:xfrm>
        </p:grpSpPr>
        <p:sp>
          <p:nvSpPr>
            <p:cNvPr id="324" name=""/>
            <p:cNvSpPr/>
            <p:nvPr/>
          </p:nvSpPr>
          <p:spPr>
            <a:xfrm>
              <a:off x="6772320" y="57992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22360" y="579924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de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7086600" y="4038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Table 2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057400" y="30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Determining Names and Formulas of Ionic Compounds Containing Polyatomic 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33520" y="1371600"/>
            <a:ext cx="8076960" cy="642600"/>
            <a:chOff x="533520" y="1371600"/>
            <a:chExt cx="8076960" cy="642600"/>
          </a:xfrm>
        </p:grpSpPr>
        <p:sp>
          <p:nvSpPr>
            <p:cNvPr id="329" name=""/>
            <p:cNvSpPr/>
            <p:nvPr/>
          </p:nvSpPr>
          <p:spPr>
            <a:xfrm>
              <a:off x="533520" y="13716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05120" y="1371600"/>
              <a:ext cx="670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Give the systematic names or the formula or the formulas for the names of the following compound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905120" y="2133720"/>
            <a:ext cx="1676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a)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e(Cl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2133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sodium sulf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477120" y="2133720"/>
            <a:ext cx="2133360" cy="440640"/>
            <a:chOff x="6477120" y="2133720"/>
            <a:chExt cx="2133360" cy="440640"/>
          </a:xfrm>
        </p:grpSpPr>
        <p:sp>
          <p:nvSpPr>
            <p:cNvPr id="334" name=""/>
            <p:cNvSpPr/>
            <p:nvPr/>
          </p:nvSpPr>
          <p:spPr>
            <a:xfrm>
              <a:off x="6477120" y="2133720"/>
              <a:ext cx="21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(c)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 Ba(OH)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    8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72400" y="22860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057400" y="30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Determining Names and Formulas of Ionic Compounds Containing Polyatomic 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PL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3809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0200" y="26668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ote that polyatomic ions have an overall charge so when writing a formula with more than one polyatomic unit, place the ion in a set of parenthe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33520" y="1371600"/>
            <a:ext cx="8076960" cy="642600"/>
            <a:chOff x="533520" y="1371600"/>
            <a:chExt cx="8076960" cy="642600"/>
          </a:xfrm>
        </p:grpSpPr>
        <p:sp>
          <p:nvSpPr>
            <p:cNvPr id="341" name=""/>
            <p:cNvSpPr/>
            <p:nvPr/>
          </p:nvSpPr>
          <p:spPr>
            <a:xfrm>
              <a:off x="533520" y="13716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05120" y="1371600"/>
              <a:ext cx="670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Give the systematic names or the formula or the formulas for the names of the following compound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905120" y="2133720"/>
            <a:ext cx="1676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a)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e(Cl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2133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sodium sulf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3809880"/>
            <a:ext cx="67057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a)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is perchlorate;  iron must have a 2+ charge.  This is iron(II) perchlo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4495680"/>
            <a:ext cx="6934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The anion sulfite is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w Cen MT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therefore you need 2 sodiums per sulfite.  The formula is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5181480"/>
            <a:ext cx="6934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c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Hydroxide is O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and barium is a 2+ ion.  When water is included in the formula, we use the term “hydrate” and a prefix which indicates the number of waters.  So it is barium hydroxide octahyd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477120" y="2133720"/>
            <a:ext cx="2133360" cy="440640"/>
            <a:chOff x="6477120" y="2133720"/>
            <a:chExt cx="2133360" cy="440640"/>
          </a:xfrm>
        </p:grpSpPr>
        <p:sp>
          <p:nvSpPr>
            <p:cNvPr id="349" name=""/>
            <p:cNvSpPr/>
            <p:nvPr/>
          </p:nvSpPr>
          <p:spPr>
            <a:xfrm>
              <a:off x="6477120" y="2133720"/>
              <a:ext cx="21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(c)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 Ba(OH)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    8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2400" y="228600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981080" y="30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Recognizing Incorrect Names and Fromulas of Ionic Comp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33520" y="1371600"/>
            <a:ext cx="8076960" cy="642600"/>
            <a:chOff x="533520" y="1371600"/>
            <a:chExt cx="8076960" cy="642600"/>
          </a:xfrm>
        </p:grpSpPr>
        <p:sp>
          <p:nvSpPr>
            <p:cNvPr id="353" name=""/>
            <p:cNvSpPr/>
            <p:nvPr/>
          </p:nvSpPr>
          <p:spPr>
            <a:xfrm>
              <a:off x="533520" y="13716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5120" y="1371600"/>
              <a:ext cx="670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Something is wrong with the second part of each statement.  Provide the correct name or formul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828800" y="21337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Ba(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is called barium diace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8800" y="2514600"/>
            <a:ext cx="509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Sodium sulfide has the formula (Na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2895480"/>
            <a:ext cx="509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c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Iron(II) sulfate has the formula 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3276720"/>
            <a:ext cx="548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d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Cesium carbonate has the formula C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685800"/>
            <a:ext cx="7640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1689"/>
                </a:solidFill>
                <a:latin typeface="Tw Cen MT"/>
              </a:rPr>
              <a:t>Law of Conservation of Mass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total mass of substances does not change during a chemic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590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reactant 1     +       reacta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77344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47640" y="2514600"/>
            <a:ext cx="3657600" cy="1359000"/>
            <a:chOff x="647640" y="2514600"/>
            <a:chExt cx="3657600" cy="1359000"/>
          </a:xfrm>
        </p:grpSpPr>
        <p:sp>
          <p:nvSpPr>
            <p:cNvPr id="47" name=""/>
            <p:cNvSpPr/>
            <p:nvPr/>
          </p:nvSpPr>
          <p:spPr>
            <a:xfrm>
              <a:off x="647640" y="2514600"/>
              <a:ext cx="3657600" cy="838080"/>
            </a:xfrm>
            <a:prstGeom prst="downArrowCallout">
              <a:avLst>
                <a:gd name="adj1" fmla="val 109117"/>
                <a:gd name="adj2" fmla="val 109107"/>
                <a:gd name="adj3" fmla="val 16667"/>
                <a:gd name="adj4" fmla="val 66667"/>
              </a:avLst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52480" y="35053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Tw Cen MT"/>
                </a:rPr>
                <a:t>total m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886200" y="2514600"/>
            <a:ext cx="3733920" cy="1359000"/>
            <a:chOff x="3886200" y="2514600"/>
            <a:chExt cx="3733920" cy="1359000"/>
          </a:xfrm>
        </p:grpSpPr>
        <p:sp>
          <p:nvSpPr>
            <p:cNvPr id="50" name=""/>
            <p:cNvSpPr/>
            <p:nvPr/>
          </p:nvSpPr>
          <p:spPr>
            <a:xfrm>
              <a:off x="5791320" y="2514600"/>
              <a:ext cx="1828800" cy="762120"/>
            </a:xfrm>
            <a:prstGeom prst="downArrowCallout">
              <a:avLst>
                <a:gd name="adj1" fmla="val 59996"/>
                <a:gd name="adj2" fmla="val 59991"/>
                <a:gd name="adj3" fmla="val 16667"/>
                <a:gd name="adj4" fmla="val 66667"/>
              </a:avLst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43600" y="35053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Tw Cen MT"/>
                </a:rPr>
                <a:t>total m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200" y="35053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Tw Cen MT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3520" y="4152960"/>
            <a:ext cx="7511400" cy="642600"/>
            <a:chOff x="533520" y="4152960"/>
            <a:chExt cx="7511400" cy="642600"/>
          </a:xfrm>
        </p:grpSpPr>
        <p:sp>
          <p:nvSpPr>
            <p:cNvPr id="54" name=""/>
            <p:cNvSpPr/>
            <p:nvPr/>
          </p:nvSpPr>
          <p:spPr>
            <a:xfrm>
              <a:off x="533520" y="4152960"/>
              <a:ext cx="42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alcium oxide     +       carbon diox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45960" y="4159080"/>
              <a:ext cx="229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alcium carbon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89520" y="433548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33520" y="4876920"/>
            <a:ext cx="6931080" cy="440640"/>
            <a:chOff x="533520" y="4876920"/>
            <a:chExt cx="6931080" cy="440640"/>
          </a:xfrm>
        </p:grpSpPr>
        <p:sp>
          <p:nvSpPr>
            <p:cNvPr id="58" name=""/>
            <p:cNvSpPr/>
            <p:nvPr/>
          </p:nvSpPr>
          <p:spPr>
            <a:xfrm>
              <a:off x="533520" y="4876920"/>
              <a:ext cx="373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aO         +                 C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53080" y="4876920"/>
              <a:ext cx="911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CaC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w Cen MT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876920" y="5054760"/>
              <a:ext cx="1003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609480" y="5486400"/>
            <a:ext cx="38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56.08g        +           44.00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100.08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876920" y="5714640"/>
            <a:ext cx="102708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981080" y="30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Recognizing Incorrect Names and Fromulas of Ionic Comp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33520" y="1371600"/>
            <a:ext cx="8076960" cy="642600"/>
            <a:chOff x="533520" y="1371600"/>
            <a:chExt cx="8076960" cy="642600"/>
          </a:xfrm>
        </p:grpSpPr>
        <p:sp>
          <p:nvSpPr>
            <p:cNvPr id="362" name=""/>
            <p:cNvSpPr/>
            <p:nvPr/>
          </p:nvSpPr>
          <p:spPr>
            <a:xfrm>
              <a:off x="533520" y="13716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05120" y="1371600"/>
              <a:ext cx="670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Something is wrong with the second part of each statement.  Provide the correct name or formul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828800" y="21337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Ba(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is called barium diace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28800" y="2514600"/>
            <a:ext cx="509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Sodium sulfide has the formula (Na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3733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a)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arium is always a +2 ion and acetate is -1. The “di-” is unnecess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28800" y="4419720"/>
            <a:ext cx="69343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An ion of a single element does not need parentheses.  Sulfide is 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w Cen MT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, not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w Cen MT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  The correct formula is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28800" y="5105520"/>
            <a:ext cx="6934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c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Since sulfate has a 2- charge, only 1 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is needed.  The formula should be Fe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791320"/>
            <a:ext cx="69343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d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The parentheses are unnecessary.  The correct formula is C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2895480"/>
            <a:ext cx="509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c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Iron(II) sulfate has the formula F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3276720"/>
            <a:ext cx="548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(d)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Cesium carbonate has the formula C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09480" y="45720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Homework Problems:  2.9, 2.14, 2.18, [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2.121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, 2.126, 2.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(2.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02_05" descr=""/>
          <p:cNvPicPr/>
          <p:nvPr/>
        </p:nvPicPr>
        <p:blipFill>
          <a:blip r:embed="rId1"/>
          <a:stretch/>
        </p:blipFill>
        <p:spPr>
          <a:xfrm>
            <a:off x="666720" y="990720"/>
            <a:ext cx="7715160" cy="5246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762120" y="4572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Experiments to Determine the Properties of Cathode 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02_07" descr=""/>
          <p:cNvPicPr/>
          <p:nvPr/>
        </p:nvPicPr>
        <p:blipFill>
          <a:blip r:embed="rId1"/>
          <a:stretch/>
        </p:blipFill>
        <p:spPr>
          <a:xfrm>
            <a:off x="762120" y="901800"/>
            <a:ext cx="7391160" cy="51940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905120" y="0"/>
            <a:ext cx="510516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Millikan’s Oil-Drop Experi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or Measuring an Electron’s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371600" y="76320"/>
            <a:ext cx="6781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utherford’s a-Scattering Experi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nd Discovery of the Atomic 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02_08new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866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STM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314520" cy="32176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04920" y="380880"/>
            <a:ext cx="86421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M – Imaging ato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w it wo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3"/>
              </a:rPr>
              <a:t>iap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5"/>
              </a:rPr>
              <a:t>tuwien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6"/>
              </a:rPr>
              <a:t>.ac.at/www/surface/STM_Gallery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7"/>
              </a:rPr>
              <a:t>st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8"/>
              </a:rPr>
              <a:t>_schemati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DNA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37040" y="582480"/>
            <a:ext cx="7784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X-ray diffraction – ‘seeing’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w it wo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3"/>
              </a:rPr>
              <a:t>crys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5"/>
              </a:rPr>
              <a:t>bbk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6"/>
              </a:rPr>
              <a:t>.ac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7"/>
              </a:rPr>
              <a:t>uk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8"/>
              </a:rPr>
              <a:t>/BBS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9"/>
              </a:rPr>
              <a:t>whatis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11"/>
              </a:rPr>
              <a:t>crys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12"/>
              </a:rPr>
              <a:t>_a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79120" y="5486400"/>
            <a:ext cx="45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NA – obtained by Rosalind Frank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B02_01" descr=""/>
          <p:cNvPicPr/>
          <p:nvPr/>
        </p:nvPicPr>
        <p:blipFill>
          <a:blip r:embed="rId1"/>
          <a:stretch/>
        </p:blipFill>
        <p:spPr>
          <a:xfrm>
            <a:off x="115920" y="2133720"/>
            <a:ext cx="8570880" cy="3578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914400" y="1143000"/>
            <a:ext cx="7391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ion of a Positively Charged Neon Parti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Mass Spectro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640" y="16765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B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9880" y="404640"/>
            <a:ext cx="266796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0093"/>
                </a:solidFill>
                <a:latin typeface="Times New Roman"/>
              </a:rPr>
              <a:t>Tools of the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447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B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66880" y="12193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93"/>
                </a:solidFill>
                <a:latin typeface="Arial"/>
              </a:rPr>
              <a:t>The Mass Spectrometer and It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9880" y="404640"/>
            <a:ext cx="266796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0093"/>
                </a:solidFill>
                <a:latin typeface="Times New Roman"/>
              </a:rPr>
              <a:t>Tools of the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B02_0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4582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04920"/>
            <a:ext cx="8076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alculating the Mass of an Element in a Comp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w Cen MT"/>
              </a:rPr>
              <a:t>Ammonium N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9680" y="1905120"/>
            <a:ext cx="34322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mmonium nitrate =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120" y="1447920"/>
            <a:ext cx="69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ow much nitrogen(N) is in 455kg of ammonium nitr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304920"/>
            <a:ext cx="8076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alculating the Mass of an Element in a Comp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w Cen MT"/>
              </a:rPr>
              <a:t>Ammonium N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9680" y="1905120"/>
            <a:ext cx="34322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mmonium nitrate =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120" y="1447920"/>
            <a:ext cx="69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ow much nitrogen(N) is in 455kg of ammonium nitr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840" y="2300400"/>
            <a:ext cx="3535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w Cen MT"/>
              </a:rPr>
              <a:t>The Formula Mass of Cpd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1840" y="2681280"/>
            <a:ext cx="33530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4 x H = 4 x 1.008 =  4.032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2 x N = 2 X 14.01 = 28.02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3 x O = 3 x 16.00 =  48.0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81200" y="3672000"/>
            <a:ext cx="1596960" cy="454680"/>
            <a:chOff x="2581200" y="3672000"/>
            <a:chExt cx="1596960" cy="454680"/>
          </a:xfrm>
        </p:grpSpPr>
        <p:sp>
          <p:nvSpPr>
            <p:cNvPr id="73" name=""/>
            <p:cNvSpPr/>
            <p:nvPr/>
          </p:nvSpPr>
          <p:spPr>
            <a:xfrm>
              <a:off x="2604960" y="3672000"/>
              <a:ext cx="1573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81200" y="3672000"/>
              <a:ext cx="1557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w Cen MT"/>
                </a:rPr>
                <a:t>  </a:t>
              </a:r>
              <a:r>
                <a:rPr b="0" lang="en-US" sz="2400" spc="-1" strike="noStrike">
                  <a:solidFill>
                    <a:srgbClr val="3333cc"/>
                  </a:solidFill>
                  <a:latin typeface="Tw Cen MT"/>
                </a:rPr>
                <a:t>80.052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37000" y="2376360"/>
            <a:ext cx="343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w Cen MT"/>
              </a:rPr>
              <a:t>Therefore g nitrogen/g c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491720" y="2909880"/>
            <a:ext cx="4018680" cy="927000"/>
            <a:chOff x="4491720" y="2909880"/>
            <a:chExt cx="4018680" cy="927000"/>
          </a:xfrm>
        </p:grpSpPr>
        <p:sp>
          <p:nvSpPr>
            <p:cNvPr id="77" name=""/>
            <p:cNvSpPr/>
            <p:nvPr/>
          </p:nvSpPr>
          <p:spPr>
            <a:xfrm>
              <a:off x="4727520" y="2909880"/>
              <a:ext cx="1251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28.02g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48320" y="3366720"/>
              <a:ext cx="144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1720" y="3443040"/>
              <a:ext cx="1705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w Cen MT"/>
                </a:rPr>
                <a:t>80.052g</a:t>
              </a: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 cp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13600" y="3138120"/>
              <a:ext cx="2296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= 0.3500gN/g cp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897480" y="4281480"/>
            <a:ext cx="4761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455kg x 1000g/kg  = 455,000g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840" y="4815000"/>
            <a:ext cx="669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455,000g cpd x 0.3500g N/g cpd = 1.59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 nitro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098360" y="5272200"/>
            <a:ext cx="7306200" cy="1045080"/>
            <a:chOff x="1098360" y="5272200"/>
            <a:chExt cx="7306200" cy="1045080"/>
          </a:xfrm>
        </p:grpSpPr>
        <p:grpSp>
          <p:nvGrpSpPr>
            <p:cNvPr id="84" name=""/>
            <p:cNvGrpSpPr/>
            <p:nvPr/>
          </p:nvGrpSpPr>
          <p:grpSpPr>
            <a:xfrm>
              <a:off x="3519360" y="5272200"/>
              <a:ext cx="2438640" cy="1045080"/>
              <a:chOff x="3519360" y="5272200"/>
              <a:chExt cx="2438640" cy="1045080"/>
            </a:xfrm>
          </p:grpSpPr>
          <p:sp>
            <p:nvSpPr>
              <p:cNvPr id="85" name=""/>
              <p:cNvSpPr/>
              <p:nvPr/>
            </p:nvSpPr>
            <p:spPr>
              <a:xfrm>
                <a:off x="3519360" y="5272200"/>
                <a:ext cx="24386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w Cen MT"/>
                  </a:rPr>
                  <a:t>28.02 kg nitroge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519360" y="5805720"/>
                <a:ext cx="21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596040" y="5881680"/>
                <a:ext cx="234720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w Cen MT"/>
                  </a:rPr>
                  <a:t>80.052 kg N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w Cen MT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w Cen MT"/>
                  </a:rPr>
                  <a:t>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w Cen MT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81840" y="5577120"/>
              <a:ext cx="2322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= 159 kg Nitro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98360" y="5577120"/>
              <a:ext cx="23245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455 kg N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w Cen MT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w Cen MT"/>
                </a:rPr>
                <a:t>3 </a:t>
              </a: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w Cen MT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91120" y="5486400"/>
            <a:ext cx="52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04920"/>
            <a:ext cx="80773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1689"/>
                </a:solidFill>
                <a:latin typeface="Tw Cen MT"/>
              </a:rPr>
              <a:t>Law of Definite (or Constant) Composi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o matter what its source, a particular chemical compound is composed of the same elements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 the same parts (fractions) by m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523880"/>
            <a:ext cx="10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a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w Cen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133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40.08 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12.00 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3 x 16.00 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2133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1 atom of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1 atom of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3 atoms of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3429000"/>
            <a:ext cx="16765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100.08 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200400" y="4114800"/>
            <a:ext cx="3657600" cy="749160"/>
            <a:chOff x="3200400" y="4114800"/>
            <a:chExt cx="3657600" cy="749160"/>
          </a:xfrm>
        </p:grpSpPr>
        <p:sp>
          <p:nvSpPr>
            <p:cNvPr id="102" name=""/>
            <p:cNvSpPr/>
            <p:nvPr/>
          </p:nvSpPr>
          <p:spPr>
            <a:xfrm>
              <a:off x="3390840" y="411480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40.08 a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0400" y="44956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44956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100.08 a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0600" y="43434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= 0.401 parts 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200400" y="4876920"/>
            <a:ext cx="3505320" cy="749160"/>
            <a:chOff x="3200400" y="4876920"/>
            <a:chExt cx="3505320" cy="749160"/>
          </a:xfrm>
        </p:grpSpPr>
        <p:sp>
          <p:nvSpPr>
            <p:cNvPr id="107" name=""/>
            <p:cNvSpPr/>
            <p:nvPr/>
          </p:nvSpPr>
          <p:spPr>
            <a:xfrm>
              <a:off x="3390840" y="487692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12.00 a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0400" y="5257800"/>
              <a:ext cx="16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5257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100.08 a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00600" y="51055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= 0.120 parts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200400" y="5715000"/>
            <a:ext cx="3657600" cy="749160"/>
            <a:chOff x="3200400" y="5715000"/>
            <a:chExt cx="3657600" cy="749160"/>
          </a:xfrm>
        </p:grpSpPr>
        <p:sp>
          <p:nvSpPr>
            <p:cNvPr id="112" name=""/>
            <p:cNvSpPr/>
            <p:nvPr/>
          </p:nvSpPr>
          <p:spPr>
            <a:xfrm>
              <a:off x="3390840" y="571500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48.00 a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0400" y="6095880"/>
              <a:ext cx="16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6720" y="6095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100.08 a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600" y="59436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= 0.480 parts 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84640" y="457200"/>
            <a:ext cx="511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w Cen MT"/>
              </a:rPr>
              <a:t>Law of Multiple 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2240" y="990720"/>
            <a:ext cx="64422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f elements A and B react to form two compound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different masses of B that combine with a fix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ss of A can be expressed as a ratio of small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um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960" y="2362320"/>
            <a:ext cx="393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xample: Nitrogen Oxides I &amp;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9200" y="2819520"/>
            <a:ext cx="6887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itrogen Oxide I  : 46.68% Nitrogen and 53.32% Oxy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itrogen Oxide II : 30.45% Nitrogen and 69.55% Oxy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84640" y="457200"/>
            <a:ext cx="511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w Cen MT"/>
              </a:rPr>
              <a:t>Law of Multiple 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2240" y="990720"/>
            <a:ext cx="64422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f elements A and B react to form two compound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different masses of B that combine with a fix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ss of A can be expressed as a ratio of small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um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960" y="2362320"/>
            <a:ext cx="393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xample: Nitrogen Oxides I &amp;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9200" y="2819520"/>
            <a:ext cx="6887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itrogen Oxide I  : 46.68% Nitrogen and 53.32% Oxy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itrogen Oxide II : 30.45% Nitrogen and 69.55% Oxy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657600"/>
            <a:ext cx="781704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ssume that you have 100g of each compoun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 100 g of each compound: g O = 53.32g for oxide I &amp; 69.55g for oxid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g N = 46.68g for oxide I &amp; 30.45g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or oxid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85800" y="4761000"/>
            <a:ext cx="533520" cy="749520"/>
            <a:chOff x="685800" y="4761000"/>
            <a:chExt cx="533520" cy="749520"/>
          </a:xfrm>
        </p:grpSpPr>
        <p:sp>
          <p:nvSpPr>
            <p:cNvPr id="126" name=""/>
            <p:cNvSpPr/>
            <p:nvPr/>
          </p:nvSpPr>
          <p:spPr>
            <a:xfrm>
              <a:off x="685800" y="47610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37c03"/>
                  </a:solidFill>
                  <a:latin typeface="Tw Cen MT"/>
                </a:rPr>
                <a:t>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5142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37c03"/>
                  </a:solidFill>
                  <a:latin typeface="Tw Cen MT"/>
                </a:rPr>
                <a:t>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5142240"/>
              <a:ext cx="380880" cy="0"/>
            </a:xfrm>
            <a:prstGeom prst="line">
              <a:avLst/>
            </a:prstGeom>
            <a:ln w="2844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232280" y="4761000"/>
            <a:ext cx="1130040" cy="1023840"/>
            <a:chOff x="1232280" y="4761000"/>
            <a:chExt cx="1130040" cy="1023840"/>
          </a:xfrm>
        </p:grpSpPr>
        <p:sp>
          <p:nvSpPr>
            <p:cNvPr id="130" name=""/>
            <p:cNvSpPr/>
            <p:nvPr/>
          </p:nvSpPr>
          <p:spPr>
            <a:xfrm>
              <a:off x="1232280" y="4876920"/>
              <a:ext cx="405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600200" y="4761000"/>
              <a:ext cx="762120" cy="1023840"/>
              <a:chOff x="1600200" y="4761000"/>
              <a:chExt cx="762120" cy="1023840"/>
            </a:xfrm>
          </p:grpSpPr>
          <p:sp>
            <p:nvSpPr>
              <p:cNvPr id="132" name=""/>
              <p:cNvSpPr/>
              <p:nvPr/>
            </p:nvSpPr>
            <p:spPr>
              <a:xfrm>
                <a:off x="1600200" y="476100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37c03"/>
                    </a:solidFill>
                    <a:latin typeface="Tw Cen MT"/>
                  </a:rPr>
                  <a:t>53.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00200" y="514224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37c03"/>
                    </a:solidFill>
                    <a:latin typeface="Tw Cen MT"/>
                  </a:rPr>
                  <a:t>46.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00200" y="5142240"/>
                <a:ext cx="762120" cy="0"/>
              </a:xfrm>
              <a:prstGeom prst="line">
                <a:avLst/>
              </a:prstGeom>
              <a:ln w="19080">
                <a:solidFill>
                  <a:srgbClr val="1875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2375280" y="4876920"/>
            <a:ext cx="1130040" cy="515520"/>
            <a:chOff x="2375280" y="4876920"/>
            <a:chExt cx="1130040" cy="515520"/>
          </a:xfrm>
        </p:grpSpPr>
        <p:sp>
          <p:nvSpPr>
            <p:cNvPr id="136" name=""/>
            <p:cNvSpPr/>
            <p:nvPr/>
          </p:nvSpPr>
          <p:spPr>
            <a:xfrm>
              <a:off x="2375280" y="4876920"/>
              <a:ext cx="405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49514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37c03"/>
                  </a:solidFill>
                  <a:latin typeface="Tw Cen MT"/>
                </a:rPr>
                <a:t>1.1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029200" y="4724280"/>
            <a:ext cx="2819520" cy="1023840"/>
            <a:chOff x="5029200" y="4724280"/>
            <a:chExt cx="2819520" cy="1023840"/>
          </a:xfrm>
        </p:grpSpPr>
        <p:sp>
          <p:nvSpPr>
            <p:cNvPr id="139" name=""/>
            <p:cNvSpPr/>
            <p:nvPr/>
          </p:nvSpPr>
          <p:spPr>
            <a:xfrm>
              <a:off x="5575680" y="4840200"/>
              <a:ext cx="405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029200" y="4724280"/>
              <a:ext cx="533520" cy="749520"/>
              <a:chOff x="5029200" y="4724280"/>
              <a:chExt cx="533520" cy="749520"/>
            </a:xfrm>
          </p:grpSpPr>
          <p:sp>
            <p:nvSpPr>
              <p:cNvPr id="141" name=""/>
              <p:cNvSpPr/>
              <p:nvPr/>
            </p:nvSpPr>
            <p:spPr>
              <a:xfrm>
                <a:off x="5029200" y="47242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37c03"/>
                    </a:solidFill>
                    <a:latin typeface="Tw Cen MT"/>
                  </a:rPr>
                  <a:t>g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29200" y="51055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37c03"/>
                    </a:solidFill>
                    <a:latin typeface="Tw Cen MT"/>
                  </a:rPr>
                  <a:t>g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105520" y="5105520"/>
                <a:ext cx="380880" cy="0"/>
              </a:xfrm>
              <a:prstGeom prst="line">
                <a:avLst/>
              </a:prstGeom>
              <a:ln w="28440">
                <a:solidFill>
                  <a:srgbClr val="1875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943600" y="4724280"/>
              <a:ext cx="762120" cy="1023840"/>
              <a:chOff x="5943600" y="4724280"/>
              <a:chExt cx="762120" cy="1023840"/>
            </a:xfrm>
          </p:grpSpPr>
          <p:sp>
            <p:nvSpPr>
              <p:cNvPr id="145" name=""/>
              <p:cNvSpPr/>
              <p:nvPr/>
            </p:nvSpPr>
            <p:spPr>
              <a:xfrm>
                <a:off x="5943600" y="472428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37c03"/>
                    </a:solidFill>
                    <a:latin typeface="Tw Cen MT"/>
                  </a:rPr>
                  <a:t>69.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43600" y="510552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37c03"/>
                    </a:solidFill>
                    <a:latin typeface="Tw Cen MT"/>
                  </a:rPr>
                  <a:t>30.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943600" y="5105520"/>
                <a:ext cx="762120" cy="0"/>
              </a:xfrm>
              <a:prstGeom prst="line">
                <a:avLst/>
              </a:prstGeom>
              <a:ln w="19080">
                <a:solidFill>
                  <a:srgbClr val="1875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718680" y="4840200"/>
              <a:ext cx="405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10280" y="4915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37c03"/>
                  </a:solidFill>
                  <a:latin typeface="Tw Cen MT"/>
                </a:rPr>
                <a:t>2.28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971800" y="5410080"/>
            <a:ext cx="990720" cy="749520"/>
            <a:chOff x="2971800" y="5410080"/>
            <a:chExt cx="990720" cy="749520"/>
          </a:xfrm>
        </p:grpSpPr>
        <p:sp>
          <p:nvSpPr>
            <p:cNvPr id="151" name=""/>
            <p:cNvSpPr/>
            <p:nvPr/>
          </p:nvSpPr>
          <p:spPr>
            <a:xfrm>
              <a:off x="312408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37c03"/>
                  </a:solidFill>
                  <a:latin typeface="Tw Cen MT"/>
                </a:rPr>
                <a:t>2.28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5791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37c03"/>
                  </a:solidFill>
                  <a:latin typeface="Tw Cen MT"/>
                </a:rPr>
                <a:t>1.1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1800" y="5791320"/>
              <a:ext cx="990720" cy="0"/>
            </a:xfrm>
            <a:prstGeom prst="line">
              <a:avLst/>
            </a:prstGeom>
            <a:ln w="2844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72600" y="5486400"/>
            <a:ext cx="608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Tw Cen MT"/>
              </a:rPr>
              <a:t>=</a:t>
            </a:r>
            <a:r>
              <a:rPr b="0" lang="en-US" sz="2800" spc="-1" strike="noStrike">
                <a:solidFill>
                  <a:srgbClr val="cf0e30"/>
                </a:solidFill>
                <a:latin typeface="Tw Cen MT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85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The Atomic Basis of the Law of Multiple Pro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02_04" descr=""/>
          <p:cNvPicPr/>
          <p:nvPr/>
        </p:nvPicPr>
        <p:blipFill>
          <a:blip r:embed="rId1"/>
          <a:stretch/>
        </p:blipFill>
        <p:spPr>
          <a:xfrm>
            <a:off x="225360" y="2057400"/>
            <a:ext cx="8461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General Features of th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02_09" descr=""/>
          <p:cNvPicPr/>
          <p:nvPr/>
        </p:nvPicPr>
        <p:blipFill>
          <a:blip r:embed="rId1"/>
          <a:stretch/>
        </p:blipFill>
        <p:spPr>
          <a:xfrm>
            <a:off x="285840" y="1120680"/>
            <a:ext cx="8570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5:54:59Z</dcterms:created>
  <dc:creator>The Evergreen State College</dc:creator>
  <dc:description/>
  <dc:language>en-US</dc:language>
  <cp:lastModifiedBy>The Evergreen State College</cp:lastModifiedBy>
  <dcterms:modified xsi:type="dcterms:W3CDTF">2004-10-06T23:29:24Z</dcterms:modified>
  <cp:revision>8</cp:revision>
  <dc:subject/>
  <dc:title>PowerPoint Presentation</dc:title>
</cp:coreProperties>
</file>