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77C-D706-4E70-946E-98F8F15C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D99-2F86-4F83-A1D9-74480C78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4AD-6710-4A4C-BAA7-A9AB8368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0AD-346B-4092-9E61-218A83A1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32F-4D6E-4E95-AA76-18195037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7B0-CCA6-4F73-A0A8-EDF91DC0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191-9D87-42E5-A5E8-E3AE3902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306-0C8D-4782-94A1-13D835CB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C3D-AEDB-4DE1-9478-C7E74CF9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97A-9E3B-4F66-9FD3-978643E4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1B6-3692-4AFE-BFBF-FF40559C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432-4C18-4E23-B522-05A12547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BD54-EC59-451A-9D5B-5EF81CFBD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cademic.evergreen.edu/curricular/matterandmotion/" TargetMode="External"/><Relationship Id="rId2" Type="http://schemas.openxmlformats.org/officeDocument/2006/relationships/hyperlink" Target="http://academic.evergreen.edu/curricular/matterandmotion/" TargetMode="External"/><Relationship Id="rId3" Type="http://schemas.openxmlformats.org/officeDocument/2006/relationships/hyperlink" Target="http://academic.evergreen.edu/curricular/matterandmotion/" TargetMode="External"/><Relationship Id="rId4" Type="http://schemas.openxmlformats.org/officeDocument/2006/relationships/hyperlink" Target="http://academic.evergreen.edu/curricular/matterandmotion/" TargetMode="External"/><Relationship Id="rId5" Type="http://schemas.openxmlformats.org/officeDocument/2006/relationships/hyperlink" Target="http://academic.evergreen.edu/curricular/matterandmotion/" TargetMode="External"/><Relationship Id="rId6" Type="http://schemas.openxmlformats.org/officeDocument/2006/relationships/hyperlink" Target="http://highered.mcgraw-hill.com/sites/0072396814/student_view0/index.html" TargetMode="External"/><Relationship Id="rId7" Type="http://schemas.openxmlformats.org/officeDocument/2006/relationships/hyperlink" Target="http://highered.mcgraw-hill.com/sites/0072396814/student_view0/index.html" TargetMode="External"/><Relationship Id="rId8" Type="http://schemas.openxmlformats.org/officeDocument/2006/relationships/hyperlink" Target="http://highered.mcgraw-hill.com/sites/0072396814/student_view0/index.html" TargetMode="External"/><Relationship Id="rId9" Type="http://schemas.openxmlformats.org/officeDocument/2006/relationships/hyperlink" Target="http://highered.mcgraw-hill.com/sites/0072396814/student_view0/index.html" TargetMode="External"/><Relationship Id="rId10" Type="http://schemas.openxmlformats.org/officeDocument/2006/relationships/hyperlink" Target="http://highered.mcgraw-hill.com/sites/0072396814/student_view0/index.html" TargetMode="External"/><Relationship Id="rId11" Type="http://schemas.openxmlformats.org/officeDocument/2006/relationships/hyperlink" Target="http://www.chemskillbuilder.com/" TargetMode="External"/><Relationship Id="rId12" Type="http://schemas.openxmlformats.org/officeDocument/2006/relationships/hyperlink" Target="http://www.chemskillbuilder.com/" TargetMode="External"/><Relationship Id="rId13" Type="http://schemas.openxmlformats.org/officeDocument/2006/relationships/hyperlink" Target="http://www.chemskillbuilder.com/" TargetMode="Externa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9160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line re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gram web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1"/>
              </a:rPr>
              <a:t>http://academic.evergreen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2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3"/>
              </a:rPr>
              <a:t>/curricular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4"/>
              </a:rPr>
              <a:t>matterandmotion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w Cen MT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line learning center (O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w Cen MT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w Cen MT"/>
                <a:hlinkClick r:id="rId7"/>
              </a:rPr>
              <a:t>highered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w Cen MT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w Cen MT"/>
                <a:hlinkClick r:id="rId9"/>
              </a:rPr>
              <a:t>mcgraw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w Cen MT"/>
                <a:hlinkClick r:id="rId10"/>
              </a:rPr>
              <a:t>-hill.com/sites/0072396814/student_view0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teractive problems by chapter (Elearning se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mSkill 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w Cen MT"/>
                <a:hlinkClick r:id="rId11"/>
              </a:rPr>
              <a:t>http://www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w Cen MT"/>
                <a:hlinkClick r:id="rId12"/>
              </a:rPr>
              <a:t>chemskillbuilder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w Cen MT"/>
                <a:hlinkClick r:id="rId13"/>
              </a:rPr>
              <a:t>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asier to use algorithmically generated interactive problems with feedback, though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ot specific to Silberberg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_1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386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52120" y="304920"/>
            <a:ext cx="54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gnificant figures and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_12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867280" cy="516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22920" y="201600"/>
            <a:ext cx="30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mperature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5480" y="6095880"/>
            <a:ext cx="33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(in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) = 9/5 T (in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+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560" y="6095880"/>
            <a:ext cx="35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(in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= [ T (in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) - 32 ] 5/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82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lving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rite down pertinent information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lan how to solve the problem before ‘plugging and chugg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at are you trying to fi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at are the steps you’ll need to take? (unit conversions, equation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how reasoning, justif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lve problem as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rrec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sonable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oes it make se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1720" y="228600"/>
            <a:ext cx="779724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its give meaning (dimension) to measu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ver omi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ed standards to clearly communicate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 un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9480" y="2590920"/>
            <a:ext cx="7925040" cy="2516760"/>
            <a:chOff x="609480" y="2590920"/>
            <a:chExt cx="7925040" cy="2516760"/>
          </a:xfrm>
        </p:grpSpPr>
        <p:sp>
          <p:nvSpPr>
            <p:cNvPr id="45" name=""/>
            <p:cNvSpPr/>
            <p:nvPr/>
          </p:nvSpPr>
          <p:spPr>
            <a:xfrm>
              <a:off x="685800" y="259092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Physical Quant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86200" y="25909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Unit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00800" y="25909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Abbrev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2971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62520" y="3276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86600" y="2971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9760" y="3276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9718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il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86600" y="32767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523880" y="3581640"/>
              <a:ext cx="5981760" cy="307080"/>
              <a:chOff x="1523880" y="3581640"/>
              <a:chExt cx="5981760" cy="307080"/>
            </a:xfrm>
          </p:grpSpPr>
          <p:sp>
            <p:nvSpPr>
              <p:cNvPr id="55" name=""/>
              <p:cNvSpPr/>
              <p:nvPr/>
            </p:nvSpPr>
            <p:spPr>
              <a:xfrm>
                <a:off x="1523880" y="358164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924000" y="3581640"/>
                <a:ext cx="129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048440" y="35816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066680" y="3886200"/>
              <a:ext cx="6438960" cy="307080"/>
              <a:chOff x="1066680" y="3886200"/>
              <a:chExt cx="6438960" cy="307080"/>
            </a:xfrm>
          </p:grpSpPr>
          <p:sp>
            <p:nvSpPr>
              <p:cNvPr id="59" name=""/>
              <p:cNvSpPr/>
              <p:nvPr/>
            </p:nvSpPr>
            <p:spPr>
              <a:xfrm>
                <a:off x="1066680" y="3886200"/>
                <a:ext cx="160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mperatu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924000" y="3886200"/>
                <a:ext cx="129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kelv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48440" y="38862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838080" y="4191120"/>
              <a:ext cx="6667560" cy="307080"/>
              <a:chOff x="838080" y="4191120"/>
              <a:chExt cx="6667560" cy="307080"/>
            </a:xfrm>
          </p:grpSpPr>
          <p:sp>
            <p:nvSpPr>
              <p:cNvPr id="63" name=""/>
              <p:cNvSpPr/>
              <p:nvPr/>
            </p:nvSpPr>
            <p:spPr>
              <a:xfrm>
                <a:off x="838080" y="419112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lectric curr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24000" y="4191120"/>
                <a:ext cx="129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mpe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48440" y="41911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09480" y="4496040"/>
              <a:ext cx="7086600" cy="307080"/>
              <a:chOff x="609480" y="4496040"/>
              <a:chExt cx="7086600" cy="307080"/>
            </a:xfrm>
          </p:grpSpPr>
          <p:sp>
            <p:nvSpPr>
              <p:cNvPr id="67" name=""/>
              <p:cNvSpPr/>
              <p:nvPr/>
            </p:nvSpPr>
            <p:spPr>
              <a:xfrm>
                <a:off x="609480" y="4496040"/>
                <a:ext cx="2667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mount of subst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00320" y="4496040"/>
                <a:ext cx="129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10280" y="449604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85800" y="4800600"/>
              <a:ext cx="6858000" cy="307080"/>
              <a:chOff x="685800" y="4800600"/>
              <a:chExt cx="6858000" cy="307080"/>
            </a:xfrm>
          </p:grpSpPr>
          <p:sp>
            <p:nvSpPr>
              <p:cNvPr id="71" name=""/>
              <p:cNvSpPr/>
              <p:nvPr/>
            </p:nvSpPr>
            <p:spPr>
              <a:xfrm>
                <a:off x="685800" y="4800600"/>
                <a:ext cx="243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uminous intens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62160" y="4800600"/>
                <a:ext cx="129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ande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86600" y="48006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267840" y="5334120"/>
            <a:ext cx="89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andard pre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give info to whether a proposed equation makes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38080" y="762120"/>
          <a:ext cx="7550280" cy="51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75502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457200"/>
            <a:ext cx="73915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enote the initial position of a particle, and let x(t) denote the body’s position after it moves for a time t with a constant velocity v.  Which equation has the correct dimensions?  Does it make sense physic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x(t)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+ v +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x(t)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 +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x(t)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+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x(t)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8088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it conversio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imensio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it is a legitimate mathematical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e inch equals 2.54 centimeters (exact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 in = 2.5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th a little rearrang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2.54 cm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   1 in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 i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2.5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verting between units is simply multiplication by the unit factor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533520"/>
            <a:ext cx="725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the concentration of mercury in the water of a polluted lake is 0.3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g per liter of water, what is the total mass in kg of mercury in the lake?  The lake has a surface area of 100 square miles and an average depth of 20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080" y="304920"/>
            <a:ext cx="84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mon SI-English Equivalent Quantities (from Table 1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95280" y="838080"/>
          <a:ext cx="6553440" cy="4434120"/>
        </p:xfrm>
        <a:graphic>
          <a:graphicData uri="http://schemas.openxmlformats.org/drawingml/2006/table">
            <a:tbl>
              <a:tblPr/>
              <a:tblGrid>
                <a:gridCol w="3048120"/>
                <a:gridCol w="35053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quivalent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lb = 0.4536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oz = 28.35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yd = 0.914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ft = 0.304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in = 2.54 cm (exact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mi = 1.609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f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= 0.02832 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L = 0.001 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gallon = 3.785 d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qt = 0.9464 d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fl.oz. = 29.57 c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71520"/>
            <a:ext cx="84582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gnificant fig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reater the number of sig fi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greater 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calculated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ultiplication/division: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number with the least certainty limits the certainty of the result. Therefore,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the answer contains the same number of significant figures as there are in the measurement with the fewest significant figures.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ddition/subtraction: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number with the least certainty limits the certainty of the result. Therefore,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the answer contains the same number of significant figures as there are in the measurement with the fewest significant figures.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measured quantities, final digit is understood to be i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certainty due to fineness with which markings are calibrated/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7:17Z</dcterms:created>
  <dc:creator>The Evergreen State College</dc:creator>
  <dc:description/>
  <dc:language>en-US</dc:language>
  <cp:lastModifiedBy>The Evergreen State College</cp:lastModifiedBy>
  <dcterms:modified xsi:type="dcterms:W3CDTF">2004-10-01T00:13:46Z</dcterms:modified>
  <cp:revision>6</cp:revision>
  <dc:subject/>
  <dc:title>PowerPoint Presentation</dc:title>
</cp:coreProperties>
</file>