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4E0F1-6A8C-4105-B3F2-1242D3C3C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27" name="PlaceHolder 2"/>
          <p:cNvSpPr>
            <a:spLocks noGrp="1"/>
          </p:cNvSpPr>
          <p:nvPr>
            <p:ph/>
          </p:nvPr>
        </p:nvSpPr>
        <p:spPr>
          <a:xfrm>
            <a:off x="837720" y="13712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76800-B24E-4DF3-AEE3-063ADD880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0"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67912-749A-4102-AD9B-18BA5AC79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5" name="PlaceHolder 2"/>
          <p:cNvSpPr>
            <a:spLocks noGrp="1"/>
          </p:cNvSpPr>
          <p:nvPr>
            <p:ph/>
          </p:nvPr>
        </p:nvSpPr>
        <p:spPr>
          <a:xfrm>
            <a:off x="8377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883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3928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883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3928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1FB6C-16DF-4EE6-87BD-4D54FB8FF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4CB66-A491-491A-A923-1886719B9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47" name="PlaceHolder 2"/>
          <p:cNvSpPr>
            <a:spLocks noGrp="1"/>
          </p:cNvSpPr>
          <p:nvPr>
            <p:ph type="subTitle"/>
          </p:nvPr>
        </p:nvSpPr>
        <p:spPr>
          <a:xfrm>
            <a:off x="837720" y="1371240"/>
            <a:ext cx="7543800" cy="4724280"/>
          </a:xfrm>
          <a:prstGeom prst="rect">
            <a:avLst/>
          </a:prstGeom>
          <a:noFill/>
          <a:ln w="0">
            <a:noFill/>
          </a:ln>
        </p:spPr>
        <p:txBody>
          <a:bodyPr lIns="0" rIns="0" tIns="0" bIns="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19832-6AA7-4E6C-A8F2-B71993E0E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49"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EF45C-2EE3-4D97-97CA-65F2C73F9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51"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2AC43-D872-4AC7-BA3F-49BE679F0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E52F0-4958-469C-8119-226ED520B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7720" y="380520"/>
            <a:ext cx="7543800" cy="3534120"/>
          </a:xfrm>
          <a:prstGeom prst="rect">
            <a:avLst/>
          </a:prstGeom>
          <a:noFill/>
          <a:ln w="0">
            <a:noFill/>
          </a:ln>
        </p:spPr>
        <p:txBody>
          <a:bodyPr lIns="0" rIns="0" tIns="0" bIns="0" anchor="ctr">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15997-BAAB-42D4-ABEE-6656353C7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56"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77584-3840-446F-9B81-5342D9DC9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 name="PlaceHolder 2"/>
          <p:cNvSpPr>
            <a:spLocks noGrp="1"/>
          </p:cNvSpPr>
          <p:nvPr>
            <p:ph type="subTitle"/>
          </p:nvPr>
        </p:nvSpPr>
        <p:spPr>
          <a:xfrm>
            <a:off x="837720" y="1371240"/>
            <a:ext cx="7543800" cy="4724280"/>
          </a:xfrm>
          <a:prstGeom prst="rect">
            <a:avLst/>
          </a:prstGeom>
          <a:noFill/>
          <a:ln w="0">
            <a:noFill/>
          </a:ln>
        </p:spPr>
        <p:txBody>
          <a:bodyPr lIns="0" rIns="0" tIns="0" bIns="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10615-DFDA-41FA-84B3-733E1D999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0"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9ADE3-FABC-4B80-BE70-5965D4762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4"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F671B-BADA-4837-A693-21014C430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8" name="PlaceHolder 2"/>
          <p:cNvSpPr>
            <a:spLocks noGrp="1"/>
          </p:cNvSpPr>
          <p:nvPr>
            <p:ph/>
          </p:nvPr>
        </p:nvSpPr>
        <p:spPr>
          <a:xfrm>
            <a:off x="837720" y="13712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DDC62-6A97-4D45-AE19-1A65BF87C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71"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6CCA3F-70B6-492D-9B58-826CBB41A0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76" name="PlaceHolder 2"/>
          <p:cNvSpPr>
            <a:spLocks noGrp="1"/>
          </p:cNvSpPr>
          <p:nvPr>
            <p:ph/>
          </p:nvPr>
        </p:nvSpPr>
        <p:spPr>
          <a:xfrm>
            <a:off x="8377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883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3928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8377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883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3928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4DF7EC-7101-405B-A239-AB628940D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8"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2294A-9754-4CBC-AFF9-01A92B740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0"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9CAF0-7F51-4B4B-A4CF-3447BA2BA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5804E-7085-4041-9225-2533F2438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7720" y="380520"/>
            <a:ext cx="7543800" cy="3534120"/>
          </a:xfrm>
          <a:prstGeom prst="rect">
            <a:avLst/>
          </a:prstGeom>
          <a:noFill/>
          <a:ln w="0">
            <a:noFill/>
          </a:ln>
        </p:spPr>
        <p:txBody>
          <a:bodyPr lIns="0" rIns="0" tIns="0" bIns="0" anchor="ctr">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7BEEA-3DBE-4A69-B252-F9661B54E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5"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08014-339D-4C77-A3F7-1A404F409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9"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4818C-C592-4485-BECA-1F9A37A34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23"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D6FEC-597C-44E4-BAEA-2893FBE58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lick to edit the title text format</a:t>
            </a:r>
            <a:endParaRPr b="0" lang="en-US" sz="4200" spc="-1" strike="noStrike">
              <a:solidFill>
                <a:srgbClr val="d3bdbd"/>
              </a:solidFill>
              <a:latin typeface="Arial"/>
            </a:endParaRPr>
          </a:p>
        </p:txBody>
      </p:sp>
      <p:sp>
        <p:nvSpPr>
          <p:cNvPr id="1" name="PlaceHolder 2"/>
          <p:cNvSpPr>
            <a:spLocks noGrp="1"/>
          </p:cNvSpPr>
          <p:nvPr>
            <p:ph type="body"/>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83808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476760" y="640080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0327D-DD41-49EB-AC5D-F037420AB4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981080"/>
            <a:ext cx="655344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3bdbd"/>
                </a:solidFill>
                <a:latin typeface="Arial"/>
              </a:rPr>
              <a:t>Click to edit the title text format</a:t>
            </a:r>
            <a:endParaRPr b="0" lang="en-US" sz="4000" spc="-1" strike="noStrike">
              <a:solidFill>
                <a:srgbClr val="d3bdbd"/>
              </a:solidFill>
              <a:latin typeface="Arial"/>
            </a:endParaRPr>
          </a:p>
        </p:txBody>
      </p:sp>
      <p:sp>
        <p:nvSpPr>
          <p:cNvPr id="42" name="PlaceHolder 2"/>
          <p:cNvSpPr>
            <a:spLocks noGrp="1"/>
          </p:cNvSpPr>
          <p:nvPr>
            <p:ph type="dt" idx="4"/>
          </p:nvPr>
        </p:nvSpPr>
        <p:spPr>
          <a:xfrm>
            <a:off x="8380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50496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3B53-2E04-4B75-A403-37923DABC1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1981080"/>
            <a:ext cx="655344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3bdbd"/>
                </a:solidFill>
                <a:latin typeface="Arial"/>
              </a:rPr>
              <a:t>IT and the Government !</a:t>
            </a:r>
            <a:endParaRPr b="0" lang="en-US" sz="4000" spc="-1" strike="noStrike">
              <a:solidFill>
                <a:srgbClr val="d3bdbd"/>
              </a:solidFill>
              <a:latin typeface="Arial"/>
            </a:endParaRPr>
          </a:p>
        </p:txBody>
      </p:sp>
      <p:sp>
        <p:nvSpPr>
          <p:cNvPr id="83" name="PlaceHolder 2"/>
          <p:cNvSpPr>
            <a:spLocks noGrp="1"/>
          </p:cNvSpPr>
          <p:nvPr>
            <p:ph type="subTitle"/>
          </p:nvPr>
        </p:nvSpPr>
        <p:spPr>
          <a:xfrm>
            <a:off x="838080" y="3048120"/>
            <a:ext cx="6553440" cy="1218960"/>
          </a:xfrm>
          <a:prstGeom prst="rect">
            <a:avLst/>
          </a:prstGeom>
          <a:noFill/>
          <a:ln w="0">
            <a:noFill/>
          </a:ln>
        </p:spPr>
        <p:txBody>
          <a:bodyPr lIns="90000" rIns="90000" tIns="46800" bIns="4680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NPR</a:t>
            </a:r>
            <a:endParaRPr b="0" lang="en-US" sz="4200" spc="-1" strike="noStrike">
              <a:solidFill>
                <a:srgbClr val="d3bdbd"/>
              </a:solidFill>
              <a:latin typeface="Arial"/>
            </a:endParaRPr>
          </a:p>
        </p:txBody>
      </p:sp>
      <p:sp>
        <p:nvSpPr>
          <p:cNvPr id="101"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ional Performance Review (1993)- Leads to GPRA</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 was to lay the groundwork for “new customer and client oriented ways for agencies to engage citizens via technology”.</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nger-Cohen Act - establishes a CIO in every agency and made agencies responsible for developing an IT pl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Data Quality Act of 2000</a:t>
            </a:r>
            <a:endParaRPr b="0" lang="en-US" sz="4200" spc="-1" strike="noStrike">
              <a:solidFill>
                <a:srgbClr val="d3bdbd"/>
              </a:solidFill>
              <a:latin typeface="Arial"/>
            </a:endParaRPr>
          </a:p>
        </p:txBody>
      </p:sp>
      <p:sp>
        <p:nvSpPr>
          <p:cNvPr id="103"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s OMB to ensure the quality, objectivity and integrity of info disseminated by federal agencie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lose data used to support regulations and decision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up mode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Models (DSMs)</a:t>
            </a:r>
            <a:endParaRPr b="0" lang="en-US" sz="4200" spc="-1" strike="noStrike">
              <a:solidFill>
                <a:srgbClr val="d3bdbd"/>
              </a:solidFill>
              <a:latin typeface="Arial"/>
            </a:endParaRPr>
          </a:p>
        </p:txBody>
      </p:sp>
      <p:sp>
        <p:nvSpPr>
          <p:cNvPr id="105"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mputer program.</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model is a likeness that captures some aspect of the theory modeled”</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p - a space organizing structur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ipt - a time organizing structur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cessor evolves the mem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07"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in handou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 map is not the territory”.</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rbage in garbage ou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Quality Act “expands a new subterranean battlefield in administrative la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09"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e in which the scent of future regulation is caught by stakeholders who then battle to shape the scientific facts on which future regulation is based…</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est available science” or  science as spin.</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PCC’s black box.</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ommand and Control</a:t>
            </a:r>
            <a:endParaRPr b="0" lang="en-US" sz="4200" spc="-1" strike="noStrike">
              <a:solidFill>
                <a:srgbClr val="d3bdbd"/>
              </a:solidFill>
              <a:latin typeface="Arial"/>
            </a:endParaRPr>
          </a:p>
        </p:txBody>
      </p:sp>
      <p:sp>
        <p:nvSpPr>
          <p:cNvPr id="111"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SMs</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lympia Court</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equation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s risk calculated?</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hild Support Enforcement</a:t>
            </a:r>
            <a:endParaRPr b="0" lang="en-US" sz="4200" spc="-1" strike="noStrike">
              <a:solidFill>
                <a:srgbClr val="d3bdbd"/>
              </a:solidFill>
              <a:latin typeface="Arial"/>
            </a:endParaRPr>
          </a:p>
        </p:txBody>
      </p:sp>
      <p:sp>
        <p:nvSpPr>
          <p:cNvPr id="113"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base matching and data mining to support a policy initiativ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rnham D., </a:t>
            </a:r>
            <a:r>
              <a:rPr b="0" i="1" lang="en-US" sz="3200" spc="-1" strike="noStrike">
                <a:solidFill>
                  <a:srgbClr val="ffffff"/>
                </a:solidFill>
                <a:latin typeface="Arial"/>
              </a:rPr>
              <a:t>The Rise of the Computer Stat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74 Congress established a nationwide parent locator servic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d states to set up AFDC investigative and enforcement serv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15"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80 Calif. linked child support data base to state tax refund data base to divert refund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created direct electronic links to DMV, Employment Development Board, criminal justice data base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its second year 117,000 tax refunds were diverted (over $10 mill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17"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ast year (1982) we received 230,876 locator requests. We were able to provide information such as an address in 62% of the cases.”</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d official; States asked us for information on 200,000. We put those names on tapes and periodically submitted them to the IRS, Social Security Admin., Defense Dept.,  V.A. and the National Personnel Record Cen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19"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S has been authorized to withhold refunds. In 1982 the IRS used its computer to prevent the distribution of $168 million to 275,479 delinquent parent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t the worst consequence would probably be to develop a national caste system of unemployables.” (referring to NC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Fathers of the Info Age</a:t>
            </a:r>
            <a:endParaRPr b="0" lang="en-US" sz="4200" spc="-1" strike="noStrike">
              <a:solidFill>
                <a:srgbClr val="d3bdbd"/>
              </a:solidFill>
              <a:latin typeface="Arial"/>
            </a:endParaRPr>
          </a:p>
        </p:txBody>
      </p:sp>
      <p:sp>
        <p:nvSpPr>
          <p:cNvPr id="85"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never Bush</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 an analogue computer</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g science begins with WWII</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ar, proximity fuses, Manhattan project</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aircraft programs, ENIAC</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RPA </a:t>
            </a:r>
            <a:endParaRPr b="0" lang="en-US" sz="2800" spc="-1" strike="noStrike">
              <a:solidFill>
                <a:srgbClr val="ffffff"/>
              </a:solidFill>
              <a:latin typeface="Arial"/>
            </a:endParaRPr>
          </a:p>
          <a:p>
            <a:pPr lvl="2" marL="1143000" indent="-228600">
              <a:lnSpc>
                <a:spcPct val="9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G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His Name was Tom/Tyrone</a:t>
            </a:r>
            <a:endParaRPr b="0" lang="en-US" sz="4200" spc="-1" strike="noStrike">
              <a:solidFill>
                <a:srgbClr val="d3bdbd"/>
              </a:solidFill>
              <a:latin typeface="Arial"/>
            </a:endParaRPr>
          </a:p>
        </p:txBody>
      </p:sp>
      <p:sp>
        <p:nvSpPr>
          <p:cNvPr id="121"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ial processing of claims and false positive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vs. Private processing of claim.</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ial processing.</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cks; 70% out of wedlock births, lower income</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s; 30% out of wedlock, higher income</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His Name was Tom/Tyrone?</a:t>
            </a:r>
            <a:endParaRPr b="0" lang="en-US" sz="4200" spc="-1" strike="noStrike">
              <a:solidFill>
                <a:srgbClr val="d3bdbd"/>
              </a:solidFill>
              <a:latin typeface="Arial"/>
            </a:endParaRPr>
          </a:p>
        </p:txBody>
      </p:sp>
      <p:sp>
        <p:nvSpPr>
          <p:cNvPr id="123"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se positive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ability based upon a probability of a match. A 60% probability threshold?</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s the frequency distribution?</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due process. Burden is on defendant to disprove finding.</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s of licens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redemp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Architecture is Destiny</a:t>
            </a:r>
            <a:endParaRPr b="0" lang="en-US" sz="4200" spc="-1" strike="noStrike">
              <a:solidFill>
                <a:srgbClr val="d3bdbd"/>
              </a:solidFill>
              <a:latin typeface="Arial"/>
            </a:endParaRPr>
          </a:p>
        </p:txBody>
      </p:sp>
      <p:sp>
        <p:nvSpPr>
          <p:cNvPr id="125"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mbedded rules in software applications subtly but clearly identify the aspects of tasks that are discretionary”.</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nformation-based organizations thus codify knowledge and inculcate habits in a somewhat different but much more powerful manner than traditional bureaucrac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27"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ithin computer programs and operating systems, the choices made by designers standardize work processes by limiting, or preprocessing, the options and choices of users, and by forcing users to follow decision trees and paths by using the menus and formats provid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29"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ing the info architecture means managing the org. because the architectures control the decision premises of all the members.</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definition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standardization</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31"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large police depts. now use GIS to display crime by district.</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investigations and staff assignment.</a:t>
            </a:r>
            <a:endParaRPr b="0" lang="en-US" sz="28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bases linked to map based coordinates.</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ctor or raster architecture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d survey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mon surve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urveillance - 1993</a:t>
            </a:r>
            <a:endParaRPr b="0" lang="en-US" sz="4200" spc="-1" strike="noStrike">
              <a:solidFill>
                <a:srgbClr val="d3bdbd"/>
              </a:solidFill>
              <a:latin typeface="Arial"/>
            </a:endParaRPr>
          </a:p>
        </p:txBody>
      </p:sp>
      <p:sp>
        <p:nvSpPr>
          <p:cNvPr id="133"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lipper chip - a response to PGP.</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state of the art microcircuit” developed by the govt. to “help protect proprietary info.” while preserving the ability of the govt. to intercept phone conversations of criminals.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key escrow system will be established to ensure the chip is used to protect the privacy of law abiding Americ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35"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nivore and Son of Carnivore - Janet Reno’s idea that leads to TIA and NSA intercept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ket sniffing is a technique of monitoring every packet that crosses a network. A piece of software or hardware that monitors all network traff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37"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nivore is part of the Dragonware suite. Includes Packeteer and Cool Miner.</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nivore is a software based tool used to examine all IP packets on an Ethernet and records those packets  that meet specific paramet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39"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lminer and Packeteer are postprocessing program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keteer reconstructs packets into message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lminer analyzes the packet data that Packeteer assembles and develops statistical summaries. Then it can display pen register or full con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87"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bert Weiner -definer of terms</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is made up of matter, energy and information.</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ybernetics - the study of messages as a means of controlling information and society.</a:t>
            </a: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society can only be understood through a study of the messages and communication facilities that belong to i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41"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 register - user name and headers. (addressing info)</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nivore can be set for specific text strings. For example a setting could be made to detect all packets from a specific address that contains the text string “FB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  </a:t>
            </a:r>
            <a:r>
              <a:rPr b="0" lang="en-US" sz="4200" spc="-1" strike="noStrike">
                <a:solidFill>
                  <a:srgbClr val="d3bdbd"/>
                </a:solidFill>
                <a:latin typeface="Arial"/>
              </a:rPr>
              <a:t>Surveillance - Now</a:t>
            </a:r>
            <a:endParaRPr b="0" lang="en-US" sz="4200" spc="-1" strike="noStrike">
              <a:solidFill>
                <a:srgbClr val="d3bdbd"/>
              </a:solidFill>
              <a:latin typeface="Arial"/>
            </a:endParaRPr>
          </a:p>
        </p:txBody>
      </p:sp>
      <p:sp>
        <p:nvSpPr>
          <p:cNvPr id="143"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FIDs - The Internet of Things</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used during WWII to differentiate between friend and foe aircraft.</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ment for Barcode in inventory management. (provides more data: see handout)</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s - antilock protection</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ive, active and smart card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ichi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45"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iling functions to create a picture of a person’s private affairs or to attempt to predict future activities by aggregating a person’s movements or transactions over a period of time.</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ichip</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hoicepoint</a:t>
            </a:r>
            <a:endParaRPr b="0" lang="en-US" sz="4200" spc="-1" strike="noStrike">
              <a:solidFill>
                <a:srgbClr val="d3bdbd"/>
              </a:solidFill>
              <a:latin typeface="Arial"/>
            </a:endParaRPr>
          </a:p>
        </p:txBody>
      </p:sp>
      <p:sp>
        <p:nvSpPr>
          <p:cNvPr id="147"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cts and sells data on individuals that include the following categories: claims history, DMV records, police records, credit info and modeling, employment background screenings, drug testing records, public record searches, vital records searches,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49"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if. Identity Info. Protection Act</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e passive RFID with smart card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 security so holders can decide who can access the info.</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people info about the technology and location of reader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it illegal too read personal RFID info, w/o person’s knowledge or cons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51"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ympia wireless network - A dual use technology?</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reless video</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e matching</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oncerns/Speculations</a:t>
            </a:r>
            <a:endParaRPr b="0" lang="en-US" sz="4200" spc="-1" strike="noStrike">
              <a:solidFill>
                <a:srgbClr val="d3bdbd"/>
              </a:solidFill>
              <a:latin typeface="Arial"/>
            </a:endParaRPr>
          </a:p>
        </p:txBody>
      </p:sp>
      <p:sp>
        <p:nvSpPr>
          <p:cNvPr id="153"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 of Embedded Logic</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definitions and standards limit options that are considered.</a:t>
            </a:r>
            <a:endParaRPr b="0" lang="en-US" sz="2800" spc="-1" strike="noStrike">
              <a:solidFill>
                <a:srgbClr val="ffffff"/>
              </a:solidFill>
              <a:latin typeface="Arial"/>
            </a:endParaRPr>
          </a:p>
          <a:p>
            <a:pPr lvl="2" marL="1143000" indent="-228600">
              <a:lnSpc>
                <a:spcPct val="9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Google search algorithm.</a:t>
            </a:r>
            <a:endParaRPr b="0" lang="en-US" sz="24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IT undermine or enhance existing power?</a:t>
            </a:r>
            <a:endParaRPr b="0" lang="en-US" sz="2800" spc="-1" strike="noStrike">
              <a:solidFill>
                <a:srgbClr val="ffffff"/>
              </a:solidFill>
              <a:latin typeface="Arial"/>
            </a:endParaRPr>
          </a:p>
          <a:p>
            <a:pPr lvl="2" marL="1143000" indent="-228600">
              <a:lnSpc>
                <a:spcPct val="9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intermediation (Thomas)</a:t>
            </a:r>
            <a:endParaRPr b="0" lang="en-US" sz="2400" spc="-1" strike="noStrike">
              <a:solidFill>
                <a:srgbClr val="ffffff"/>
              </a:solidFill>
              <a:latin typeface="Arial"/>
            </a:endParaRPr>
          </a:p>
          <a:p>
            <a:pPr lvl="2" marL="1143000" indent="-228600">
              <a:lnSpc>
                <a:spcPct val="9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surveillance and control of marginalized people.</a:t>
            </a: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55"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no privacy.</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government is more transparen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89"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nformation is a name for the content of what is exchanged with the outer world as we adjust to it and make our adjustments felt upon i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essages are a form of pattern and organization.” (Noise vs. signal on a telephone lin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91"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Just as entropy as a measure of disorganization, the information carried by a set of messages is a measure of organization.”</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ontrol of a machine as the basis of its  actual performance rather than its expected performance is known as feedbac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93"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peech is  a joint game by the talker and the listener against the forces of confusion.”</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ener, N., </a:t>
            </a:r>
            <a:r>
              <a:rPr b="0" i="1" lang="en-US" sz="3200" spc="-1" strike="noStrike">
                <a:solidFill>
                  <a:srgbClr val="ffffff"/>
                </a:solidFill>
                <a:latin typeface="Arial"/>
              </a:rPr>
              <a:t>The Human Use of Human Beings, Cybernetics and Society</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g science and math concepts lay the found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Implementation of IT Tools</a:t>
            </a:r>
            <a:endParaRPr b="0" lang="en-US" sz="4200" spc="-1" strike="noStrike">
              <a:solidFill>
                <a:srgbClr val="d3bdbd"/>
              </a:solidFill>
              <a:latin typeface="Arial"/>
            </a:endParaRPr>
          </a:p>
        </p:txBody>
      </p:sp>
      <p:sp>
        <p:nvSpPr>
          <p:cNvPr id="95"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first used for back office functions</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unting, billing, payroll</a:t>
            </a:r>
            <a:endParaRPr b="0" lang="en-US" sz="28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stage</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collection and management</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querie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stical analysis (census,economic forecasting)</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base matching - linking data base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ot word in statistics is “st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Implementation</a:t>
            </a:r>
            <a:endParaRPr b="0" lang="en-US" sz="4200" spc="-1" strike="noStrike">
              <a:solidFill>
                <a:srgbClr val="d3bdbd"/>
              </a:solidFill>
              <a:latin typeface="Arial"/>
            </a:endParaRPr>
          </a:p>
        </p:txBody>
      </p:sp>
      <p:sp>
        <p:nvSpPr>
          <p:cNvPr id="97"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stage -dissemination of  information.</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Stage - interagency and citizen intera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Implementation</a:t>
            </a:r>
            <a:endParaRPr b="0" lang="en-US" sz="4200" spc="-1" strike="noStrike">
              <a:solidFill>
                <a:srgbClr val="d3bdbd"/>
              </a:solidFill>
              <a:latin typeface="Arial"/>
            </a:endParaRPr>
          </a:p>
        </p:txBody>
      </p:sp>
      <p:sp>
        <p:nvSpPr>
          <p:cNvPr id="99"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al transparency</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msfeld, Gingrich, Gore</a:t>
            </a:r>
            <a:endParaRPr b="0" lang="en-US" sz="28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IA - Rumsfeld</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mas - Gingrich</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ample of disintermediation</a:t>
            </a:r>
            <a:endParaRPr b="0" lang="en-US" sz="28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PR - Gor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0T17:27:48Z</dcterms:created>
  <dc:creator>The Evergreen State College</dc:creator>
  <dc:description/>
  <dc:language>en-US</dc:language>
  <cp:lastModifiedBy>The Evergreen State College</cp:lastModifiedBy>
  <cp:lastPrinted>2007-02-02T17:31:01Z</cp:lastPrinted>
  <dcterms:modified xsi:type="dcterms:W3CDTF">2007-02-02T17:31:10Z</dcterms:modified>
  <cp:revision>5</cp:revision>
  <dc:subject/>
  <dc:title>IT and the Information Age !</dc:title>
</cp:coreProperties>
</file>