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6615000"/>
            <a:ext cx="1116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1076760" y="3326040"/>
            <a:ext cx="6458040" cy="75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9900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905120" y="65768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2987-7D7B-4031-9BFC-BB5F337A5FA5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1200" y="5986440"/>
            <a:ext cx="1338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Arial Narrow"/>
              </a:rPr>
              <a:t>MPA Core 20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Narrow"/>
              </a:rPr>
              <a:t>Joan Ban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9240" y="6595920"/>
            <a:ext cx="1753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1360" y="6591240"/>
            <a:ext cx="188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aeaea"/>
                </a:solidFill>
                <a:latin typeface="Arial"/>
              </a:rPr>
              <a:t>The Evergreen State Colle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2192400"/>
            <a:ext cx="1754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718240"/>
            <a:ext cx="206064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159760" y="6413400"/>
            <a:ext cx="9842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360" y="1120680"/>
            <a:ext cx="186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Arial Black"/>
              </a:rPr>
              <a:t>TONIGHT’S        </a:t>
            </a:r>
            <a:r>
              <a:rPr b="0" lang="en-US" sz="1600" spc="-1" strike="noStrike">
                <a:solidFill>
                  <a:srgbClr val="66ff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Arial Black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03960"/>
            <a:ext cx="205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fffff"/>
                </a:solidFill>
                <a:latin typeface="Arial Narrow"/>
              </a:rPr>
              <a:t>Joan Bantz, Member of the Facu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fffff"/>
                </a:solidFill>
                <a:latin typeface="Arial Narrow"/>
              </a:rPr>
              <a:t>The Evergreen State 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ff"/>
                </a:solidFill>
                <a:latin typeface="Arial Narrow"/>
              </a:rPr>
              <a:t> </a:t>
            </a:r>
            <a:r>
              <a:rPr b="1" lang="en-US" sz="1100" spc="-1" strike="noStrike">
                <a:solidFill>
                  <a:srgbClr val="66ffff"/>
                </a:solidFill>
                <a:latin typeface="Arial Narrow"/>
              </a:rPr>
              <a:t>January  200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9880" y="1650960"/>
            <a:ext cx="1722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70400" y="3745080"/>
            <a:ext cx="47368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badi MT Condensed Extra Bold"/>
              </a:rPr>
              <a:t>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badi MT Condensed Extra Bold"/>
              </a:rPr>
              <a:t>“</a:t>
            </a:r>
            <a:r>
              <a:rPr b="1" lang="en-US" sz="2800" spc="-1" strike="noStrike">
                <a:solidFill>
                  <a:srgbClr val="cc9900"/>
                </a:solidFill>
                <a:latin typeface="Abadi MT Condensed Extra Bold"/>
              </a:rPr>
              <a:t>Doing Public Administr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badi MT Condensed Extra Bold"/>
              </a:rPr>
              <a:t>Winter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73400"/>
            <a:ext cx="2130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 Black"/>
              </a:rPr>
              <a:t>Collab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 Black"/>
              </a:rPr>
              <a:t>Groups and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86160" y="1228680"/>
            <a:ext cx="554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OME 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OME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OME WO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0004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840" y="4343400"/>
            <a:ext cx="6572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Everyone thinks of changing humanity and nobody thinks of changing himself.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Leo Tolst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43080"/>
            <a:ext cx="18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etting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1760" y="903240"/>
            <a:ext cx="6132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SUCCESS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28920" y="4781520"/>
            <a:ext cx="613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  <a:ea typeface="Arial"/>
              </a:rPr>
              <a:t>One well-known model of a team life cycle is forming, storming, norming, performing, and adjourn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uckman" descr=""/>
          <p:cNvPicPr/>
          <p:nvPr/>
        </p:nvPicPr>
        <p:blipFill>
          <a:blip r:embed="rId1"/>
          <a:stretch/>
        </p:blipFill>
        <p:spPr>
          <a:xfrm>
            <a:off x="2682720" y="511200"/>
            <a:ext cx="5864400" cy="5406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00880" y="64152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Tuck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3800" y="1784520"/>
            <a:ext cx="596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Times New Roman"/>
              </a:rPr>
              <a:t>Reviewing your team’s performance is an important part of any team project and is particularly valuable if you are going to work again as a te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33440" y="465120"/>
            <a:ext cx="665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Thinking about how you Work as a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93800" y="1784520"/>
            <a:ext cx="59659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Arial"/>
              </a:rPr>
              <a:t>Finally, teams should take time to celebrate when the project e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Arial"/>
              </a:rPr>
              <a:t>Recognition of achievement is an important part of team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33440" y="465120"/>
            <a:ext cx="66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ELEB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D04912_" descr=""/>
          <p:cNvPicPr/>
          <p:nvPr/>
        </p:nvPicPr>
        <p:blipFill>
          <a:blip r:embed="rId1"/>
          <a:stretch/>
        </p:blipFill>
        <p:spPr>
          <a:xfrm>
            <a:off x="1984320" y="990720"/>
            <a:ext cx="6991560" cy="5649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0400" y="200160"/>
            <a:ext cx="658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lutions Demand Active Participation of Diverse Persp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982_" descr=""/>
          <p:cNvPicPr/>
          <p:nvPr/>
        </p:nvPicPr>
        <p:blipFill>
          <a:blip r:embed="rId2"/>
          <a:stretch/>
        </p:blipFill>
        <p:spPr>
          <a:xfrm>
            <a:off x="3218040" y="2747880"/>
            <a:ext cx="1820520" cy="876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368360"/>
            <a:ext cx="69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GROWING COMPLEX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268200" y="367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0160" y="628560"/>
            <a:ext cx="16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00440" y="18288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OUCH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1720" y="3486240"/>
            <a:ext cx="50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What is the worse team or group experience you recall and WHY was it so b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6800" y="1400040"/>
            <a:ext cx="6937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Arial"/>
              </a:rPr>
              <a:t>A small number of people with complementary skills who are equally committed to a common purpose, goals, and working approach for which they hold themselves mutually accountable.</a:t>
            </a:r>
            <a:r>
              <a:rPr b="1" lang="en-US" sz="2400" spc="-1" strike="noStrike">
                <a:solidFill>
                  <a:srgbClr val="00cc99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Arial"/>
              </a:rPr>
              <a:t>Source: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  <a:ea typeface="Arial"/>
              </a:rPr>
              <a:t>Katzenbach and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14520" y="514440"/>
            <a:ext cx="577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71760" y="51444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What is a T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24280" y="376200"/>
            <a:ext cx="587196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Arial"/>
              </a:rPr>
              <a:t>Teams are established to solve some problem or to accomplish some task -the basis of the team's mission and Char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Guidelines for team behavior and decision-making are essent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Each team member has a role and responsibility to play. These should be clearly documented and underst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Meetings are not an interruption of work,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  <a:ea typeface="Times New Roman"/>
              </a:rPr>
              <a:t>they are the team's work.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Teams should take time out for periodic assessment towards their go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88960"/>
            <a:ext cx="212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9680"/>
            <a:ext cx="20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re is no I in teams!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0200" y="528480"/>
            <a:ext cx="57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1.  What was the best team or group experience you have enjoyed and what made it so successfu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29000" y="3629160"/>
            <a:ext cx="634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2. What type of person would </a:t>
            </a:r>
            <a:br>
              <a:rPr sz="3200"/>
            </a:b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you prefer to have as a teammate?  What set of behaviors would you rather have in a work, classroom or community team relation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5728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m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1880" y="22860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WHAT MAKE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GOOD TEAM ME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71760" y="1800360"/>
            <a:ext cx="667224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uilds confidence and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energy, clarity of goals and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facilitates open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demonstrates personal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rings out the best thinking and attitudes of everyone on the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openness, integrity, frankness without making others def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7120" y="442800"/>
            <a:ext cx="122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Adds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llaboration" descr=""/>
          <p:cNvPicPr/>
          <p:nvPr/>
        </p:nvPicPr>
        <p:blipFill>
          <a:blip r:embed="rId1"/>
          <a:stretch/>
        </p:blipFill>
        <p:spPr>
          <a:xfrm>
            <a:off x="2422440" y="374760"/>
            <a:ext cx="65613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3240" y="52848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EFFECTIVE TEAM MEMB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3240" y="2028960"/>
            <a:ext cx="2714400" cy="78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ing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43360" y="2828880"/>
            <a:ext cx="0" cy="928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43560" y="2828880"/>
            <a:ext cx="0" cy="928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4720" y="3200400"/>
            <a:ext cx="1643040" cy="628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43440" y="3186000"/>
            <a:ext cx="1985760" cy="64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86600" y="2028960"/>
            <a:ext cx="2357280" cy="72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amwork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86360" y="4229280"/>
            <a:ext cx="1414440" cy="514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000840" y="2671920"/>
            <a:ext cx="557280" cy="1585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43680" y="4871880"/>
            <a:ext cx="2057400" cy="543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29680" y="2471760"/>
            <a:ext cx="85680" cy="542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8120" y="2914560"/>
            <a:ext cx="1685880" cy="542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onal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2671920"/>
            <a:ext cx="0" cy="2214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43920" y="2786040"/>
            <a:ext cx="0" cy="14288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72200" y="4143240"/>
            <a:ext cx="1800360" cy="55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tion Ori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28880" y="1128600"/>
            <a:ext cx="5157720" cy="540072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18:54:16Z</dcterms:created>
  <dc:creator>Bantz, Joan</dc:creator>
  <dc:description/>
  <dc:language>en-US</dc:language>
  <cp:lastModifiedBy>The Evergreen State College</cp:lastModifiedBy>
  <cp:lastPrinted>2001-04-19T18:52:03Z</cp:lastPrinted>
  <dcterms:modified xsi:type="dcterms:W3CDTF">2006-10-03T21:08:52Z</dcterms:modified>
  <cp:revision>1245</cp:revision>
  <dc:subject/>
  <dc:title>Health care reform</dc:title>
</cp:coreProperties>
</file>