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F81C-097A-418E-9E3D-0F18D3AAE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7D91-8287-4352-948A-3AD5D2478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1D5E-0B75-4B9E-9858-E8DD9C218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B8B4-55EB-4FAF-804E-D0503F990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F00F-9EF9-43EC-8DCD-7001B4D16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83B1-4995-49BF-BFA7-E125A0DFE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55E5-0B7D-4DCB-8C54-F7D2D9527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AF74-E4CD-491C-9718-A2FADCE3F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BF0A-CAE7-4EC5-9591-E2C402C14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33B6-AD15-4A7B-AC73-A19800F8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B93F-33D1-42C8-B021-7F91FFBB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954D-A1D9-41BC-AD63-93430E11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14B37-D692-4425-8AE0-A03769F83F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42960" indent="-171360">
              <a:lnSpc>
                <a:spcPct val="89000"/>
              </a:lnSpc>
              <a:spcBef>
                <a:spcPts val="751"/>
              </a:spcBef>
              <a:buClr>
                <a:srgbClr val="ff00ff"/>
              </a:buClr>
              <a:buSzPct val="5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001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001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001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3429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1a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lectric Potential Energy I 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0" y="1219320"/>
            <a:ext cx="41911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311640" y="3633840"/>
            <a:ext cx="2739600" cy="2937960"/>
            <a:chOff x="3311640" y="3633840"/>
            <a:chExt cx="2739600" cy="2937960"/>
          </a:xfrm>
        </p:grpSpPr>
        <p:grpSp>
          <p:nvGrpSpPr>
            <p:cNvPr id="47" name=""/>
            <p:cNvGrpSpPr/>
            <p:nvPr/>
          </p:nvGrpSpPr>
          <p:grpSpPr>
            <a:xfrm>
              <a:off x="3311640" y="3633840"/>
              <a:ext cx="2739600" cy="2925360"/>
              <a:chOff x="3311640" y="3633840"/>
              <a:chExt cx="2739600" cy="2925360"/>
            </a:xfrm>
          </p:grpSpPr>
          <p:pic>
            <p:nvPicPr>
              <p:cNvPr id="48" name="" descr=""/>
              <p:cNvPicPr/>
              <p:nvPr/>
            </p:nvPicPr>
            <p:blipFill>
              <a:blip r:embed="rId1"/>
              <a:srcRect l="58595" t="26835" r="15521" b="25210"/>
              <a:stretch/>
            </p:blipFill>
            <p:spPr>
              <a:xfrm>
                <a:off x="3311640" y="3633840"/>
                <a:ext cx="2739600" cy="2925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9" name=""/>
              <p:cNvGrpSpPr/>
              <p:nvPr/>
            </p:nvGrpSpPr>
            <p:grpSpPr>
              <a:xfrm>
                <a:off x="3917160" y="3761280"/>
                <a:ext cx="1464480" cy="2561040"/>
                <a:chOff x="3917160" y="3761280"/>
                <a:chExt cx="1464480" cy="2561040"/>
              </a:xfrm>
            </p:grpSpPr>
            <p:sp>
              <p:nvSpPr>
                <p:cNvPr id="50" name=""/>
                <p:cNvSpPr/>
                <p:nvPr/>
              </p:nvSpPr>
              <p:spPr>
                <a:xfrm>
                  <a:off x="3917160" y="376128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3917160" y="418824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3917160" y="461520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3917160" y="589572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3917160" y="632232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3917160" y="504180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3917160" y="546876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57" name=""/>
                  <p:cNvSpPr txBox="1"/>
                  <p:nvPr/>
                </p:nvSpPr>
                <p:spPr>
                  <a:xfrm>
                    <a:off x="4283280" y="5865480"/>
                    <a:ext cx="650880" cy="548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58" name=""/>
            <p:cNvSpPr/>
            <p:nvPr/>
          </p:nvSpPr>
          <p:spPr>
            <a:xfrm>
              <a:off x="3627360" y="4460760"/>
              <a:ext cx="11714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Arial"/>
                </a:rPr>
                <a:t>electr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620520" y="5640480"/>
              <a:ext cx="9867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Arial"/>
                </a:rPr>
                <a:t>prot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3311640" y="3646440"/>
              <a:ext cx="2739600" cy="2925360"/>
              <a:chOff x="3311640" y="3646440"/>
              <a:chExt cx="2739600" cy="2925360"/>
            </a:xfrm>
          </p:grpSpPr>
          <p:grpSp>
            <p:nvGrpSpPr>
              <p:cNvPr id="61" name=""/>
              <p:cNvGrpSpPr/>
              <p:nvPr/>
            </p:nvGrpSpPr>
            <p:grpSpPr>
              <a:xfrm>
                <a:off x="3311640" y="3646440"/>
                <a:ext cx="2739600" cy="2925360"/>
                <a:chOff x="3311640" y="3646440"/>
                <a:chExt cx="2739600" cy="2925360"/>
              </a:xfrm>
            </p:grpSpPr>
            <p:pic>
              <p:nvPicPr>
                <p:cNvPr id="62" name="" descr=""/>
                <p:cNvPicPr/>
                <p:nvPr/>
              </p:nvPicPr>
              <p:blipFill>
                <a:blip r:embed="rId2"/>
                <a:srcRect l="58595" t="26835" r="15521" b="25210"/>
                <a:stretch/>
              </p:blipFill>
              <p:spPr>
                <a:xfrm>
                  <a:off x="3311640" y="3646440"/>
                  <a:ext cx="2739600" cy="2925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63" name=""/>
                <p:cNvGrpSpPr/>
                <p:nvPr/>
              </p:nvGrpSpPr>
              <p:grpSpPr>
                <a:xfrm>
                  <a:off x="3917160" y="3773880"/>
                  <a:ext cx="1464480" cy="2561040"/>
                  <a:chOff x="3917160" y="3773880"/>
                  <a:chExt cx="1464480" cy="256104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>
                    <a:off x="3917160" y="377388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3917160" y="420084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" name=""/>
                  <p:cNvSpPr/>
                  <p:nvPr/>
                </p:nvSpPr>
                <p:spPr>
                  <a:xfrm>
                    <a:off x="3917160" y="462780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3917160" y="590832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3917160" y="633492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3917160" y="505440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3917160" y="548136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mc:AlternateContent>
              <mc:Choice xmlns:a14="http://schemas.microsoft.com/office/drawing/2010/main" Requires="a14">
                <p:sp>
                  <p:nvSpPr>
                    <p:cNvPr id="71" name=""/>
                    <p:cNvSpPr txBox="1"/>
                    <p:nvPr/>
                  </p:nvSpPr>
                  <p:spPr>
                    <a:xfrm>
                      <a:off x="4283280" y="5878080"/>
                      <a:ext cx="650880" cy="5486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E</m:t>
                              </m:r>
                            </m:e>
                          </m:acc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72" name=""/>
              <p:cNvSpPr/>
              <p:nvPr/>
            </p:nvSpPr>
            <p:spPr>
              <a:xfrm>
                <a:off x="3787920" y="4349520"/>
                <a:ext cx="117144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990000"/>
                    </a:solidFill>
                    <a:latin typeface="Arial"/>
                  </a:rPr>
                  <a:t>electro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781080" y="5529240"/>
                <a:ext cx="98676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990000"/>
                    </a:solidFill>
                    <a:latin typeface="Arial"/>
                  </a:rPr>
                  <a:t>proto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4505400" y="5415120"/>
              <a:ext cx="209520" cy="196920"/>
            </a:xfrm>
            <a:prstGeom prst="ellipse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459320" y="4640400"/>
              <a:ext cx="235080" cy="196920"/>
            </a:xfrm>
            <a:prstGeom prst="ellipse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784680" y="5340240"/>
              <a:ext cx="245880" cy="257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774960" y="4662720"/>
              <a:ext cx="284400" cy="295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441680" y="52848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431960" y="44989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-360" y="704520"/>
            <a:ext cx="4419720" cy="281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prot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an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electr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re in a constant electric field created by oppositely charged plates.  You release the 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prot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from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ositiv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ide and the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electr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from the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negativ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ide.  Which feels the larger electric forc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92680" y="690480"/>
            <a:ext cx="4351320" cy="23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t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lectr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oth feel the same for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neither–there is no for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they feel the same magnitude force but in opposite direc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3524400"/>
            <a:ext cx="4896000" cy="2108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-71280" y="3624120"/>
            <a:ext cx="4971960" cy="20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Since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Q</a:t>
            </a:r>
            <a:r>
              <a:rPr b="1" i="1" lang="en-US" sz="2000" spc="-1" strike="noStrike" baseline="-25000">
                <a:solidFill>
                  <a:srgbClr val="00004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(which i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ositive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) i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loser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to point A than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Q</a:t>
            </a:r>
            <a:r>
              <a:rPr b="1" i="1" lang="en-US" sz="2000" spc="-1" strike="noStrike" baseline="-25000">
                <a:solidFill>
                  <a:srgbClr val="00004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(which is negative), and since the total potential is equal to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00004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 + V</a:t>
            </a:r>
            <a:r>
              <a:rPr b="1" i="1" lang="en-US" sz="2000" spc="-1" strike="noStrike" baseline="-25000">
                <a:solidFill>
                  <a:srgbClr val="00004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, then the total potential i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ositive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0"/>
            <a:ext cx="9144000" cy="30830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319720" y="874800"/>
            <a:ext cx="2219400" cy="54432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784840" y="961920"/>
            <a:ext cx="1601640" cy="17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&lt;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940280" y="3309840"/>
            <a:ext cx="4189320" cy="3103560"/>
            <a:chOff x="4940280" y="3309840"/>
            <a:chExt cx="4189320" cy="3103560"/>
          </a:xfrm>
        </p:grpSpPr>
        <p:pic>
          <p:nvPicPr>
            <p:cNvPr id="397" name="" descr=""/>
            <p:cNvPicPr/>
            <p:nvPr/>
          </p:nvPicPr>
          <p:blipFill>
            <a:blip r:embed="rId1"/>
            <a:srcRect l="7773" t="3874" r="5606" b="5499"/>
            <a:stretch/>
          </p:blipFill>
          <p:spPr>
            <a:xfrm>
              <a:off x="4940280" y="3309840"/>
              <a:ext cx="4189320" cy="310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>
              <a:off x="5359320" y="3978360"/>
              <a:ext cx="141480" cy="152280"/>
            </a:xfrm>
            <a:prstGeom prst="ellipse">
              <a:avLst/>
            </a:prstGeom>
            <a:solidFill>
              <a:srgbClr val="00ff00"/>
            </a:solidFill>
            <a:ln w="3816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886440" y="3995640"/>
              <a:ext cx="142920" cy="1526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148720" y="3581280"/>
              <a:ext cx="400320" cy="423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61440" y="3597120"/>
              <a:ext cx="383400" cy="423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787320" y="1044720"/>
            <a:ext cx="3214800" cy="12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electric potential at point A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3a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lectric Potential 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0"/>
            <a:ext cx="9144000" cy="30830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84840" y="961920"/>
            <a:ext cx="1601640" cy="17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&lt;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2514600" y="3297240"/>
            <a:ext cx="4189320" cy="3103560"/>
            <a:chOff x="2514600" y="3297240"/>
            <a:chExt cx="4189320" cy="3103560"/>
          </a:xfrm>
        </p:grpSpPr>
        <p:pic>
          <p:nvPicPr>
            <p:cNvPr id="409" name="" descr=""/>
            <p:cNvPicPr/>
            <p:nvPr/>
          </p:nvPicPr>
          <p:blipFill>
            <a:blip r:embed="rId1"/>
            <a:srcRect l="7773" t="3874" r="5606" b="5499"/>
            <a:stretch/>
          </p:blipFill>
          <p:spPr>
            <a:xfrm>
              <a:off x="2514600" y="3297240"/>
              <a:ext cx="4189320" cy="310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2933640" y="3965760"/>
              <a:ext cx="141480" cy="152280"/>
            </a:xfrm>
            <a:prstGeom prst="ellipse">
              <a:avLst/>
            </a:prstGeom>
            <a:solidFill>
              <a:srgbClr val="00ff00"/>
            </a:solidFill>
            <a:ln w="3816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460760" y="3983040"/>
              <a:ext cx="142920" cy="1526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723040" y="3568680"/>
              <a:ext cx="400320" cy="423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235760" y="3584520"/>
              <a:ext cx="383400" cy="423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787320" y="1044720"/>
            <a:ext cx="3214800" cy="12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electric potential at point B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3b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lectric Potential I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20680" y="3513240"/>
            <a:ext cx="4541760" cy="179064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49400" y="3613320"/>
            <a:ext cx="4581360" cy="16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Since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Q</a:t>
            </a:r>
            <a:r>
              <a:rPr b="1" i="1" lang="en-US" sz="2000" spc="-1" strike="noStrike" baseline="-25000">
                <a:solidFill>
                  <a:srgbClr val="00004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and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Q</a:t>
            </a:r>
            <a:r>
              <a:rPr b="1" i="1" lang="en-US" sz="2000" spc="-1" strike="noStrike" baseline="-25000">
                <a:solidFill>
                  <a:srgbClr val="00004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are equidistant from point B, and since they have equal and opposite charges, then the total potential i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zero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0"/>
            <a:ext cx="9144000" cy="30830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332320" y="1338120"/>
            <a:ext cx="2219400" cy="5446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84840" y="961920"/>
            <a:ext cx="1601640" cy="17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&lt;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4940280" y="3309840"/>
            <a:ext cx="4189320" cy="3103560"/>
            <a:chOff x="4940280" y="3309840"/>
            <a:chExt cx="4189320" cy="3103560"/>
          </a:xfrm>
        </p:grpSpPr>
        <p:pic>
          <p:nvPicPr>
            <p:cNvPr id="424" name="" descr=""/>
            <p:cNvPicPr/>
            <p:nvPr/>
          </p:nvPicPr>
          <p:blipFill>
            <a:blip r:embed="rId1"/>
            <a:srcRect l="7773" t="3874" r="5606" b="5499"/>
            <a:stretch/>
          </p:blipFill>
          <p:spPr>
            <a:xfrm>
              <a:off x="4940280" y="3309840"/>
              <a:ext cx="4189320" cy="310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"/>
            <p:cNvSpPr/>
            <p:nvPr/>
          </p:nvSpPr>
          <p:spPr>
            <a:xfrm>
              <a:off x="5359320" y="3978360"/>
              <a:ext cx="141480" cy="152280"/>
            </a:xfrm>
            <a:prstGeom prst="ellipse">
              <a:avLst/>
            </a:prstGeom>
            <a:solidFill>
              <a:srgbClr val="00ff00"/>
            </a:solidFill>
            <a:ln w="3816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886440" y="3995640"/>
              <a:ext cx="142920" cy="1526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148720" y="3581280"/>
              <a:ext cx="400320" cy="423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661440" y="3597120"/>
              <a:ext cx="383400" cy="423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787320" y="1044720"/>
            <a:ext cx="3214800" cy="12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electric potential at point B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3b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lectric Potential I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26960" y="5659560"/>
            <a:ext cx="4118040" cy="703800"/>
          </a:xfrm>
          <a:prstGeom prst="rect">
            <a:avLst/>
          </a:prstGeom>
          <a:solidFill>
            <a:srgbClr val="3366ff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-up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What is the potential at the origin of th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x-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xe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0" y="0"/>
            <a:ext cx="9144000" cy="3168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0" y="816120"/>
            <a:ext cx="4006800" cy="20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 point charges are arranged at the corners of a square.   Find th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lectric field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th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otential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t the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center of the squar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551480" y="722160"/>
            <a:ext cx="4592520" cy="22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= 0  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= 0  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0  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0  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regardless of the val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2760840" y="3478320"/>
            <a:ext cx="3848040" cy="2660400"/>
            <a:chOff x="2760840" y="3478320"/>
            <a:chExt cx="3848040" cy="2660400"/>
          </a:xfrm>
        </p:grpSpPr>
        <p:sp>
          <p:nvSpPr>
            <p:cNvPr id="438" name=""/>
            <p:cNvSpPr/>
            <p:nvPr/>
          </p:nvSpPr>
          <p:spPr>
            <a:xfrm>
              <a:off x="2760840" y="3478320"/>
              <a:ext cx="3848040" cy="266040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2980800" y="3533760"/>
              <a:ext cx="3437640" cy="2383560"/>
              <a:chOff x="2980800" y="3533760"/>
              <a:chExt cx="3437640" cy="2383560"/>
            </a:xfrm>
          </p:grpSpPr>
          <p:sp>
            <p:nvSpPr>
              <p:cNvPr id="440" name=""/>
              <p:cNvSpPr/>
              <p:nvPr/>
            </p:nvSpPr>
            <p:spPr>
              <a:xfrm>
                <a:off x="3687840" y="3760560"/>
                <a:ext cx="1918800" cy="1919520"/>
              </a:xfrm>
              <a:prstGeom prst="rect">
                <a:avLst/>
              </a:prstGeom>
              <a:noFill/>
              <a:ln cap="rnd" w="324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627440" y="4684680"/>
                <a:ext cx="55080" cy="55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570120" y="3646440"/>
                <a:ext cx="237960" cy="23796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565440" y="5546520"/>
                <a:ext cx="237600" cy="23832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020040" y="5494320"/>
                <a:ext cx="5205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ffff"/>
                    </a:solidFill>
                    <a:latin typeface="Arial"/>
                  </a:rPr>
                  <a:t>-</a:t>
                </a:r>
                <a:r>
                  <a:rPr b="1" i="1" lang="en-US" sz="2400" spc="-1" strike="noStrike">
                    <a:solidFill>
                      <a:srgbClr val="00ffff"/>
                    </a:solidFill>
                    <a:latin typeface="Arial"/>
                  </a:rPr>
                  <a:t>Q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980800" y="3533760"/>
                <a:ext cx="5205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ffff"/>
                    </a:solidFill>
                    <a:latin typeface="Arial"/>
                  </a:rPr>
                  <a:t>-</a:t>
                </a:r>
                <a:r>
                  <a:rPr b="1" i="1" lang="en-US" sz="2400" spc="-1" strike="noStrike">
                    <a:solidFill>
                      <a:srgbClr val="00ffff"/>
                    </a:solidFill>
                    <a:latin typeface="Arial"/>
                  </a:rPr>
                  <a:t>Q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782320" y="3558960"/>
                <a:ext cx="5965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c0128"/>
                    </a:solidFill>
                    <a:latin typeface="Arial"/>
                  </a:rPr>
                  <a:t>+</a:t>
                </a:r>
                <a:r>
                  <a:rPr b="1" i="1" lang="en-US" sz="2400" spc="-1" strike="noStrike">
                    <a:solidFill>
                      <a:srgbClr val="fc0128"/>
                    </a:solidFill>
                    <a:latin typeface="Arial"/>
                  </a:rPr>
                  <a:t>Q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821920" y="5456160"/>
                <a:ext cx="5965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c0128"/>
                    </a:solidFill>
                    <a:latin typeface="Arial"/>
                  </a:rPr>
                  <a:t>+</a:t>
                </a:r>
                <a:r>
                  <a:rPr b="1" i="1" lang="en-US" sz="2400" spc="-1" strike="noStrike">
                    <a:solidFill>
                      <a:srgbClr val="fc0128"/>
                    </a:solidFill>
                    <a:latin typeface="Arial"/>
                  </a:rPr>
                  <a:t>Q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481720" y="3639960"/>
                <a:ext cx="237600" cy="238320"/>
              </a:xfrm>
              <a:prstGeom prst="ellipse">
                <a:avLst/>
              </a:prstGeom>
              <a:solidFill>
                <a:srgbClr val="fc012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487840" y="5551200"/>
                <a:ext cx="237960" cy="238320"/>
              </a:xfrm>
              <a:prstGeom prst="ellipse">
                <a:avLst/>
              </a:prstGeom>
              <a:solidFill>
                <a:srgbClr val="fc012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586040" y="4663800"/>
                <a:ext cx="145800" cy="146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1" name="PlaceHolder 2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4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Hollywood Square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0"/>
            <a:ext cx="9144000" cy="3168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205160" y="2050920"/>
            <a:ext cx="3048120" cy="5176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0" y="816120"/>
            <a:ext cx="4006800" cy="20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 point charges are arranged at the corners of a square.   Find th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lectric field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th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otential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t the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center of the squar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551480" y="722160"/>
            <a:ext cx="4592520" cy="22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= 0  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= 0  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0  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0  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regardless of the val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5295960" y="3490920"/>
            <a:ext cx="3848040" cy="2660400"/>
            <a:chOff x="5295960" y="3490920"/>
            <a:chExt cx="3848040" cy="2660400"/>
          </a:xfrm>
        </p:grpSpPr>
        <p:sp>
          <p:nvSpPr>
            <p:cNvPr id="459" name=""/>
            <p:cNvSpPr/>
            <p:nvPr/>
          </p:nvSpPr>
          <p:spPr>
            <a:xfrm>
              <a:off x="5295960" y="3490920"/>
              <a:ext cx="3848040" cy="266040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60" name=""/>
            <p:cNvGrpSpPr/>
            <p:nvPr/>
          </p:nvGrpSpPr>
          <p:grpSpPr>
            <a:xfrm>
              <a:off x="5515920" y="3546360"/>
              <a:ext cx="3437640" cy="2383560"/>
              <a:chOff x="5515920" y="3546360"/>
              <a:chExt cx="3437640" cy="2383560"/>
            </a:xfrm>
          </p:grpSpPr>
          <p:sp>
            <p:nvSpPr>
              <p:cNvPr id="461" name=""/>
              <p:cNvSpPr/>
              <p:nvPr/>
            </p:nvSpPr>
            <p:spPr>
              <a:xfrm>
                <a:off x="6222960" y="3773160"/>
                <a:ext cx="1918800" cy="1919520"/>
              </a:xfrm>
              <a:prstGeom prst="rect">
                <a:avLst/>
              </a:prstGeom>
              <a:noFill/>
              <a:ln cap="rnd" w="324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162560" y="4697280"/>
                <a:ext cx="55080" cy="55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105240" y="3659040"/>
                <a:ext cx="237960" cy="23796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100560" y="5559120"/>
                <a:ext cx="237600" cy="23832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555160" y="5506920"/>
                <a:ext cx="5205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ffff"/>
                    </a:solidFill>
                    <a:latin typeface="Arial"/>
                  </a:rPr>
                  <a:t>-</a:t>
                </a:r>
                <a:r>
                  <a:rPr b="1" i="1" lang="en-US" sz="2400" spc="-1" strike="noStrike">
                    <a:solidFill>
                      <a:srgbClr val="00ffff"/>
                    </a:solidFill>
                    <a:latin typeface="Arial"/>
                  </a:rPr>
                  <a:t>Q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515920" y="3546360"/>
                <a:ext cx="5205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ffff"/>
                    </a:solidFill>
                    <a:latin typeface="Arial"/>
                  </a:rPr>
                  <a:t>-</a:t>
                </a:r>
                <a:r>
                  <a:rPr b="1" i="1" lang="en-US" sz="2400" spc="-1" strike="noStrike">
                    <a:solidFill>
                      <a:srgbClr val="00ffff"/>
                    </a:solidFill>
                    <a:latin typeface="Arial"/>
                  </a:rPr>
                  <a:t>Q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8317440" y="3571560"/>
                <a:ext cx="5965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c0128"/>
                    </a:solidFill>
                    <a:latin typeface="Arial"/>
                  </a:rPr>
                  <a:t>+</a:t>
                </a:r>
                <a:r>
                  <a:rPr b="1" i="1" lang="en-US" sz="2400" spc="-1" strike="noStrike">
                    <a:solidFill>
                      <a:srgbClr val="fc0128"/>
                    </a:solidFill>
                    <a:latin typeface="Arial"/>
                  </a:rPr>
                  <a:t>Q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8357040" y="5468760"/>
                <a:ext cx="5965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c0128"/>
                    </a:solidFill>
                    <a:latin typeface="Arial"/>
                  </a:rPr>
                  <a:t>+</a:t>
                </a:r>
                <a:r>
                  <a:rPr b="1" i="1" lang="en-US" sz="2400" spc="-1" strike="noStrike">
                    <a:solidFill>
                      <a:srgbClr val="fc0128"/>
                    </a:solidFill>
                    <a:latin typeface="Arial"/>
                  </a:rPr>
                  <a:t>Q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8016840" y="3652560"/>
                <a:ext cx="237600" cy="238320"/>
              </a:xfrm>
              <a:prstGeom prst="ellipse">
                <a:avLst/>
              </a:prstGeom>
              <a:solidFill>
                <a:srgbClr val="fc012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8022960" y="5563800"/>
                <a:ext cx="237960" cy="238320"/>
              </a:xfrm>
              <a:prstGeom prst="ellipse">
                <a:avLst/>
              </a:prstGeom>
              <a:solidFill>
                <a:srgbClr val="fc012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121160" y="4676400"/>
                <a:ext cx="145800" cy="146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2" name=""/>
          <p:cNvSpPr/>
          <p:nvPr/>
        </p:nvSpPr>
        <p:spPr>
          <a:xfrm>
            <a:off x="0" y="3271680"/>
            <a:ext cx="5195880" cy="259740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0" y="3305160"/>
            <a:ext cx="5246640" cy="28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otential is zero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:   the scalar contributions from the two positive charges cancel the two minus charges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However, the contributions from the electric field add up as vectors, and they do not cancel (so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t is non-zero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0" y="4597560"/>
            <a:ext cx="4997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4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Hollywood Square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76280" y="6000840"/>
            <a:ext cx="4170240" cy="703800"/>
          </a:xfrm>
          <a:prstGeom prst="rect">
            <a:avLst/>
          </a:prstGeom>
          <a:solidFill>
            <a:srgbClr val="3366ff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-up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What is the direction of the electric field at the center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0" y="0"/>
            <a:ext cx="9144000" cy="30830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/>
          </p:nvPr>
        </p:nvSpPr>
        <p:spPr>
          <a:xfrm>
            <a:off x="552240" y="972720"/>
            <a:ext cx="2903400" cy="106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which point does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0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3530520" y="723960"/>
            <a:ext cx="3925800" cy="3579840"/>
            <a:chOff x="3530520" y="723960"/>
            <a:chExt cx="3925800" cy="3579840"/>
          </a:xfrm>
        </p:grpSpPr>
        <p:sp>
          <p:nvSpPr>
            <p:cNvPr id="482" name=""/>
            <p:cNvSpPr/>
            <p:nvPr/>
          </p:nvSpPr>
          <p:spPr>
            <a:xfrm>
              <a:off x="3530520" y="723960"/>
              <a:ext cx="3925800" cy="3579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83" name=""/>
            <p:cNvGrpSpPr/>
            <p:nvPr/>
          </p:nvGrpSpPr>
          <p:grpSpPr>
            <a:xfrm>
              <a:off x="3650400" y="854280"/>
              <a:ext cx="3696480" cy="3326040"/>
              <a:chOff x="3650400" y="854280"/>
              <a:chExt cx="3696480" cy="3326040"/>
            </a:xfrm>
          </p:grpSpPr>
          <p:sp>
            <p:nvSpPr>
              <p:cNvPr id="484" name=""/>
              <p:cNvSpPr/>
              <p:nvPr/>
            </p:nvSpPr>
            <p:spPr>
              <a:xfrm>
                <a:off x="3997080" y="2656080"/>
                <a:ext cx="2787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705120" y="2379960"/>
                <a:ext cx="485640" cy="488880"/>
              </a:xfrm>
              <a:prstGeom prst="ellipse">
                <a:avLst/>
              </a:prstGeom>
              <a:solidFill>
                <a:srgbClr val="fc012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316480" y="2564280"/>
                <a:ext cx="182520" cy="182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308560" y="1076760"/>
                <a:ext cx="182520" cy="182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306760" y="3675240"/>
                <a:ext cx="182520" cy="182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311800" y="1811520"/>
                <a:ext cx="182520" cy="182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410080" y="854280"/>
                <a:ext cx="322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afd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389920" y="2237040"/>
                <a:ext cx="3499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afd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412960" y="1572120"/>
                <a:ext cx="322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afd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408280" y="3812040"/>
                <a:ext cx="322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afd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3650400" y="2414880"/>
                <a:ext cx="5965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+</a:t>
                </a:r>
                <a:r>
                  <a:rPr b="1" i="1" lang="en-US" sz="2400" spc="-1" strike="noStrike">
                    <a:solidFill>
                      <a:srgbClr val="000040"/>
                    </a:solidFill>
                    <a:latin typeface="Arial"/>
                  </a:rPr>
                  <a:t>Q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804000" y="2383200"/>
                <a:ext cx="484200" cy="484200"/>
              </a:xfrm>
              <a:prstGeom prst="ellipse">
                <a:avLst/>
              </a:prstGeom>
              <a:solidFill>
                <a:srgbClr val="808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759360" y="2414880"/>
                <a:ext cx="5875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–</a:t>
                </a:r>
                <a:r>
                  <a:rPr b="1" i="1" lang="en-US" sz="2400" spc="-1" strike="noStrike">
                    <a:solidFill>
                      <a:srgbClr val="000040"/>
                    </a:solidFill>
                    <a:latin typeface="Arial"/>
                  </a:rPr>
                  <a:t>Q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406840" y="938520"/>
                <a:ext cx="0" cy="318600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8" name=""/>
          <p:cNvSpPr/>
          <p:nvPr/>
        </p:nvSpPr>
        <p:spPr>
          <a:xfrm>
            <a:off x="6512040" y="1096920"/>
            <a:ext cx="227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all of th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5a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quipotential Surfaces 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0"/>
            <a:ext cx="9144000" cy="30830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552240" y="972720"/>
            <a:ext cx="2903400" cy="106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which point does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0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3530520" y="723960"/>
            <a:ext cx="3925800" cy="3579840"/>
            <a:chOff x="3530520" y="723960"/>
            <a:chExt cx="3925800" cy="3579840"/>
          </a:xfrm>
        </p:grpSpPr>
        <p:sp>
          <p:nvSpPr>
            <p:cNvPr id="505" name=""/>
            <p:cNvSpPr/>
            <p:nvPr/>
          </p:nvSpPr>
          <p:spPr>
            <a:xfrm>
              <a:off x="3530520" y="723960"/>
              <a:ext cx="3925800" cy="3579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06" name=""/>
            <p:cNvGrpSpPr/>
            <p:nvPr/>
          </p:nvGrpSpPr>
          <p:grpSpPr>
            <a:xfrm>
              <a:off x="3650400" y="854280"/>
              <a:ext cx="3696480" cy="3326040"/>
              <a:chOff x="3650400" y="854280"/>
              <a:chExt cx="3696480" cy="3326040"/>
            </a:xfrm>
          </p:grpSpPr>
          <p:sp>
            <p:nvSpPr>
              <p:cNvPr id="507" name=""/>
              <p:cNvSpPr/>
              <p:nvPr/>
            </p:nvSpPr>
            <p:spPr>
              <a:xfrm>
                <a:off x="3997080" y="2656080"/>
                <a:ext cx="2787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705120" y="2379960"/>
                <a:ext cx="485640" cy="488880"/>
              </a:xfrm>
              <a:prstGeom prst="ellipse">
                <a:avLst/>
              </a:prstGeom>
              <a:solidFill>
                <a:srgbClr val="fc012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316480" y="2564280"/>
                <a:ext cx="182520" cy="182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308560" y="1076760"/>
                <a:ext cx="182520" cy="182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306760" y="3675240"/>
                <a:ext cx="182520" cy="182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311800" y="1811520"/>
                <a:ext cx="182520" cy="182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410080" y="854280"/>
                <a:ext cx="322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afd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5389920" y="2237040"/>
                <a:ext cx="3499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afd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412960" y="1572120"/>
                <a:ext cx="322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afd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408280" y="3812040"/>
                <a:ext cx="322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afd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650400" y="2414880"/>
                <a:ext cx="5965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+</a:t>
                </a:r>
                <a:r>
                  <a:rPr b="1" i="1" lang="en-US" sz="2400" spc="-1" strike="noStrike">
                    <a:solidFill>
                      <a:srgbClr val="000040"/>
                    </a:solidFill>
                    <a:latin typeface="Arial"/>
                  </a:rPr>
                  <a:t>Q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804000" y="2383200"/>
                <a:ext cx="484200" cy="484200"/>
              </a:xfrm>
              <a:prstGeom prst="ellipse">
                <a:avLst/>
              </a:prstGeom>
              <a:solidFill>
                <a:srgbClr val="808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759360" y="2414880"/>
                <a:ext cx="5875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–</a:t>
                </a:r>
                <a:r>
                  <a:rPr b="1" i="1" lang="en-US" sz="2400" spc="-1" strike="noStrike">
                    <a:solidFill>
                      <a:srgbClr val="000040"/>
                    </a:solidFill>
                    <a:latin typeface="Arial"/>
                  </a:rPr>
                  <a:t>Q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406840" y="938520"/>
                <a:ext cx="0" cy="318600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1" name=""/>
          <p:cNvSpPr/>
          <p:nvPr/>
        </p:nvSpPr>
        <p:spPr>
          <a:xfrm>
            <a:off x="6512040" y="1096920"/>
            <a:ext cx="227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all of th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064200" y="1006560"/>
            <a:ext cx="3079800" cy="5428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817560" y="4446720"/>
            <a:ext cx="7591320" cy="173988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811080" y="4433760"/>
            <a:ext cx="74977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ll of the points are equidistant from both charges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.  Since the charges are equal and opposite, their contributions to the potential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ancel out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verywhere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along the mid-plane between the charg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5a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quipotential Surfaces 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50720" y="6294600"/>
            <a:ext cx="8278920" cy="398880"/>
          </a:xfrm>
          <a:prstGeom prst="rect">
            <a:avLst/>
          </a:prstGeom>
          <a:solidFill>
            <a:srgbClr val="3366ff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-up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What is the direction of the electric field at all 4 point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0" y="0"/>
            <a:ext cx="9144000" cy="38750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299520" y="753840"/>
            <a:ext cx="8844120" cy="48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ich of these configurations gives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0 at all points on th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axi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079720" y="3389400"/>
            <a:ext cx="5918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ll of the above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none of the abo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788760" y="1285920"/>
            <a:ext cx="8036280" cy="1967760"/>
            <a:chOff x="788760" y="1285920"/>
            <a:chExt cx="8036280" cy="1967760"/>
          </a:xfrm>
        </p:grpSpPr>
        <p:sp>
          <p:nvSpPr>
            <p:cNvPr id="533" name=""/>
            <p:cNvSpPr/>
            <p:nvPr/>
          </p:nvSpPr>
          <p:spPr>
            <a:xfrm>
              <a:off x="1573200" y="2754360"/>
              <a:ext cx="60012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93240" bIns="932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1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116000" y="2124000"/>
              <a:ext cx="1514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6120" rIns="186120" tIns="-92880" bIns="-9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420920" y="1681200"/>
              <a:ext cx="846000" cy="842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92880" bIns="9288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366920" y="1636560"/>
              <a:ext cx="129960" cy="13032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-720" bIns="-72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336680" y="2463840"/>
              <a:ext cx="130320" cy="12996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-1080" bIns="-108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190600" y="2468520"/>
              <a:ext cx="130320" cy="13032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-720" bIns="-72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190600" y="1630440"/>
              <a:ext cx="130320" cy="12996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-1080" bIns="-108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523240" y="2038320"/>
              <a:ext cx="51480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93240" bIns="932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98120" y="1298520"/>
              <a:ext cx="99468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93240" bIns="932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ccecff"/>
                  </a:solidFill>
                  <a:latin typeface="Arial"/>
                </a:rPr>
                <a:t>+2</a:t>
              </a:r>
              <a:r>
                <a:rPr b="1" lang="en-US" sz="2000" spc="-1" strike="noStrike">
                  <a:solidFill>
                    <a:srgbClr val="ccecff"/>
                  </a:solidFill>
                  <a:latin typeface="Symbol"/>
                  <a:ea typeface="Symbol"/>
                </a:rPr>
                <a:t></a:t>
              </a:r>
              <a:r>
                <a:rPr b="1" lang="en-US" sz="2000" spc="-1" strike="noStrike">
                  <a:solidFill>
                    <a:srgbClr val="ccecff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88760" y="2486160"/>
              <a:ext cx="93060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93240" bIns="932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ccecff"/>
                  </a:solidFill>
                  <a:latin typeface="Arial"/>
                </a:rPr>
                <a:t>-2</a:t>
              </a:r>
              <a:r>
                <a:rPr b="1" lang="en-US" sz="2000" spc="-1" strike="noStrike">
                  <a:solidFill>
                    <a:srgbClr val="ccecff"/>
                  </a:solidFill>
                  <a:latin typeface="Symbol"/>
                  <a:ea typeface="Symbol"/>
                </a:rPr>
                <a:t></a:t>
              </a:r>
              <a:r>
                <a:rPr b="1" lang="en-US" sz="2000" spc="-1" strike="noStrike">
                  <a:solidFill>
                    <a:srgbClr val="ccecff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060280" y="1316160"/>
              <a:ext cx="99468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93240" bIns="932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ccecff"/>
                  </a:solidFill>
                  <a:latin typeface="Arial"/>
                </a:rPr>
                <a:t>+1</a:t>
              </a:r>
              <a:r>
                <a:rPr b="1" lang="en-US" sz="2000" spc="-1" strike="noStrike">
                  <a:solidFill>
                    <a:srgbClr val="ccecff"/>
                  </a:solidFill>
                  <a:latin typeface="Symbol"/>
                  <a:ea typeface="Symbol"/>
                </a:rPr>
                <a:t></a:t>
              </a:r>
              <a:r>
                <a:rPr b="1" lang="en-US" sz="2000" spc="-1" strike="noStrike">
                  <a:solidFill>
                    <a:srgbClr val="ccecff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138400" y="2454120"/>
              <a:ext cx="93060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93240" bIns="932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ccecff"/>
                  </a:solidFill>
                  <a:latin typeface="Arial"/>
                </a:rPr>
                <a:t>-1</a:t>
              </a:r>
              <a:r>
                <a:rPr b="1" lang="en-US" sz="2000" spc="-1" strike="noStrike">
                  <a:solidFill>
                    <a:srgbClr val="ccecff"/>
                  </a:solidFill>
                  <a:latin typeface="Symbol"/>
                  <a:ea typeface="Symbol"/>
                </a:rPr>
                <a:t></a:t>
              </a:r>
              <a:r>
                <a:rPr b="1" lang="en-US" sz="2000" spc="-1" strike="noStrike">
                  <a:solidFill>
                    <a:srgbClr val="ccecff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307040" y="2765520"/>
              <a:ext cx="60012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93240" bIns="932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2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851280" y="2125800"/>
              <a:ext cx="1514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6120" rIns="186120" tIns="-92880" bIns="-9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156200" y="1684440"/>
              <a:ext cx="846000" cy="842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92880" bIns="9288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102200" y="1639800"/>
              <a:ext cx="129960" cy="13032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-720" bIns="-72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071960" y="2465280"/>
              <a:ext cx="130320" cy="13032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-720" bIns="-72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925880" y="2470320"/>
              <a:ext cx="130320" cy="12996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-1080" bIns="-108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925880" y="1633680"/>
              <a:ext cx="130320" cy="12996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-1080" bIns="-108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258520" y="2041560"/>
              <a:ext cx="51480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93240" bIns="932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468240" y="1285920"/>
              <a:ext cx="99468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93240" bIns="932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ccecff"/>
                  </a:solidFill>
                  <a:latin typeface="Arial"/>
                </a:rPr>
                <a:t>+2</a:t>
              </a:r>
              <a:r>
                <a:rPr b="1" lang="en-US" sz="2000" spc="-1" strike="noStrike">
                  <a:solidFill>
                    <a:srgbClr val="ccecff"/>
                  </a:solidFill>
                  <a:latin typeface="Symbol"/>
                  <a:ea typeface="Symbol"/>
                </a:rPr>
                <a:t></a:t>
              </a:r>
              <a:r>
                <a:rPr b="1" lang="en-US" sz="2000" spc="-1" strike="noStrike">
                  <a:solidFill>
                    <a:srgbClr val="ccecff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524040" y="2505240"/>
              <a:ext cx="93060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93240" bIns="932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ccecff"/>
                  </a:solidFill>
                  <a:latin typeface="Arial"/>
                </a:rPr>
                <a:t>-1</a:t>
              </a:r>
              <a:r>
                <a:rPr b="1" lang="en-US" sz="2000" spc="-1" strike="noStrike">
                  <a:solidFill>
                    <a:srgbClr val="ccecff"/>
                  </a:solidFill>
                  <a:latin typeface="Symbol"/>
                  <a:ea typeface="Symbol"/>
                </a:rPr>
                <a:t></a:t>
              </a:r>
              <a:r>
                <a:rPr b="1" lang="en-US" sz="2000" spc="-1" strike="noStrike">
                  <a:solidFill>
                    <a:srgbClr val="ccecff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828680" y="1335240"/>
              <a:ext cx="99468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93240" bIns="932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ccecff"/>
                  </a:solidFill>
                  <a:latin typeface="Arial"/>
                </a:rPr>
                <a:t>+1</a:t>
              </a:r>
              <a:r>
                <a:rPr b="1" lang="en-US" sz="2000" spc="-1" strike="noStrike">
                  <a:solidFill>
                    <a:srgbClr val="ccecff"/>
                  </a:solidFill>
                  <a:latin typeface="Symbol"/>
                  <a:ea typeface="Symbol"/>
                </a:rPr>
                <a:t></a:t>
              </a:r>
              <a:r>
                <a:rPr b="1" lang="en-US" sz="2000" spc="-1" strike="noStrike">
                  <a:solidFill>
                    <a:srgbClr val="ccecff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938480" y="2471760"/>
              <a:ext cx="93060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93240" bIns="932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ccecff"/>
                  </a:solidFill>
                  <a:latin typeface="Arial"/>
                </a:rPr>
                <a:t>-2</a:t>
              </a:r>
              <a:r>
                <a:rPr b="1" lang="en-US" sz="2000" spc="-1" strike="noStrike">
                  <a:solidFill>
                    <a:srgbClr val="ccecff"/>
                  </a:solidFill>
                  <a:latin typeface="Symbol"/>
                  <a:ea typeface="Symbol"/>
                </a:rPr>
                <a:t></a:t>
              </a:r>
              <a:r>
                <a:rPr b="1" lang="en-US" sz="2000" spc="-1" strike="noStrike">
                  <a:solidFill>
                    <a:srgbClr val="ccecff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148520" y="2792520"/>
              <a:ext cx="60012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93240" bIns="932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3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673680" y="2128680"/>
              <a:ext cx="1514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6120" rIns="186120" tIns="-92880" bIns="-9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977160" y="1684440"/>
              <a:ext cx="847800" cy="847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92880" bIns="9288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924600" y="1641600"/>
              <a:ext cx="130320" cy="12996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-1080" bIns="-108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894360" y="2470320"/>
              <a:ext cx="130320" cy="13176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720" bIns="72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748640" y="2475000"/>
              <a:ext cx="129960" cy="12996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-1080" bIns="-108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748640" y="1635120"/>
              <a:ext cx="129960" cy="13032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-720" bIns="-72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8080920" y="2043000"/>
              <a:ext cx="51480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93240" bIns="932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324120" y="1285920"/>
              <a:ext cx="99468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93240" bIns="932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ccecff"/>
                  </a:solidFill>
                  <a:latin typeface="Arial"/>
                </a:rPr>
                <a:t>+2</a:t>
              </a:r>
              <a:r>
                <a:rPr b="1" lang="en-US" sz="2000" spc="-1" strike="noStrike">
                  <a:solidFill>
                    <a:srgbClr val="ccecff"/>
                  </a:solidFill>
                  <a:latin typeface="Symbol"/>
                  <a:ea typeface="Symbol"/>
                </a:rPr>
                <a:t></a:t>
              </a:r>
              <a:r>
                <a:rPr b="1" lang="en-US" sz="2000" spc="-1" strike="noStrike">
                  <a:solidFill>
                    <a:srgbClr val="ccecff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346800" y="2494080"/>
              <a:ext cx="93060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93240" bIns="932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ccecff"/>
                  </a:solidFill>
                  <a:latin typeface="Arial"/>
                </a:rPr>
                <a:t>-1</a:t>
              </a:r>
              <a:r>
                <a:rPr b="1" lang="en-US" sz="2000" spc="-1" strike="noStrike">
                  <a:solidFill>
                    <a:srgbClr val="ccecff"/>
                  </a:solidFill>
                  <a:latin typeface="Symbol"/>
                  <a:ea typeface="Symbol"/>
                </a:rPr>
                <a:t></a:t>
              </a:r>
              <a:r>
                <a:rPr b="1" lang="en-US" sz="2000" spc="-1" strike="noStrike">
                  <a:solidFill>
                    <a:srgbClr val="ccecff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651800" y="1319040"/>
              <a:ext cx="93060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93240" bIns="932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ccecff"/>
                  </a:solidFill>
                  <a:latin typeface="Arial"/>
                </a:rPr>
                <a:t>-2</a:t>
              </a:r>
              <a:r>
                <a:rPr b="1" lang="en-US" sz="2000" spc="-1" strike="noStrike">
                  <a:solidFill>
                    <a:srgbClr val="ccecff"/>
                  </a:solidFill>
                  <a:latin typeface="Symbol"/>
                  <a:ea typeface="Symbol"/>
                </a:rPr>
                <a:t></a:t>
              </a:r>
              <a:r>
                <a:rPr b="1" lang="en-US" sz="2000" spc="-1" strike="noStrike">
                  <a:solidFill>
                    <a:srgbClr val="ccecff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763040" y="2478240"/>
              <a:ext cx="106200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6120" rIns="186120" tIns="93240" bIns="932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ccecff"/>
                  </a:solidFill>
                  <a:latin typeface="Arial"/>
                </a:rPr>
                <a:t>+1</a:t>
              </a:r>
              <a:r>
                <a:rPr b="1" lang="en-US" sz="2000" spc="-1" strike="noStrike">
                  <a:solidFill>
                    <a:srgbClr val="ccecff"/>
                  </a:solidFill>
                  <a:latin typeface="Symbol"/>
                  <a:ea typeface="Symbol"/>
                </a:rPr>
                <a:t></a:t>
              </a:r>
              <a:r>
                <a:rPr b="1" lang="en-US" sz="2000" spc="-1" strike="noStrike">
                  <a:solidFill>
                    <a:srgbClr val="ccecff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9" name="PlaceHolder 2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5b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quipotential Surfaces I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490760" y="4071960"/>
            <a:ext cx="6122880" cy="192240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494000" y="4159080"/>
            <a:ext cx="60721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Only in case (1), where opposite charges lie directly across the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-axis from each other, do the potentials from the two charges above the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-axis cancel the ones below the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-axi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0" y="0"/>
            <a:ext cx="9144000" cy="38750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299520" y="753840"/>
            <a:ext cx="8844120" cy="48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ich of these configurations gives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0 at all points on th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axi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079720" y="3389400"/>
            <a:ext cx="5918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ll of the above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none of the abo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788760" y="1285920"/>
            <a:ext cx="8036280" cy="1967760"/>
            <a:chOff x="788760" y="1285920"/>
            <a:chExt cx="8036280" cy="1967760"/>
          </a:xfrm>
        </p:grpSpPr>
        <p:sp>
          <p:nvSpPr>
            <p:cNvPr id="578" name=""/>
            <p:cNvSpPr/>
            <p:nvPr/>
          </p:nvSpPr>
          <p:spPr>
            <a:xfrm>
              <a:off x="1573200" y="2754360"/>
              <a:ext cx="60012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93240" bIns="932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1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116000" y="2124000"/>
              <a:ext cx="1514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6120" rIns="186120" tIns="-92880" bIns="-9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420920" y="1681200"/>
              <a:ext cx="846000" cy="842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92880" bIns="9288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366920" y="1636560"/>
              <a:ext cx="129960" cy="13032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-720" bIns="-72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336680" y="2463840"/>
              <a:ext cx="130320" cy="12996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-1080" bIns="-108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190600" y="2468520"/>
              <a:ext cx="130320" cy="13032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-720" bIns="-72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190600" y="1630440"/>
              <a:ext cx="130320" cy="12996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-1080" bIns="-108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523240" y="2038320"/>
              <a:ext cx="51480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93240" bIns="932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98120" y="1298520"/>
              <a:ext cx="99468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93240" bIns="932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ccecff"/>
                  </a:solidFill>
                  <a:latin typeface="Arial"/>
                </a:rPr>
                <a:t>+2</a:t>
              </a:r>
              <a:r>
                <a:rPr b="1" lang="en-US" sz="2000" spc="-1" strike="noStrike">
                  <a:solidFill>
                    <a:srgbClr val="ccecff"/>
                  </a:solidFill>
                  <a:latin typeface="Symbol"/>
                  <a:ea typeface="Symbol"/>
                </a:rPr>
                <a:t></a:t>
              </a:r>
              <a:r>
                <a:rPr b="1" lang="en-US" sz="2000" spc="-1" strike="noStrike">
                  <a:solidFill>
                    <a:srgbClr val="ccecff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88760" y="2486160"/>
              <a:ext cx="93060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93240" bIns="932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ccecff"/>
                  </a:solidFill>
                  <a:latin typeface="Arial"/>
                </a:rPr>
                <a:t>-2</a:t>
              </a:r>
              <a:r>
                <a:rPr b="1" lang="en-US" sz="2000" spc="-1" strike="noStrike">
                  <a:solidFill>
                    <a:srgbClr val="ccecff"/>
                  </a:solidFill>
                  <a:latin typeface="Symbol"/>
                  <a:ea typeface="Symbol"/>
                </a:rPr>
                <a:t></a:t>
              </a:r>
              <a:r>
                <a:rPr b="1" lang="en-US" sz="2000" spc="-1" strike="noStrike">
                  <a:solidFill>
                    <a:srgbClr val="ccecff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060280" y="1316160"/>
              <a:ext cx="99468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93240" bIns="932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ccecff"/>
                  </a:solidFill>
                  <a:latin typeface="Arial"/>
                </a:rPr>
                <a:t>+1</a:t>
              </a:r>
              <a:r>
                <a:rPr b="1" lang="en-US" sz="2000" spc="-1" strike="noStrike">
                  <a:solidFill>
                    <a:srgbClr val="ccecff"/>
                  </a:solidFill>
                  <a:latin typeface="Symbol"/>
                  <a:ea typeface="Symbol"/>
                </a:rPr>
                <a:t></a:t>
              </a:r>
              <a:r>
                <a:rPr b="1" lang="en-US" sz="2000" spc="-1" strike="noStrike">
                  <a:solidFill>
                    <a:srgbClr val="ccecff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138400" y="2454120"/>
              <a:ext cx="93060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93240" bIns="932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ccecff"/>
                  </a:solidFill>
                  <a:latin typeface="Arial"/>
                </a:rPr>
                <a:t>-1</a:t>
              </a:r>
              <a:r>
                <a:rPr b="1" lang="en-US" sz="2000" spc="-1" strike="noStrike">
                  <a:solidFill>
                    <a:srgbClr val="ccecff"/>
                  </a:solidFill>
                  <a:latin typeface="Symbol"/>
                  <a:ea typeface="Symbol"/>
                </a:rPr>
                <a:t></a:t>
              </a:r>
              <a:r>
                <a:rPr b="1" lang="en-US" sz="2000" spc="-1" strike="noStrike">
                  <a:solidFill>
                    <a:srgbClr val="ccecff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307040" y="2765520"/>
              <a:ext cx="60012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93240" bIns="932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2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851280" y="2125800"/>
              <a:ext cx="1514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6120" rIns="186120" tIns="-92880" bIns="-9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156200" y="1684440"/>
              <a:ext cx="846000" cy="842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92880" bIns="9288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102200" y="1639800"/>
              <a:ext cx="129960" cy="13032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-720" bIns="-72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071960" y="2465280"/>
              <a:ext cx="130320" cy="13032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-720" bIns="-72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925880" y="2470320"/>
              <a:ext cx="130320" cy="12996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-1080" bIns="-108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925880" y="1633680"/>
              <a:ext cx="130320" cy="12996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-1080" bIns="-108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258520" y="2041560"/>
              <a:ext cx="51480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93240" bIns="932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468240" y="1285920"/>
              <a:ext cx="99468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93240" bIns="932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ccecff"/>
                  </a:solidFill>
                  <a:latin typeface="Arial"/>
                </a:rPr>
                <a:t>+2</a:t>
              </a:r>
              <a:r>
                <a:rPr b="1" lang="en-US" sz="2000" spc="-1" strike="noStrike">
                  <a:solidFill>
                    <a:srgbClr val="ccecff"/>
                  </a:solidFill>
                  <a:latin typeface="Symbol"/>
                  <a:ea typeface="Symbol"/>
                </a:rPr>
                <a:t></a:t>
              </a:r>
              <a:r>
                <a:rPr b="1" lang="en-US" sz="2000" spc="-1" strike="noStrike">
                  <a:solidFill>
                    <a:srgbClr val="ccecff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524040" y="2505240"/>
              <a:ext cx="93060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93240" bIns="932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ccecff"/>
                  </a:solidFill>
                  <a:latin typeface="Arial"/>
                </a:rPr>
                <a:t>-1</a:t>
              </a:r>
              <a:r>
                <a:rPr b="1" lang="en-US" sz="2000" spc="-1" strike="noStrike">
                  <a:solidFill>
                    <a:srgbClr val="ccecff"/>
                  </a:solidFill>
                  <a:latin typeface="Symbol"/>
                  <a:ea typeface="Symbol"/>
                </a:rPr>
                <a:t></a:t>
              </a:r>
              <a:r>
                <a:rPr b="1" lang="en-US" sz="2000" spc="-1" strike="noStrike">
                  <a:solidFill>
                    <a:srgbClr val="ccecff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828680" y="1335240"/>
              <a:ext cx="99468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93240" bIns="932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ccecff"/>
                  </a:solidFill>
                  <a:latin typeface="Arial"/>
                </a:rPr>
                <a:t>+1</a:t>
              </a:r>
              <a:r>
                <a:rPr b="1" lang="en-US" sz="2000" spc="-1" strike="noStrike">
                  <a:solidFill>
                    <a:srgbClr val="ccecff"/>
                  </a:solidFill>
                  <a:latin typeface="Symbol"/>
                  <a:ea typeface="Symbol"/>
                </a:rPr>
                <a:t></a:t>
              </a:r>
              <a:r>
                <a:rPr b="1" lang="en-US" sz="2000" spc="-1" strike="noStrike">
                  <a:solidFill>
                    <a:srgbClr val="ccecff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938480" y="2471760"/>
              <a:ext cx="93060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93240" bIns="932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ccecff"/>
                  </a:solidFill>
                  <a:latin typeface="Arial"/>
                </a:rPr>
                <a:t>-2</a:t>
              </a:r>
              <a:r>
                <a:rPr b="1" lang="en-US" sz="2000" spc="-1" strike="noStrike">
                  <a:solidFill>
                    <a:srgbClr val="ccecff"/>
                  </a:solidFill>
                  <a:latin typeface="Symbol"/>
                  <a:ea typeface="Symbol"/>
                </a:rPr>
                <a:t></a:t>
              </a:r>
              <a:r>
                <a:rPr b="1" lang="en-US" sz="2000" spc="-1" strike="noStrike">
                  <a:solidFill>
                    <a:srgbClr val="ccecff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148520" y="2792520"/>
              <a:ext cx="60012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93240" bIns="932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3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673680" y="2128680"/>
              <a:ext cx="1514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6120" rIns="186120" tIns="-92880" bIns="-9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977160" y="1684440"/>
              <a:ext cx="847800" cy="847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92880" bIns="9288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924600" y="1641600"/>
              <a:ext cx="130320" cy="12996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-1080" bIns="-108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894360" y="2470320"/>
              <a:ext cx="130320" cy="13176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720" bIns="72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748640" y="2475000"/>
              <a:ext cx="129960" cy="12996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-1080" bIns="-108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748640" y="1635120"/>
              <a:ext cx="129960" cy="13032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-720" bIns="-72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080920" y="2043000"/>
              <a:ext cx="51480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93240" bIns="932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324120" y="1285920"/>
              <a:ext cx="99468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93240" bIns="932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ccecff"/>
                  </a:solidFill>
                  <a:latin typeface="Arial"/>
                </a:rPr>
                <a:t>+2</a:t>
              </a:r>
              <a:r>
                <a:rPr b="1" lang="en-US" sz="2000" spc="-1" strike="noStrike">
                  <a:solidFill>
                    <a:srgbClr val="ccecff"/>
                  </a:solidFill>
                  <a:latin typeface="Symbol"/>
                  <a:ea typeface="Symbol"/>
                </a:rPr>
                <a:t></a:t>
              </a:r>
              <a:r>
                <a:rPr b="1" lang="en-US" sz="2000" spc="-1" strike="noStrike">
                  <a:solidFill>
                    <a:srgbClr val="ccecff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346800" y="2494080"/>
              <a:ext cx="93060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93240" bIns="932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ccecff"/>
                  </a:solidFill>
                  <a:latin typeface="Arial"/>
                </a:rPr>
                <a:t>-1</a:t>
              </a:r>
              <a:r>
                <a:rPr b="1" lang="en-US" sz="2000" spc="-1" strike="noStrike">
                  <a:solidFill>
                    <a:srgbClr val="ccecff"/>
                  </a:solidFill>
                  <a:latin typeface="Symbol"/>
                  <a:ea typeface="Symbol"/>
                </a:rPr>
                <a:t></a:t>
              </a:r>
              <a:r>
                <a:rPr b="1" lang="en-US" sz="2000" spc="-1" strike="noStrike">
                  <a:solidFill>
                    <a:srgbClr val="ccecff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651800" y="1319040"/>
              <a:ext cx="93060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93240" bIns="932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ccecff"/>
                  </a:solidFill>
                  <a:latin typeface="Arial"/>
                </a:rPr>
                <a:t>-2</a:t>
              </a:r>
              <a:r>
                <a:rPr b="1" lang="en-US" sz="2000" spc="-1" strike="noStrike">
                  <a:solidFill>
                    <a:srgbClr val="ccecff"/>
                  </a:solidFill>
                  <a:latin typeface="Symbol"/>
                  <a:ea typeface="Symbol"/>
                </a:rPr>
                <a:t></a:t>
              </a:r>
              <a:r>
                <a:rPr b="1" lang="en-US" sz="2000" spc="-1" strike="noStrike">
                  <a:solidFill>
                    <a:srgbClr val="ccecff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763040" y="2478240"/>
              <a:ext cx="106200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6120" rIns="186120" tIns="93240" bIns="932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ccecff"/>
                  </a:solidFill>
                  <a:latin typeface="Arial"/>
                </a:rPr>
                <a:t>+1</a:t>
              </a:r>
              <a:r>
                <a:rPr b="1" lang="en-US" sz="2000" spc="-1" strike="noStrike">
                  <a:solidFill>
                    <a:srgbClr val="ccecff"/>
                  </a:solidFill>
                  <a:latin typeface="Symbol"/>
                  <a:ea typeface="Symbol"/>
                </a:rPr>
                <a:t></a:t>
              </a:r>
              <a:r>
                <a:rPr b="1" lang="en-US" sz="2000" spc="-1" strike="noStrike">
                  <a:solidFill>
                    <a:srgbClr val="ccecff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4" name=""/>
          <p:cNvSpPr/>
          <p:nvPr/>
        </p:nvSpPr>
        <p:spPr>
          <a:xfrm>
            <a:off x="1349280" y="2749680"/>
            <a:ext cx="1119240" cy="49356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5b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quipotential Surfaces I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0" y="0"/>
            <a:ext cx="9144000" cy="38750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/>
          </p:nvPr>
        </p:nvSpPr>
        <p:spPr>
          <a:xfrm>
            <a:off x="299520" y="753840"/>
            <a:ext cx="8844120" cy="48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ich of these configurations gives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0 at all points on th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axi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079720" y="3389400"/>
            <a:ext cx="5918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ll of the above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none of the abo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5c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quipotential Surfaces II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788760" y="1285920"/>
            <a:ext cx="8036280" cy="1967760"/>
            <a:chOff x="788760" y="1285920"/>
            <a:chExt cx="8036280" cy="1967760"/>
          </a:xfrm>
        </p:grpSpPr>
        <p:sp>
          <p:nvSpPr>
            <p:cNvPr id="623" name=""/>
            <p:cNvSpPr/>
            <p:nvPr/>
          </p:nvSpPr>
          <p:spPr>
            <a:xfrm>
              <a:off x="1573200" y="2754360"/>
              <a:ext cx="60012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93240" bIns="932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1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116000" y="2124000"/>
              <a:ext cx="1514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6120" rIns="186120" tIns="-92880" bIns="-9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420920" y="1681200"/>
              <a:ext cx="846000" cy="842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92880" bIns="9288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366920" y="1636560"/>
              <a:ext cx="129960" cy="13032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-720" bIns="-72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336680" y="2463840"/>
              <a:ext cx="130320" cy="12996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-1080" bIns="-108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190600" y="2468520"/>
              <a:ext cx="130320" cy="13032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-720" bIns="-72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190600" y="1630440"/>
              <a:ext cx="130320" cy="12996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-1080" bIns="-108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523240" y="2038320"/>
              <a:ext cx="51480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93240" bIns="932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98120" y="1298520"/>
              <a:ext cx="99468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93240" bIns="932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ccecff"/>
                  </a:solidFill>
                  <a:latin typeface="Arial"/>
                </a:rPr>
                <a:t>+2</a:t>
              </a:r>
              <a:r>
                <a:rPr b="1" lang="en-US" sz="2000" spc="-1" strike="noStrike">
                  <a:solidFill>
                    <a:srgbClr val="ccecff"/>
                  </a:solidFill>
                  <a:latin typeface="Symbol"/>
                  <a:ea typeface="Symbol"/>
                </a:rPr>
                <a:t></a:t>
              </a:r>
              <a:r>
                <a:rPr b="1" lang="en-US" sz="2000" spc="-1" strike="noStrike">
                  <a:solidFill>
                    <a:srgbClr val="ccecff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88760" y="2486160"/>
              <a:ext cx="93060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93240" bIns="932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ccecff"/>
                  </a:solidFill>
                  <a:latin typeface="Arial"/>
                </a:rPr>
                <a:t>-2</a:t>
              </a:r>
              <a:r>
                <a:rPr b="1" lang="en-US" sz="2000" spc="-1" strike="noStrike">
                  <a:solidFill>
                    <a:srgbClr val="ccecff"/>
                  </a:solidFill>
                  <a:latin typeface="Symbol"/>
                  <a:ea typeface="Symbol"/>
                </a:rPr>
                <a:t></a:t>
              </a:r>
              <a:r>
                <a:rPr b="1" lang="en-US" sz="2000" spc="-1" strike="noStrike">
                  <a:solidFill>
                    <a:srgbClr val="ccecff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060280" y="1316160"/>
              <a:ext cx="99468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93240" bIns="932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ccecff"/>
                  </a:solidFill>
                  <a:latin typeface="Arial"/>
                </a:rPr>
                <a:t>+1</a:t>
              </a:r>
              <a:r>
                <a:rPr b="1" lang="en-US" sz="2000" spc="-1" strike="noStrike">
                  <a:solidFill>
                    <a:srgbClr val="ccecff"/>
                  </a:solidFill>
                  <a:latin typeface="Symbol"/>
                  <a:ea typeface="Symbol"/>
                </a:rPr>
                <a:t></a:t>
              </a:r>
              <a:r>
                <a:rPr b="1" lang="en-US" sz="2000" spc="-1" strike="noStrike">
                  <a:solidFill>
                    <a:srgbClr val="ccecff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138400" y="2454120"/>
              <a:ext cx="93060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93240" bIns="932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ccecff"/>
                  </a:solidFill>
                  <a:latin typeface="Arial"/>
                </a:rPr>
                <a:t>-1</a:t>
              </a:r>
              <a:r>
                <a:rPr b="1" lang="en-US" sz="2000" spc="-1" strike="noStrike">
                  <a:solidFill>
                    <a:srgbClr val="ccecff"/>
                  </a:solidFill>
                  <a:latin typeface="Symbol"/>
                  <a:ea typeface="Symbol"/>
                </a:rPr>
                <a:t></a:t>
              </a:r>
              <a:r>
                <a:rPr b="1" lang="en-US" sz="2000" spc="-1" strike="noStrike">
                  <a:solidFill>
                    <a:srgbClr val="ccecff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307040" y="2765520"/>
              <a:ext cx="60012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93240" bIns="932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2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851280" y="2125800"/>
              <a:ext cx="1514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6120" rIns="186120" tIns="-92880" bIns="-9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156200" y="1684440"/>
              <a:ext cx="846000" cy="842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92880" bIns="9288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102200" y="1639800"/>
              <a:ext cx="129960" cy="13032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-720" bIns="-72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071960" y="2465280"/>
              <a:ext cx="130320" cy="13032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-720" bIns="-72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925880" y="2470320"/>
              <a:ext cx="130320" cy="12996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-1080" bIns="-108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925880" y="1633680"/>
              <a:ext cx="130320" cy="12996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-1080" bIns="-108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258520" y="2041560"/>
              <a:ext cx="51480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93240" bIns="932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468240" y="1285920"/>
              <a:ext cx="99468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93240" bIns="932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ccecff"/>
                  </a:solidFill>
                  <a:latin typeface="Arial"/>
                </a:rPr>
                <a:t>+2</a:t>
              </a:r>
              <a:r>
                <a:rPr b="1" lang="en-US" sz="2000" spc="-1" strike="noStrike">
                  <a:solidFill>
                    <a:srgbClr val="ccecff"/>
                  </a:solidFill>
                  <a:latin typeface="Symbol"/>
                  <a:ea typeface="Symbol"/>
                </a:rPr>
                <a:t></a:t>
              </a:r>
              <a:r>
                <a:rPr b="1" lang="en-US" sz="2000" spc="-1" strike="noStrike">
                  <a:solidFill>
                    <a:srgbClr val="ccecff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524040" y="2505240"/>
              <a:ext cx="93060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93240" bIns="932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ccecff"/>
                  </a:solidFill>
                  <a:latin typeface="Arial"/>
                </a:rPr>
                <a:t>-1</a:t>
              </a:r>
              <a:r>
                <a:rPr b="1" lang="en-US" sz="2000" spc="-1" strike="noStrike">
                  <a:solidFill>
                    <a:srgbClr val="ccecff"/>
                  </a:solidFill>
                  <a:latin typeface="Symbol"/>
                  <a:ea typeface="Symbol"/>
                </a:rPr>
                <a:t></a:t>
              </a:r>
              <a:r>
                <a:rPr b="1" lang="en-US" sz="2000" spc="-1" strike="noStrike">
                  <a:solidFill>
                    <a:srgbClr val="ccecff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828680" y="1335240"/>
              <a:ext cx="99468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93240" bIns="932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ccecff"/>
                  </a:solidFill>
                  <a:latin typeface="Arial"/>
                </a:rPr>
                <a:t>+1</a:t>
              </a:r>
              <a:r>
                <a:rPr b="1" lang="en-US" sz="2000" spc="-1" strike="noStrike">
                  <a:solidFill>
                    <a:srgbClr val="ccecff"/>
                  </a:solidFill>
                  <a:latin typeface="Symbol"/>
                  <a:ea typeface="Symbol"/>
                </a:rPr>
                <a:t></a:t>
              </a:r>
              <a:r>
                <a:rPr b="1" lang="en-US" sz="2000" spc="-1" strike="noStrike">
                  <a:solidFill>
                    <a:srgbClr val="ccecff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938480" y="2471760"/>
              <a:ext cx="93060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93240" bIns="932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ccecff"/>
                  </a:solidFill>
                  <a:latin typeface="Arial"/>
                </a:rPr>
                <a:t>-2</a:t>
              </a:r>
              <a:r>
                <a:rPr b="1" lang="en-US" sz="2000" spc="-1" strike="noStrike">
                  <a:solidFill>
                    <a:srgbClr val="ccecff"/>
                  </a:solidFill>
                  <a:latin typeface="Symbol"/>
                  <a:ea typeface="Symbol"/>
                </a:rPr>
                <a:t></a:t>
              </a:r>
              <a:r>
                <a:rPr b="1" lang="en-US" sz="2000" spc="-1" strike="noStrike">
                  <a:solidFill>
                    <a:srgbClr val="ccecff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148520" y="2792520"/>
              <a:ext cx="60012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93240" bIns="932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3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673680" y="2128680"/>
              <a:ext cx="1514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6120" rIns="186120" tIns="-92880" bIns="-9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977160" y="1684440"/>
              <a:ext cx="847800" cy="847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92880" bIns="9288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924600" y="1641600"/>
              <a:ext cx="130320" cy="12996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-1080" bIns="-108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894360" y="2470320"/>
              <a:ext cx="130320" cy="13176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720" bIns="72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748640" y="2475000"/>
              <a:ext cx="129960" cy="12996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-1080" bIns="-108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748640" y="1635120"/>
              <a:ext cx="129960" cy="13032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-720" bIns="-72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080920" y="2043000"/>
              <a:ext cx="51480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93240" bIns="932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324120" y="1285920"/>
              <a:ext cx="99468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93240" bIns="932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ccecff"/>
                  </a:solidFill>
                  <a:latin typeface="Arial"/>
                </a:rPr>
                <a:t>+2</a:t>
              </a:r>
              <a:r>
                <a:rPr b="1" lang="en-US" sz="2000" spc="-1" strike="noStrike">
                  <a:solidFill>
                    <a:srgbClr val="ccecff"/>
                  </a:solidFill>
                  <a:latin typeface="Symbol"/>
                  <a:ea typeface="Symbol"/>
                </a:rPr>
                <a:t></a:t>
              </a:r>
              <a:r>
                <a:rPr b="1" lang="en-US" sz="2000" spc="-1" strike="noStrike">
                  <a:solidFill>
                    <a:srgbClr val="ccecff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346800" y="2494080"/>
              <a:ext cx="93060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93240" bIns="932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ccecff"/>
                  </a:solidFill>
                  <a:latin typeface="Arial"/>
                </a:rPr>
                <a:t>-1</a:t>
              </a:r>
              <a:r>
                <a:rPr b="1" lang="en-US" sz="2000" spc="-1" strike="noStrike">
                  <a:solidFill>
                    <a:srgbClr val="ccecff"/>
                  </a:solidFill>
                  <a:latin typeface="Symbol"/>
                  <a:ea typeface="Symbol"/>
                </a:rPr>
                <a:t></a:t>
              </a:r>
              <a:r>
                <a:rPr b="1" lang="en-US" sz="2000" spc="-1" strike="noStrike">
                  <a:solidFill>
                    <a:srgbClr val="ccecff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651800" y="1319040"/>
              <a:ext cx="93060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93240" bIns="932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ccecff"/>
                  </a:solidFill>
                  <a:latin typeface="Arial"/>
                </a:rPr>
                <a:t>-2</a:t>
              </a:r>
              <a:r>
                <a:rPr b="1" lang="en-US" sz="2000" spc="-1" strike="noStrike">
                  <a:solidFill>
                    <a:srgbClr val="ccecff"/>
                  </a:solidFill>
                  <a:latin typeface="Symbol"/>
                  <a:ea typeface="Symbol"/>
                </a:rPr>
                <a:t></a:t>
              </a:r>
              <a:r>
                <a:rPr b="1" lang="en-US" sz="2000" spc="-1" strike="noStrike">
                  <a:solidFill>
                    <a:srgbClr val="ccecff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763040" y="2478240"/>
              <a:ext cx="106200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6120" rIns="186120" tIns="93240" bIns="932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ccecff"/>
                  </a:solidFill>
                  <a:latin typeface="Arial"/>
                </a:rPr>
                <a:t>+1</a:t>
              </a:r>
              <a:r>
                <a:rPr b="1" lang="en-US" sz="2000" spc="-1" strike="noStrike">
                  <a:solidFill>
                    <a:srgbClr val="ccecff"/>
                  </a:solidFill>
                  <a:latin typeface="Symbol"/>
                  <a:ea typeface="Symbol"/>
                </a:rPr>
                <a:t></a:t>
              </a:r>
              <a:r>
                <a:rPr b="1" lang="en-US" sz="2000" spc="-1" strike="noStrike">
                  <a:solidFill>
                    <a:srgbClr val="ccecff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3429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1a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lectric Potential Energy I 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219320"/>
            <a:ext cx="41911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92680" y="690480"/>
            <a:ext cx="4351320" cy="23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t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lectr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oth feel the same for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neither–there is no for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they feel the same magnitude force but in opposite direc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151680" y="3646440"/>
            <a:ext cx="2739600" cy="2937960"/>
            <a:chOff x="6151680" y="3646440"/>
            <a:chExt cx="2739600" cy="2937960"/>
          </a:xfrm>
        </p:grpSpPr>
        <p:grpSp>
          <p:nvGrpSpPr>
            <p:cNvPr id="89" name=""/>
            <p:cNvGrpSpPr/>
            <p:nvPr/>
          </p:nvGrpSpPr>
          <p:grpSpPr>
            <a:xfrm>
              <a:off x="6151680" y="3646440"/>
              <a:ext cx="2739600" cy="2925360"/>
              <a:chOff x="6151680" y="3646440"/>
              <a:chExt cx="2739600" cy="2925360"/>
            </a:xfrm>
          </p:grpSpPr>
          <p:pic>
            <p:nvPicPr>
              <p:cNvPr id="90" name="" descr=""/>
              <p:cNvPicPr/>
              <p:nvPr/>
            </p:nvPicPr>
            <p:blipFill>
              <a:blip r:embed="rId1"/>
              <a:srcRect l="58595" t="26835" r="15521" b="25210"/>
              <a:stretch/>
            </p:blipFill>
            <p:spPr>
              <a:xfrm>
                <a:off x="6151680" y="3646440"/>
                <a:ext cx="2739600" cy="2925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91" name=""/>
              <p:cNvGrpSpPr/>
              <p:nvPr/>
            </p:nvGrpSpPr>
            <p:grpSpPr>
              <a:xfrm>
                <a:off x="6757200" y="3773880"/>
                <a:ext cx="1464480" cy="2561040"/>
                <a:chOff x="6757200" y="3773880"/>
                <a:chExt cx="1464480" cy="256104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6757200" y="377388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6757200" y="420084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6757200" y="462780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6757200" y="590832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6757200" y="633492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6757200" y="505440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6757200" y="548136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99" name=""/>
                  <p:cNvSpPr txBox="1"/>
                  <p:nvPr/>
                </p:nvSpPr>
                <p:spPr>
                  <a:xfrm>
                    <a:off x="7123320" y="5878080"/>
                    <a:ext cx="650880" cy="548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00" name=""/>
            <p:cNvSpPr/>
            <p:nvPr/>
          </p:nvSpPr>
          <p:spPr>
            <a:xfrm>
              <a:off x="6467400" y="4473360"/>
              <a:ext cx="11714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Arial"/>
                </a:rPr>
                <a:t>electr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60560" y="5653080"/>
              <a:ext cx="9867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Arial"/>
                </a:rPr>
                <a:t>prot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6151680" y="3659040"/>
              <a:ext cx="2739600" cy="2925360"/>
              <a:chOff x="6151680" y="3659040"/>
              <a:chExt cx="2739600" cy="2925360"/>
            </a:xfrm>
          </p:grpSpPr>
          <p:grpSp>
            <p:nvGrpSpPr>
              <p:cNvPr id="103" name=""/>
              <p:cNvGrpSpPr/>
              <p:nvPr/>
            </p:nvGrpSpPr>
            <p:grpSpPr>
              <a:xfrm>
                <a:off x="6151680" y="3659040"/>
                <a:ext cx="2739600" cy="2925360"/>
                <a:chOff x="6151680" y="3659040"/>
                <a:chExt cx="2739600" cy="2925360"/>
              </a:xfrm>
            </p:grpSpPr>
            <p:pic>
              <p:nvPicPr>
                <p:cNvPr id="104" name="" descr=""/>
                <p:cNvPicPr/>
                <p:nvPr/>
              </p:nvPicPr>
              <p:blipFill>
                <a:blip r:embed="rId2"/>
                <a:srcRect l="58595" t="26835" r="15521" b="25210"/>
                <a:stretch/>
              </p:blipFill>
              <p:spPr>
                <a:xfrm>
                  <a:off x="6151680" y="3659040"/>
                  <a:ext cx="2739600" cy="2925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5" name=""/>
                <p:cNvGrpSpPr/>
                <p:nvPr/>
              </p:nvGrpSpPr>
              <p:grpSpPr>
                <a:xfrm>
                  <a:off x="6757200" y="3786480"/>
                  <a:ext cx="1464480" cy="2561040"/>
                  <a:chOff x="6757200" y="3786480"/>
                  <a:chExt cx="1464480" cy="2561040"/>
                </a:xfrm>
              </p:grpSpPr>
              <p:sp>
                <p:nvSpPr>
                  <p:cNvPr id="106" name=""/>
                  <p:cNvSpPr/>
                  <p:nvPr/>
                </p:nvSpPr>
                <p:spPr>
                  <a:xfrm>
                    <a:off x="6757200" y="378648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7200" y="421344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757200" y="464040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6757200" y="592092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6757200" y="634752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6757200" y="506700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6757200" y="549396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mc:AlternateContent>
              <mc:Choice xmlns:a14="http://schemas.microsoft.com/office/drawing/2010/main" Requires="a14">
                <p:sp>
                  <p:nvSpPr>
                    <p:cNvPr id="113" name=""/>
                    <p:cNvSpPr txBox="1"/>
                    <p:nvPr/>
                  </p:nvSpPr>
                  <p:spPr>
                    <a:xfrm>
                      <a:off x="7123320" y="5890680"/>
                      <a:ext cx="650880" cy="5486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E</m:t>
                              </m:r>
                            </m:e>
                          </m:acc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114" name=""/>
              <p:cNvSpPr/>
              <p:nvPr/>
            </p:nvSpPr>
            <p:spPr>
              <a:xfrm>
                <a:off x="6627960" y="4362120"/>
                <a:ext cx="117144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990000"/>
                    </a:solidFill>
                    <a:latin typeface="Arial"/>
                  </a:rPr>
                  <a:t>electro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621120" y="5541840"/>
                <a:ext cx="98676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990000"/>
                    </a:solidFill>
                    <a:latin typeface="Arial"/>
                  </a:rPr>
                  <a:t>proto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7345440" y="5427720"/>
              <a:ext cx="209520" cy="196920"/>
            </a:xfrm>
            <a:prstGeom prst="ellipse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99360" y="4653000"/>
              <a:ext cx="235080" cy="196920"/>
            </a:xfrm>
            <a:prstGeom prst="ellipse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624720" y="5352840"/>
              <a:ext cx="245880" cy="257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615000" y="4675320"/>
              <a:ext cx="284400" cy="295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281720" y="52974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72000" y="45115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4670280" y="2290680"/>
            <a:ext cx="4473720" cy="8812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27280"/>
            <a:ext cx="5753160" cy="269100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3514680"/>
            <a:ext cx="5740560" cy="26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Since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F = qE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and the proton and electron have 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ame charge in magnitude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, they both experience 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ame force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.  However, the forces point i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pposite directions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because the proton and electron ar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ppositely charged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-360" y="704520"/>
            <a:ext cx="4419720" cy="281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prot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an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electr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re in a constant electric field created by oppositely charged plates.  You release the 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prot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from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ositiv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ide and the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electr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from the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negativ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ide.  Which feels the larger electric forc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0" y="0"/>
            <a:ext cx="9144000" cy="38750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/>
          </p:nvPr>
        </p:nvSpPr>
        <p:spPr>
          <a:xfrm>
            <a:off x="299520" y="753840"/>
            <a:ext cx="8844120" cy="48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ich of these configurations gives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0 at all points on th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axi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2079720" y="3389400"/>
            <a:ext cx="5918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ll of the above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none of the abo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872400" y="2786040"/>
            <a:ext cx="1119240" cy="49356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5c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quipotential Surfaces II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88760" y="1285920"/>
            <a:ext cx="8036280" cy="1967760"/>
            <a:chOff x="788760" y="1285920"/>
            <a:chExt cx="8036280" cy="1967760"/>
          </a:xfrm>
        </p:grpSpPr>
        <p:sp>
          <p:nvSpPr>
            <p:cNvPr id="667" name=""/>
            <p:cNvSpPr/>
            <p:nvPr/>
          </p:nvSpPr>
          <p:spPr>
            <a:xfrm>
              <a:off x="1573200" y="2754360"/>
              <a:ext cx="60012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93240" bIns="932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1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116000" y="2124000"/>
              <a:ext cx="1514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6120" rIns="186120" tIns="-92880" bIns="-9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420920" y="1681200"/>
              <a:ext cx="846000" cy="842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92880" bIns="9288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366920" y="1636560"/>
              <a:ext cx="129960" cy="13032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-720" bIns="-72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336680" y="2463840"/>
              <a:ext cx="130320" cy="12996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-1080" bIns="-108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190600" y="2468520"/>
              <a:ext cx="130320" cy="13032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-720" bIns="-72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190600" y="1630440"/>
              <a:ext cx="130320" cy="12996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-1080" bIns="-108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523240" y="2038320"/>
              <a:ext cx="51480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93240" bIns="932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98120" y="1298520"/>
              <a:ext cx="99468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93240" bIns="932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ccecff"/>
                  </a:solidFill>
                  <a:latin typeface="Arial"/>
                </a:rPr>
                <a:t>+2</a:t>
              </a:r>
              <a:r>
                <a:rPr b="1" lang="en-US" sz="2000" spc="-1" strike="noStrike">
                  <a:solidFill>
                    <a:srgbClr val="ccecff"/>
                  </a:solidFill>
                  <a:latin typeface="Symbol"/>
                  <a:ea typeface="Symbol"/>
                </a:rPr>
                <a:t></a:t>
              </a:r>
              <a:r>
                <a:rPr b="1" lang="en-US" sz="2000" spc="-1" strike="noStrike">
                  <a:solidFill>
                    <a:srgbClr val="ccecff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88760" y="2486160"/>
              <a:ext cx="93060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93240" bIns="932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ccecff"/>
                  </a:solidFill>
                  <a:latin typeface="Arial"/>
                </a:rPr>
                <a:t>-2</a:t>
              </a:r>
              <a:r>
                <a:rPr b="1" lang="en-US" sz="2000" spc="-1" strike="noStrike">
                  <a:solidFill>
                    <a:srgbClr val="ccecff"/>
                  </a:solidFill>
                  <a:latin typeface="Symbol"/>
                  <a:ea typeface="Symbol"/>
                </a:rPr>
                <a:t></a:t>
              </a:r>
              <a:r>
                <a:rPr b="1" lang="en-US" sz="2000" spc="-1" strike="noStrike">
                  <a:solidFill>
                    <a:srgbClr val="ccecff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060280" y="1316160"/>
              <a:ext cx="99468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93240" bIns="932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ccecff"/>
                  </a:solidFill>
                  <a:latin typeface="Arial"/>
                </a:rPr>
                <a:t>+1</a:t>
              </a:r>
              <a:r>
                <a:rPr b="1" lang="en-US" sz="2000" spc="-1" strike="noStrike">
                  <a:solidFill>
                    <a:srgbClr val="ccecff"/>
                  </a:solidFill>
                  <a:latin typeface="Symbol"/>
                  <a:ea typeface="Symbol"/>
                </a:rPr>
                <a:t></a:t>
              </a:r>
              <a:r>
                <a:rPr b="1" lang="en-US" sz="2000" spc="-1" strike="noStrike">
                  <a:solidFill>
                    <a:srgbClr val="ccecff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138400" y="2454120"/>
              <a:ext cx="93060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93240" bIns="932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ccecff"/>
                  </a:solidFill>
                  <a:latin typeface="Arial"/>
                </a:rPr>
                <a:t>-1</a:t>
              </a:r>
              <a:r>
                <a:rPr b="1" lang="en-US" sz="2000" spc="-1" strike="noStrike">
                  <a:solidFill>
                    <a:srgbClr val="ccecff"/>
                  </a:solidFill>
                  <a:latin typeface="Symbol"/>
                  <a:ea typeface="Symbol"/>
                </a:rPr>
                <a:t></a:t>
              </a:r>
              <a:r>
                <a:rPr b="1" lang="en-US" sz="2000" spc="-1" strike="noStrike">
                  <a:solidFill>
                    <a:srgbClr val="ccecff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307040" y="2765520"/>
              <a:ext cx="60012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93240" bIns="932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2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851280" y="2125800"/>
              <a:ext cx="1514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6120" rIns="186120" tIns="-92880" bIns="-9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156200" y="1684440"/>
              <a:ext cx="846000" cy="842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92880" bIns="9288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102200" y="1639800"/>
              <a:ext cx="129960" cy="13032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-720" bIns="-72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071960" y="2465280"/>
              <a:ext cx="130320" cy="13032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-720" bIns="-72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925880" y="2470320"/>
              <a:ext cx="130320" cy="12996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-1080" bIns="-108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925880" y="1633680"/>
              <a:ext cx="130320" cy="12996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-1080" bIns="-108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258520" y="2041560"/>
              <a:ext cx="51480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93240" bIns="932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468240" y="1285920"/>
              <a:ext cx="99468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93240" bIns="932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ccecff"/>
                  </a:solidFill>
                  <a:latin typeface="Arial"/>
                </a:rPr>
                <a:t>+2</a:t>
              </a:r>
              <a:r>
                <a:rPr b="1" lang="en-US" sz="2000" spc="-1" strike="noStrike">
                  <a:solidFill>
                    <a:srgbClr val="ccecff"/>
                  </a:solidFill>
                  <a:latin typeface="Symbol"/>
                  <a:ea typeface="Symbol"/>
                </a:rPr>
                <a:t></a:t>
              </a:r>
              <a:r>
                <a:rPr b="1" lang="en-US" sz="2000" spc="-1" strike="noStrike">
                  <a:solidFill>
                    <a:srgbClr val="ccecff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524040" y="2505240"/>
              <a:ext cx="93060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93240" bIns="932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ccecff"/>
                  </a:solidFill>
                  <a:latin typeface="Arial"/>
                </a:rPr>
                <a:t>-1</a:t>
              </a:r>
              <a:r>
                <a:rPr b="1" lang="en-US" sz="2000" spc="-1" strike="noStrike">
                  <a:solidFill>
                    <a:srgbClr val="ccecff"/>
                  </a:solidFill>
                  <a:latin typeface="Symbol"/>
                  <a:ea typeface="Symbol"/>
                </a:rPr>
                <a:t></a:t>
              </a:r>
              <a:r>
                <a:rPr b="1" lang="en-US" sz="2000" spc="-1" strike="noStrike">
                  <a:solidFill>
                    <a:srgbClr val="ccecff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828680" y="1335240"/>
              <a:ext cx="99468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93240" bIns="932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ccecff"/>
                  </a:solidFill>
                  <a:latin typeface="Arial"/>
                </a:rPr>
                <a:t>+1</a:t>
              </a:r>
              <a:r>
                <a:rPr b="1" lang="en-US" sz="2000" spc="-1" strike="noStrike">
                  <a:solidFill>
                    <a:srgbClr val="ccecff"/>
                  </a:solidFill>
                  <a:latin typeface="Symbol"/>
                  <a:ea typeface="Symbol"/>
                </a:rPr>
                <a:t></a:t>
              </a:r>
              <a:r>
                <a:rPr b="1" lang="en-US" sz="2000" spc="-1" strike="noStrike">
                  <a:solidFill>
                    <a:srgbClr val="ccecff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938480" y="2471760"/>
              <a:ext cx="93060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93240" bIns="932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ccecff"/>
                  </a:solidFill>
                  <a:latin typeface="Arial"/>
                </a:rPr>
                <a:t>-2</a:t>
              </a:r>
              <a:r>
                <a:rPr b="1" lang="en-US" sz="2000" spc="-1" strike="noStrike">
                  <a:solidFill>
                    <a:srgbClr val="ccecff"/>
                  </a:solidFill>
                  <a:latin typeface="Symbol"/>
                  <a:ea typeface="Symbol"/>
                </a:rPr>
                <a:t></a:t>
              </a:r>
              <a:r>
                <a:rPr b="1" lang="en-US" sz="2000" spc="-1" strike="noStrike">
                  <a:solidFill>
                    <a:srgbClr val="ccecff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148520" y="2792520"/>
              <a:ext cx="60012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93240" bIns="932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3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673680" y="2128680"/>
              <a:ext cx="1514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6120" rIns="186120" tIns="-92880" bIns="-9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977160" y="1684440"/>
              <a:ext cx="847800" cy="847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92880" bIns="9288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924600" y="1641600"/>
              <a:ext cx="130320" cy="12996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-1080" bIns="-108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894360" y="2470320"/>
              <a:ext cx="130320" cy="13176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720" bIns="72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748640" y="2475000"/>
              <a:ext cx="129960" cy="12996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-1080" bIns="-108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748640" y="1635120"/>
              <a:ext cx="129960" cy="13032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-720" bIns="-72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080920" y="2043000"/>
              <a:ext cx="51480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93240" bIns="932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324120" y="1285920"/>
              <a:ext cx="99468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93240" bIns="932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ccecff"/>
                  </a:solidFill>
                  <a:latin typeface="Arial"/>
                </a:rPr>
                <a:t>+2</a:t>
              </a:r>
              <a:r>
                <a:rPr b="1" lang="en-US" sz="2000" spc="-1" strike="noStrike">
                  <a:solidFill>
                    <a:srgbClr val="ccecff"/>
                  </a:solidFill>
                  <a:latin typeface="Symbol"/>
                  <a:ea typeface="Symbol"/>
                </a:rPr>
                <a:t></a:t>
              </a:r>
              <a:r>
                <a:rPr b="1" lang="en-US" sz="2000" spc="-1" strike="noStrike">
                  <a:solidFill>
                    <a:srgbClr val="ccecff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346800" y="2494080"/>
              <a:ext cx="93060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93240" bIns="932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ccecff"/>
                  </a:solidFill>
                  <a:latin typeface="Arial"/>
                </a:rPr>
                <a:t>-1</a:t>
              </a:r>
              <a:r>
                <a:rPr b="1" lang="en-US" sz="2000" spc="-1" strike="noStrike">
                  <a:solidFill>
                    <a:srgbClr val="ccecff"/>
                  </a:solidFill>
                  <a:latin typeface="Symbol"/>
                  <a:ea typeface="Symbol"/>
                </a:rPr>
                <a:t></a:t>
              </a:r>
              <a:r>
                <a:rPr b="1" lang="en-US" sz="2000" spc="-1" strike="noStrike">
                  <a:solidFill>
                    <a:srgbClr val="ccecff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651800" y="1319040"/>
              <a:ext cx="93060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120" rIns="186120" tIns="93240" bIns="932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ccecff"/>
                  </a:solidFill>
                  <a:latin typeface="Arial"/>
                </a:rPr>
                <a:t>-2</a:t>
              </a:r>
              <a:r>
                <a:rPr b="1" lang="en-US" sz="2000" spc="-1" strike="noStrike">
                  <a:solidFill>
                    <a:srgbClr val="ccecff"/>
                  </a:solidFill>
                  <a:latin typeface="Symbol"/>
                  <a:ea typeface="Symbol"/>
                </a:rPr>
                <a:t></a:t>
              </a:r>
              <a:r>
                <a:rPr b="1" lang="en-US" sz="2000" spc="-1" strike="noStrike">
                  <a:solidFill>
                    <a:srgbClr val="ccecff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763040" y="2478240"/>
              <a:ext cx="106200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6120" rIns="186120" tIns="93240" bIns="932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ccecff"/>
                  </a:solidFill>
                  <a:latin typeface="Arial"/>
                </a:rPr>
                <a:t>+1</a:t>
              </a:r>
              <a:r>
                <a:rPr b="1" lang="en-US" sz="2000" spc="-1" strike="noStrike">
                  <a:solidFill>
                    <a:srgbClr val="ccecff"/>
                  </a:solidFill>
                  <a:latin typeface="Symbol"/>
                  <a:ea typeface="Symbol"/>
                </a:rPr>
                <a:t></a:t>
              </a:r>
              <a:r>
                <a:rPr b="1" lang="en-US" sz="2000" spc="-1" strike="noStrike">
                  <a:solidFill>
                    <a:srgbClr val="ccecff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3" name=""/>
          <p:cNvSpPr/>
          <p:nvPr/>
        </p:nvSpPr>
        <p:spPr>
          <a:xfrm>
            <a:off x="1490760" y="4071960"/>
            <a:ext cx="6122880" cy="192240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494000" y="4159080"/>
            <a:ext cx="60721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Only in case (3), where opposite charges lie directly across the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y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-axis from each other, do the potentials from the two charges above the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y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-axis cancel the ones below the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y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-axi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525680" y="6207120"/>
            <a:ext cx="6000480" cy="398880"/>
          </a:xfrm>
          <a:prstGeom prst="rect">
            <a:avLst/>
          </a:prstGeom>
          <a:solidFill>
            <a:srgbClr val="3366ff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-up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Where is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0 for configuration 2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0" y="0"/>
            <a:ext cx="9144000" cy="30830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/>
          </p:nvPr>
        </p:nvSpPr>
        <p:spPr>
          <a:xfrm>
            <a:off x="442800" y="1209240"/>
            <a:ext cx="3640320" cy="14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ich two points have th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m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potentia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202360" y="790560"/>
            <a:ext cx="2730240" cy="22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 and 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 and 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 and 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 C and 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 no pai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2880360" y="3414600"/>
            <a:ext cx="3494160" cy="3001320"/>
            <a:chOff x="2880360" y="3414600"/>
            <a:chExt cx="3494160" cy="3001320"/>
          </a:xfrm>
        </p:grpSpPr>
        <p:grpSp>
          <p:nvGrpSpPr>
            <p:cNvPr id="712" name=""/>
            <p:cNvGrpSpPr/>
            <p:nvPr/>
          </p:nvGrpSpPr>
          <p:grpSpPr>
            <a:xfrm>
              <a:off x="3238560" y="3525840"/>
              <a:ext cx="2872440" cy="2890080"/>
              <a:chOff x="3238560" y="3525840"/>
              <a:chExt cx="2872440" cy="2890080"/>
            </a:xfrm>
          </p:grpSpPr>
          <p:sp>
            <p:nvSpPr>
              <p:cNvPr id="713" name=""/>
              <p:cNvSpPr/>
              <p:nvPr/>
            </p:nvSpPr>
            <p:spPr>
              <a:xfrm>
                <a:off x="4478400" y="4749120"/>
                <a:ext cx="399240" cy="402480"/>
              </a:xfrm>
              <a:prstGeom prst="ellipse">
                <a:avLst/>
              </a:prstGeom>
              <a:solidFill>
                <a:srgbClr val="fc012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005360" y="4276800"/>
                <a:ext cx="1352160" cy="1360440"/>
              </a:xfrm>
              <a:prstGeom prst="ellipse">
                <a:avLst/>
              </a:prstGeom>
              <a:noFill/>
              <a:ln w="12600">
                <a:solidFill>
                  <a:srgbClr val="99cc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3238560" y="3525840"/>
                <a:ext cx="2872440" cy="2890080"/>
              </a:xfrm>
              <a:prstGeom prst="ellipse">
                <a:avLst/>
              </a:prstGeom>
              <a:noFill/>
              <a:ln w="12600">
                <a:solidFill>
                  <a:srgbClr val="99cc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3618360" y="3891600"/>
                <a:ext cx="2112480" cy="2125440"/>
              </a:xfrm>
              <a:prstGeom prst="ellipse">
                <a:avLst/>
              </a:prstGeom>
              <a:noFill/>
              <a:ln w="12600">
                <a:solidFill>
                  <a:srgbClr val="99cc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17" name=""/>
            <p:cNvSpPr/>
            <p:nvPr/>
          </p:nvSpPr>
          <p:spPr>
            <a:xfrm>
              <a:off x="5850000" y="341460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144600" y="4732200"/>
              <a:ext cx="18288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641920" y="4709880"/>
              <a:ext cx="182520" cy="182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045040" y="436392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936960" y="476100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974200" y="3446280"/>
              <a:ext cx="4003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158440" y="4091040"/>
              <a:ext cx="4003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880360" y="4833720"/>
              <a:ext cx="4003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706000" y="4844880"/>
              <a:ext cx="4003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038840" y="4924440"/>
              <a:ext cx="3834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466520" y="4735440"/>
              <a:ext cx="4183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8" name="PlaceHolder 2"/>
          <p:cNvSpPr>
            <a:spLocks noGrp="1"/>
          </p:cNvSpPr>
          <p:nvPr>
            <p:ph type="title"/>
          </p:nvPr>
        </p:nvSpPr>
        <p:spPr>
          <a:xfrm>
            <a:off x="453960" y="0"/>
            <a:ext cx="83534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6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quipotential of Point Charge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92840" y="4309920"/>
            <a:ext cx="1346400" cy="13636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0" y="3191040"/>
            <a:ext cx="5491080" cy="31035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0" y="3265560"/>
            <a:ext cx="5522760" cy="28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Since the potential of a point charge i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only points that are at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ame distance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from charge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are at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ame potential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.  This is true for points C and 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They lie on an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Equipotential Surface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0" y="0"/>
            <a:ext cx="9144000" cy="30830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937040" y="2098800"/>
            <a:ext cx="2378160" cy="51912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/>
          </p:nvPr>
        </p:nvSpPr>
        <p:spPr>
          <a:xfrm>
            <a:off x="442800" y="1209240"/>
            <a:ext cx="3640320" cy="14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ich two points have th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m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potentia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202360" y="790560"/>
            <a:ext cx="2730240" cy="22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 and 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 and 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 and 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 C and 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 no pai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5647320" y="3438360"/>
            <a:ext cx="3494160" cy="3001320"/>
            <a:chOff x="5647320" y="3438360"/>
            <a:chExt cx="3494160" cy="3001320"/>
          </a:xfrm>
        </p:grpSpPr>
        <p:grpSp>
          <p:nvGrpSpPr>
            <p:cNvPr id="739" name=""/>
            <p:cNvGrpSpPr/>
            <p:nvPr/>
          </p:nvGrpSpPr>
          <p:grpSpPr>
            <a:xfrm>
              <a:off x="6005520" y="3549600"/>
              <a:ext cx="2872440" cy="2890080"/>
              <a:chOff x="6005520" y="3549600"/>
              <a:chExt cx="2872440" cy="2890080"/>
            </a:xfrm>
          </p:grpSpPr>
          <p:sp>
            <p:nvSpPr>
              <p:cNvPr id="740" name=""/>
              <p:cNvSpPr/>
              <p:nvPr/>
            </p:nvSpPr>
            <p:spPr>
              <a:xfrm>
                <a:off x="7245360" y="4772880"/>
                <a:ext cx="399240" cy="402480"/>
              </a:xfrm>
              <a:prstGeom prst="ellipse">
                <a:avLst/>
              </a:prstGeom>
              <a:solidFill>
                <a:srgbClr val="fc012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772320" y="4300560"/>
                <a:ext cx="1352160" cy="1360440"/>
              </a:xfrm>
              <a:prstGeom prst="ellipse">
                <a:avLst/>
              </a:prstGeom>
              <a:noFill/>
              <a:ln w="12600">
                <a:solidFill>
                  <a:srgbClr val="99cc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6005520" y="3549600"/>
                <a:ext cx="2872440" cy="2890080"/>
              </a:xfrm>
              <a:prstGeom prst="ellipse">
                <a:avLst/>
              </a:prstGeom>
              <a:noFill/>
              <a:ln w="12600">
                <a:solidFill>
                  <a:srgbClr val="99cc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6385320" y="3915360"/>
                <a:ext cx="2112480" cy="2125440"/>
              </a:xfrm>
              <a:prstGeom prst="ellipse">
                <a:avLst/>
              </a:prstGeom>
              <a:noFill/>
              <a:ln w="12600">
                <a:solidFill>
                  <a:srgbClr val="99cc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44" name=""/>
            <p:cNvSpPr/>
            <p:nvPr/>
          </p:nvSpPr>
          <p:spPr>
            <a:xfrm>
              <a:off x="8616960" y="343836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911560" y="4755960"/>
              <a:ext cx="18288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408880" y="4733640"/>
              <a:ext cx="182520" cy="182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812000" y="438768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703920" y="478476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8741160" y="3470040"/>
              <a:ext cx="4003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925400" y="4114800"/>
              <a:ext cx="4003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647320" y="4857480"/>
              <a:ext cx="4003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8472960" y="4868640"/>
              <a:ext cx="4003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805800" y="4948200"/>
              <a:ext cx="3834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233480" y="4759200"/>
              <a:ext cx="4183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55" name=""/>
              <p:cNvSpPr txBox="1"/>
              <p:nvPr/>
            </p:nvSpPr>
            <p:spPr>
              <a:xfrm>
                <a:off x="2060640" y="3713040"/>
                <a:ext cx="130500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k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6" name="PlaceHolder 2"/>
          <p:cNvSpPr>
            <a:spLocks noGrp="1"/>
          </p:cNvSpPr>
          <p:nvPr>
            <p:ph type="title"/>
          </p:nvPr>
        </p:nvSpPr>
        <p:spPr>
          <a:xfrm>
            <a:off x="453960" y="0"/>
            <a:ext cx="83534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6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quipotential of Point Charge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0" y="6451560"/>
            <a:ext cx="6404040" cy="398880"/>
          </a:xfrm>
          <a:prstGeom prst="rect">
            <a:avLst/>
          </a:prstGeom>
          <a:solidFill>
            <a:srgbClr val="3366ff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-up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Which point has the smallest potential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0" y="0"/>
            <a:ext cx="9144000" cy="33289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/>
          </p:nvPr>
        </p:nvSpPr>
        <p:spPr>
          <a:xfrm>
            <a:off x="-360" y="858600"/>
            <a:ext cx="4530600" cy="226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ich requires the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most wor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to move a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ositiv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harge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om 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to point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?    All points are the same distance from 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5440320" y="781200"/>
            <a:ext cx="3703680" cy="22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all require the same amount of 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63" name=""/>
          <p:cNvGrpSpPr/>
          <p:nvPr/>
        </p:nvGrpSpPr>
        <p:grpSpPr>
          <a:xfrm>
            <a:off x="2905200" y="3551400"/>
            <a:ext cx="3530520" cy="2840040"/>
            <a:chOff x="2905200" y="3551400"/>
            <a:chExt cx="3530520" cy="2840040"/>
          </a:xfrm>
        </p:grpSpPr>
        <p:sp>
          <p:nvSpPr>
            <p:cNvPr id="764" name=""/>
            <p:cNvSpPr/>
            <p:nvPr/>
          </p:nvSpPr>
          <p:spPr>
            <a:xfrm>
              <a:off x="2905200" y="3551400"/>
              <a:ext cx="3530520" cy="284004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65" name=""/>
            <p:cNvGrpSpPr/>
            <p:nvPr/>
          </p:nvGrpSpPr>
          <p:grpSpPr>
            <a:xfrm>
              <a:off x="3097080" y="3827520"/>
              <a:ext cx="2438280" cy="1765080"/>
              <a:chOff x="3097080" y="3827520"/>
              <a:chExt cx="2438280" cy="1765080"/>
            </a:xfrm>
          </p:grpSpPr>
          <p:sp>
            <p:nvSpPr>
              <p:cNvPr id="766" name=""/>
              <p:cNvSpPr/>
              <p:nvPr/>
            </p:nvSpPr>
            <p:spPr>
              <a:xfrm>
                <a:off x="3097080" y="3827520"/>
                <a:ext cx="243828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3097080" y="4415760"/>
                <a:ext cx="243828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097080" y="5004360"/>
                <a:ext cx="243828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97080" y="5592600"/>
                <a:ext cx="243828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0" name=""/>
            <p:cNvSpPr/>
            <p:nvPr/>
          </p:nvSpPr>
          <p:spPr>
            <a:xfrm flipH="1">
              <a:off x="3693960" y="5313600"/>
              <a:ext cx="110520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 flipV="1">
              <a:off x="4017600" y="4532400"/>
              <a:ext cx="781200" cy="7812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4799160" y="4208400"/>
              <a:ext cx="0" cy="11048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621320" y="5280840"/>
              <a:ext cx="3834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329280" y="509004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684960" y="445536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472280" y="392184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7" name=""/>
                <p:cNvSpPr txBox="1"/>
                <p:nvPr/>
              </p:nvSpPr>
              <p:spPr>
                <a:xfrm>
                  <a:off x="4711680" y="5729400"/>
                  <a:ext cx="650880" cy="54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E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778" name=""/>
            <p:cNvSpPr/>
            <p:nvPr/>
          </p:nvSpPr>
          <p:spPr>
            <a:xfrm>
              <a:off x="4817880" y="5313600"/>
              <a:ext cx="110520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966280" y="509652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8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7a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Work and Electric Potential 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31920" y="3973680"/>
            <a:ext cx="4754520" cy="215244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65040" y="4097160"/>
            <a:ext cx="47786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F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ath 1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, you have to push the positive charge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against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the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field, which i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ard to do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.  By contrast, path #4 is the easiest, since the field does all the work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0" y="0"/>
            <a:ext cx="9144000" cy="33289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099040" y="731880"/>
            <a:ext cx="2479680" cy="4348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/>
          </p:nvPr>
        </p:nvSpPr>
        <p:spPr>
          <a:xfrm>
            <a:off x="-360" y="858600"/>
            <a:ext cx="4530600" cy="226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ich requires the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most wor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to move a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ositiv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harge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om 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to point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?    All points are the same distance from 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5440320" y="781200"/>
            <a:ext cx="3703680" cy="22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all require the same amount of 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5403960" y="3564000"/>
            <a:ext cx="3530520" cy="2840040"/>
            <a:chOff x="5403960" y="3564000"/>
            <a:chExt cx="3530520" cy="2840040"/>
          </a:xfrm>
        </p:grpSpPr>
        <p:sp>
          <p:nvSpPr>
            <p:cNvPr id="790" name=""/>
            <p:cNvSpPr/>
            <p:nvPr/>
          </p:nvSpPr>
          <p:spPr>
            <a:xfrm>
              <a:off x="5403960" y="3564000"/>
              <a:ext cx="3530520" cy="284004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91" name=""/>
            <p:cNvGrpSpPr/>
            <p:nvPr/>
          </p:nvGrpSpPr>
          <p:grpSpPr>
            <a:xfrm>
              <a:off x="5595840" y="3840120"/>
              <a:ext cx="2438280" cy="1765080"/>
              <a:chOff x="5595840" y="3840120"/>
              <a:chExt cx="2438280" cy="1765080"/>
            </a:xfrm>
          </p:grpSpPr>
          <p:sp>
            <p:nvSpPr>
              <p:cNvPr id="792" name=""/>
              <p:cNvSpPr/>
              <p:nvPr/>
            </p:nvSpPr>
            <p:spPr>
              <a:xfrm>
                <a:off x="5595840" y="3840120"/>
                <a:ext cx="243828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5595840" y="4428360"/>
                <a:ext cx="243828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5595840" y="5016960"/>
                <a:ext cx="243828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5595840" y="5605200"/>
                <a:ext cx="243828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96" name=""/>
            <p:cNvSpPr/>
            <p:nvPr/>
          </p:nvSpPr>
          <p:spPr>
            <a:xfrm flipH="1">
              <a:off x="6192720" y="5326200"/>
              <a:ext cx="110520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 flipV="1">
              <a:off x="6516360" y="4545000"/>
              <a:ext cx="781200" cy="7812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>
              <a:off x="7297920" y="4221000"/>
              <a:ext cx="0" cy="11048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120080" y="5293440"/>
              <a:ext cx="3834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828040" y="510264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183720" y="446796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971040" y="393444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3" name=""/>
                <p:cNvSpPr txBox="1"/>
                <p:nvPr/>
              </p:nvSpPr>
              <p:spPr>
                <a:xfrm>
                  <a:off x="7210440" y="5742000"/>
                  <a:ext cx="650880" cy="54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E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804" name=""/>
            <p:cNvSpPr/>
            <p:nvPr/>
          </p:nvSpPr>
          <p:spPr>
            <a:xfrm>
              <a:off x="7316640" y="5326200"/>
              <a:ext cx="110520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8465040" y="510912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7a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Work and Electric Potential 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0" y="0"/>
            <a:ext cx="9144000" cy="33289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/>
          </p:nvPr>
        </p:nvSpPr>
        <p:spPr>
          <a:xfrm>
            <a:off x="-360" y="858600"/>
            <a:ext cx="4249800" cy="226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ich requires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zero wor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to move a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ositiv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harge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om 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to point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?    All points are the same distance from 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440320" y="781200"/>
            <a:ext cx="3703680" cy="22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all require the same amount of 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2" name=""/>
          <p:cNvGrpSpPr/>
          <p:nvPr/>
        </p:nvGrpSpPr>
        <p:grpSpPr>
          <a:xfrm>
            <a:off x="2746440" y="3564000"/>
            <a:ext cx="3530520" cy="2840040"/>
            <a:chOff x="2746440" y="3564000"/>
            <a:chExt cx="3530520" cy="2840040"/>
          </a:xfrm>
        </p:grpSpPr>
        <p:sp>
          <p:nvSpPr>
            <p:cNvPr id="813" name=""/>
            <p:cNvSpPr/>
            <p:nvPr/>
          </p:nvSpPr>
          <p:spPr>
            <a:xfrm>
              <a:off x="2746440" y="3564000"/>
              <a:ext cx="3530520" cy="284004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14" name=""/>
            <p:cNvGrpSpPr/>
            <p:nvPr/>
          </p:nvGrpSpPr>
          <p:grpSpPr>
            <a:xfrm>
              <a:off x="2938320" y="3840120"/>
              <a:ext cx="2438280" cy="1765080"/>
              <a:chOff x="2938320" y="3840120"/>
              <a:chExt cx="2438280" cy="1765080"/>
            </a:xfrm>
          </p:grpSpPr>
          <p:sp>
            <p:nvSpPr>
              <p:cNvPr id="815" name=""/>
              <p:cNvSpPr/>
              <p:nvPr/>
            </p:nvSpPr>
            <p:spPr>
              <a:xfrm>
                <a:off x="2938320" y="3840120"/>
                <a:ext cx="243828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2938320" y="4428360"/>
                <a:ext cx="243828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2938320" y="5016960"/>
                <a:ext cx="243828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2938320" y="5605200"/>
                <a:ext cx="243828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19" name=""/>
            <p:cNvSpPr/>
            <p:nvPr/>
          </p:nvSpPr>
          <p:spPr>
            <a:xfrm flipH="1">
              <a:off x="3535200" y="5326200"/>
              <a:ext cx="110520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 flipV="1">
              <a:off x="3858840" y="4545000"/>
              <a:ext cx="781200" cy="7812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4640400" y="4221000"/>
              <a:ext cx="0" cy="11048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462560" y="5293440"/>
              <a:ext cx="3834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170520" y="510264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526200" y="446796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313520" y="393444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6" name=""/>
                <p:cNvSpPr txBox="1"/>
                <p:nvPr/>
              </p:nvSpPr>
              <p:spPr>
                <a:xfrm>
                  <a:off x="4552920" y="5742000"/>
                  <a:ext cx="650880" cy="54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E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827" name=""/>
            <p:cNvSpPr/>
            <p:nvPr/>
          </p:nvSpPr>
          <p:spPr>
            <a:xfrm>
              <a:off x="4659120" y="5326200"/>
              <a:ext cx="110520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807520" y="510912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29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7b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Work and Electric Potential I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06440" y="3608280"/>
            <a:ext cx="4632120" cy="20797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20680" y="3622680"/>
            <a:ext cx="48132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F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ath 3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, you are moving in a direction perpendicular to the field lines.  This means you are moving along an equipotential, which requires no work (by definition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0" y="0"/>
            <a:ext cx="9144000" cy="33289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013360" y="1525680"/>
            <a:ext cx="2479680" cy="4348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/>
          </p:nvPr>
        </p:nvSpPr>
        <p:spPr>
          <a:xfrm>
            <a:off x="-360" y="858600"/>
            <a:ext cx="4249800" cy="226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ich requires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zero wor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to move a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ositiv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harge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om 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to point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?    All points are the same distance from 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5440320" y="781200"/>
            <a:ext cx="3703680" cy="22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all require the same amount of 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8" name=""/>
          <p:cNvGrpSpPr/>
          <p:nvPr/>
        </p:nvGrpSpPr>
        <p:grpSpPr>
          <a:xfrm>
            <a:off x="5403960" y="3564000"/>
            <a:ext cx="3530520" cy="2840040"/>
            <a:chOff x="5403960" y="3564000"/>
            <a:chExt cx="3530520" cy="2840040"/>
          </a:xfrm>
        </p:grpSpPr>
        <p:sp>
          <p:nvSpPr>
            <p:cNvPr id="839" name=""/>
            <p:cNvSpPr/>
            <p:nvPr/>
          </p:nvSpPr>
          <p:spPr>
            <a:xfrm>
              <a:off x="5403960" y="3564000"/>
              <a:ext cx="3530520" cy="284004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40" name=""/>
            <p:cNvGrpSpPr/>
            <p:nvPr/>
          </p:nvGrpSpPr>
          <p:grpSpPr>
            <a:xfrm>
              <a:off x="5595840" y="3840120"/>
              <a:ext cx="2438280" cy="1765080"/>
              <a:chOff x="5595840" y="3840120"/>
              <a:chExt cx="2438280" cy="1765080"/>
            </a:xfrm>
          </p:grpSpPr>
          <p:sp>
            <p:nvSpPr>
              <p:cNvPr id="841" name=""/>
              <p:cNvSpPr/>
              <p:nvPr/>
            </p:nvSpPr>
            <p:spPr>
              <a:xfrm>
                <a:off x="5595840" y="3840120"/>
                <a:ext cx="243828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595840" y="4428360"/>
                <a:ext cx="243828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5595840" y="5016960"/>
                <a:ext cx="243828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5595840" y="5605200"/>
                <a:ext cx="243828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45" name=""/>
            <p:cNvSpPr/>
            <p:nvPr/>
          </p:nvSpPr>
          <p:spPr>
            <a:xfrm flipH="1">
              <a:off x="6192720" y="5326200"/>
              <a:ext cx="110520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 flipV="1">
              <a:off x="6516360" y="4545000"/>
              <a:ext cx="781200" cy="7812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V="1">
              <a:off x="7297920" y="4221000"/>
              <a:ext cx="0" cy="11048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120080" y="5293440"/>
              <a:ext cx="3834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828040" y="510264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183720" y="446796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971040" y="393444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2" name=""/>
                <p:cNvSpPr txBox="1"/>
                <p:nvPr/>
              </p:nvSpPr>
              <p:spPr>
                <a:xfrm>
                  <a:off x="7210440" y="5742000"/>
                  <a:ext cx="650880" cy="54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E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853" name=""/>
            <p:cNvSpPr/>
            <p:nvPr/>
          </p:nvSpPr>
          <p:spPr>
            <a:xfrm>
              <a:off x="7316640" y="5326200"/>
              <a:ext cx="110520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8465040" y="510912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5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7b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Work and Electric Potential I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0" y="6178680"/>
            <a:ext cx="6026040" cy="398880"/>
          </a:xfrm>
          <a:prstGeom prst="rect">
            <a:avLst/>
          </a:prstGeom>
          <a:solidFill>
            <a:srgbClr val="3366ff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-up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Which path requires the least work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0" y="0"/>
            <a:ext cx="9144000" cy="30574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/>
          </p:nvPr>
        </p:nvSpPr>
        <p:spPr>
          <a:xfrm>
            <a:off x="0" y="752040"/>
            <a:ext cx="4618080" cy="235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pacitor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connected across a battery of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 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An identical capacitor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connected across a battery of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10 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Which one has the most char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5219640" y="858960"/>
            <a:ext cx="392904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both have the same char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it depends on other fa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8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apacitor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/>
          <p:nvPr/>
        </p:nvSpPr>
        <p:spPr>
          <a:xfrm>
            <a:off x="228600" y="3811680"/>
            <a:ext cx="5230800" cy="190980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7240" y="3902040"/>
            <a:ext cx="5503680" cy="17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Since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C V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and the two capacitors are identical, the one that is connected to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reater voltage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has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st charge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, which is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in this cas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0" y="0"/>
            <a:ext cx="9144000" cy="30574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/>
          </p:nvPr>
        </p:nvSpPr>
        <p:spPr>
          <a:xfrm>
            <a:off x="0" y="752040"/>
            <a:ext cx="4618080" cy="235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pacitor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connected across a battery of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 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An identical capacitor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connected across a battery of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10 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Which one has the most char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5219640" y="858960"/>
            <a:ext cx="392904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both have the same char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it depends on other fa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894200" y="1319040"/>
            <a:ext cx="1660680" cy="4384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8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apacitor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"/>
          <p:cNvSpPr/>
          <p:nvPr/>
        </p:nvSpPr>
        <p:spPr>
          <a:xfrm>
            <a:off x="0" y="0"/>
            <a:ext cx="9144000" cy="30574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705120" y="635040"/>
            <a:ext cx="5438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crease the area of the plates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ecrease separation between the pla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decrease the area of the pla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either (1) or (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either (2) or (3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/>
          </p:nvPr>
        </p:nvSpPr>
        <p:spPr>
          <a:xfrm>
            <a:off x="0" y="731880"/>
            <a:ext cx="3432240" cy="216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must be done to a capacitor in order to increase the amount of charge it can hold (for a constant voltage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3201840" y="3108240"/>
            <a:ext cx="3016440" cy="3749400"/>
            <a:chOff x="3201840" y="3108240"/>
            <a:chExt cx="3016440" cy="3749400"/>
          </a:xfrm>
        </p:grpSpPr>
        <p:sp>
          <p:nvSpPr>
            <p:cNvPr id="872" name=""/>
            <p:cNvSpPr/>
            <p:nvPr/>
          </p:nvSpPr>
          <p:spPr>
            <a:xfrm>
              <a:off x="3914640" y="5403600"/>
              <a:ext cx="1393920" cy="1003680"/>
            </a:xfrm>
            <a:prstGeom prst="ellipse">
              <a:avLst/>
            </a:prstGeom>
            <a:noFill/>
            <a:ln w="93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284640" y="4950360"/>
              <a:ext cx="2651040" cy="1907280"/>
            </a:xfrm>
            <a:prstGeom prst="ellipse">
              <a:avLst/>
            </a:prstGeom>
            <a:noFill/>
            <a:ln w="93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74" name="" descr=""/>
            <p:cNvPicPr/>
            <p:nvPr/>
          </p:nvPicPr>
          <p:blipFill>
            <a:blip r:embed="rId1"/>
            <a:srcRect l="13858" t="11934" r="48265" b="7096"/>
            <a:stretch/>
          </p:blipFill>
          <p:spPr>
            <a:xfrm>
              <a:off x="3203640" y="3108240"/>
              <a:ext cx="3014640" cy="250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5" name="" descr=""/>
            <p:cNvPicPr/>
            <p:nvPr/>
          </p:nvPicPr>
          <p:blipFill>
            <a:blip r:embed="rId2"/>
            <a:srcRect l="26494" t="55580" r="28258" b="16498"/>
            <a:stretch/>
          </p:blipFill>
          <p:spPr>
            <a:xfrm>
              <a:off x="3203640" y="5582160"/>
              <a:ext cx="3006720" cy="107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"/>
            <p:cNvSpPr/>
            <p:nvPr/>
          </p:nvSpPr>
          <p:spPr>
            <a:xfrm>
              <a:off x="3424320" y="4242240"/>
              <a:ext cx="2880" cy="225504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029280" y="4230720"/>
              <a:ext cx="3240" cy="226116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201840" y="5183280"/>
              <a:ext cx="198720" cy="22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013640" y="3323160"/>
              <a:ext cx="5968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 Black"/>
                </a:rPr>
                <a:t>+Q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619160" y="3316680"/>
              <a:ext cx="5752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 Black"/>
                </a:rPr>
                <a:t>–</a:t>
              </a:r>
              <a:r>
                <a:rPr b="1" lang="en-US" sz="2400" spc="-1" strike="noStrike">
                  <a:solidFill>
                    <a:srgbClr val="000099"/>
                  </a:solidFill>
                  <a:latin typeface="Arial Black"/>
                </a:rPr>
                <a:t>Q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81" name="PlaceHolder 2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9a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Varying Capacitance 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9144000" cy="3429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0" y="1219320"/>
            <a:ext cx="41911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249720" y="3638520"/>
            <a:ext cx="2739600" cy="2937960"/>
            <a:chOff x="3249720" y="3638520"/>
            <a:chExt cx="2739600" cy="2937960"/>
          </a:xfrm>
        </p:grpSpPr>
        <p:grpSp>
          <p:nvGrpSpPr>
            <p:cNvPr id="131" name=""/>
            <p:cNvGrpSpPr/>
            <p:nvPr/>
          </p:nvGrpSpPr>
          <p:grpSpPr>
            <a:xfrm>
              <a:off x="3249720" y="3638520"/>
              <a:ext cx="2739600" cy="2925360"/>
              <a:chOff x="3249720" y="3638520"/>
              <a:chExt cx="2739600" cy="2925360"/>
            </a:xfrm>
          </p:grpSpPr>
          <p:pic>
            <p:nvPicPr>
              <p:cNvPr id="132" name="" descr=""/>
              <p:cNvPicPr/>
              <p:nvPr/>
            </p:nvPicPr>
            <p:blipFill>
              <a:blip r:embed="rId1"/>
              <a:srcRect l="58595" t="26835" r="15521" b="25210"/>
              <a:stretch/>
            </p:blipFill>
            <p:spPr>
              <a:xfrm>
                <a:off x="3249720" y="3638520"/>
                <a:ext cx="2739600" cy="2925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33" name=""/>
              <p:cNvGrpSpPr/>
              <p:nvPr/>
            </p:nvGrpSpPr>
            <p:grpSpPr>
              <a:xfrm>
                <a:off x="3855240" y="3765960"/>
                <a:ext cx="1464480" cy="2561040"/>
                <a:chOff x="3855240" y="3765960"/>
                <a:chExt cx="1464480" cy="256104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3855240" y="376596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3855240" y="419292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55240" y="461988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855240" y="590040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855240" y="632700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855240" y="504648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855240" y="547344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141" name=""/>
                  <p:cNvSpPr txBox="1"/>
                  <p:nvPr/>
                </p:nvSpPr>
                <p:spPr>
                  <a:xfrm>
                    <a:off x="4221360" y="5870160"/>
                    <a:ext cx="650880" cy="548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42" name=""/>
            <p:cNvSpPr/>
            <p:nvPr/>
          </p:nvSpPr>
          <p:spPr>
            <a:xfrm>
              <a:off x="3565440" y="4465440"/>
              <a:ext cx="11714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Arial"/>
                </a:rPr>
                <a:t>electr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58600" y="5645160"/>
              <a:ext cx="9867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Arial"/>
                </a:rPr>
                <a:t>prot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3249720" y="3651120"/>
              <a:ext cx="2739600" cy="2925360"/>
              <a:chOff x="3249720" y="3651120"/>
              <a:chExt cx="2739600" cy="2925360"/>
            </a:xfrm>
          </p:grpSpPr>
          <p:grpSp>
            <p:nvGrpSpPr>
              <p:cNvPr id="145" name=""/>
              <p:cNvGrpSpPr/>
              <p:nvPr/>
            </p:nvGrpSpPr>
            <p:grpSpPr>
              <a:xfrm>
                <a:off x="3249720" y="3651120"/>
                <a:ext cx="2739600" cy="2925360"/>
                <a:chOff x="3249720" y="3651120"/>
                <a:chExt cx="2739600" cy="2925360"/>
              </a:xfrm>
            </p:grpSpPr>
            <p:pic>
              <p:nvPicPr>
                <p:cNvPr id="146" name="" descr=""/>
                <p:cNvPicPr/>
                <p:nvPr/>
              </p:nvPicPr>
              <p:blipFill>
                <a:blip r:embed="rId2"/>
                <a:srcRect l="58595" t="26835" r="15521" b="25210"/>
                <a:stretch/>
              </p:blipFill>
              <p:spPr>
                <a:xfrm>
                  <a:off x="3249720" y="3651120"/>
                  <a:ext cx="2739600" cy="2925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47" name=""/>
                <p:cNvGrpSpPr/>
                <p:nvPr/>
              </p:nvGrpSpPr>
              <p:grpSpPr>
                <a:xfrm>
                  <a:off x="3855240" y="3778560"/>
                  <a:ext cx="1464480" cy="2561040"/>
                  <a:chOff x="3855240" y="3778560"/>
                  <a:chExt cx="1464480" cy="2561040"/>
                </a:xfrm>
              </p:grpSpPr>
              <p:sp>
                <p:nvSpPr>
                  <p:cNvPr id="148" name=""/>
                  <p:cNvSpPr/>
                  <p:nvPr/>
                </p:nvSpPr>
                <p:spPr>
                  <a:xfrm>
                    <a:off x="3855240" y="377856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3855240" y="420552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3855240" y="463248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3855240" y="591300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3855240" y="633960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3855240" y="505908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3855240" y="548604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mc:AlternateContent>
              <mc:Choice xmlns:a14="http://schemas.microsoft.com/office/drawing/2010/main" Requires="a14">
                <p:sp>
                  <p:nvSpPr>
                    <p:cNvPr id="155" name=""/>
                    <p:cNvSpPr txBox="1"/>
                    <p:nvPr/>
                  </p:nvSpPr>
                  <p:spPr>
                    <a:xfrm>
                      <a:off x="4221360" y="5882760"/>
                      <a:ext cx="650880" cy="5486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E</m:t>
                              </m:r>
                            </m:e>
                          </m:acc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156" name=""/>
              <p:cNvSpPr/>
              <p:nvPr/>
            </p:nvSpPr>
            <p:spPr>
              <a:xfrm>
                <a:off x="3726000" y="4354200"/>
                <a:ext cx="117144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990000"/>
                    </a:solidFill>
                    <a:latin typeface="Arial"/>
                  </a:rPr>
                  <a:t>electro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719160" y="5533920"/>
                <a:ext cx="98676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990000"/>
                    </a:solidFill>
                    <a:latin typeface="Arial"/>
                  </a:rPr>
                  <a:t>proto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4443480" y="5419800"/>
              <a:ext cx="209520" cy="196920"/>
            </a:xfrm>
            <a:prstGeom prst="ellipse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397400" y="4645080"/>
              <a:ext cx="235080" cy="196920"/>
            </a:xfrm>
            <a:prstGeom prst="ellipse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722760" y="5344920"/>
              <a:ext cx="245880" cy="257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713040" y="4667400"/>
              <a:ext cx="284400" cy="295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379760" y="52894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370040" y="45036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4405320" y="766800"/>
            <a:ext cx="473868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t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lectr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oth feel the same accele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neither–there is no accele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they feel the same magnitude acceleration but in opposite direc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-360" y="704520"/>
            <a:ext cx="4419720" cy="281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prot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an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electr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re in a constant electric field created by oppositely charged plates.  You release the 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prot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from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ositiv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ide and the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electr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from the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negativ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ide.  Which has the larger acceleratio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1b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lectric Potential Energy II 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0" y="3664080"/>
            <a:ext cx="6093000" cy="24447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0" y="3691080"/>
            <a:ext cx="611172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Since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Q = C V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, in order to increase the charge that a capacitor can hold at constant voltage, one has to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crease its capacitance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.  Since the capacitance is given by                 , that can be done by either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ncreasing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ecreasing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0"/>
            <a:ext cx="9144000" cy="30574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405240" y="2089080"/>
            <a:ext cx="3002040" cy="49392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705120" y="635040"/>
            <a:ext cx="5438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crease the area of the plates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ecrease separation between the pla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decrease the area of the pla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either (1) or (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either (2) or (3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7" name=""/>
              <p:cNvSpPr txBox="1"/>
              <p:nvPr/>
            </p:nvSpPr>
            <p:spPr>
              <a:xfrm>
                <a:off x="3371760" y="4994280"/>
                <a:ext cx="101916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88" name="PlaceHolder 1"/>
          <p:cNvSpPr>
            <a:spLocks noGrp="1"/>
          </p:cNvSpPr>
          <p:nvPr>
            <p:ph/>
          </p:nvPr>
        </p:nvSpPr>
        <p:spPr>
          <a:xfrm>
            <a:off x="0" y="731880"/>
            <a:ext cx="3432240" cy="216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must be done to a capacitor in order to increase the amount of charge it can hold (for a constant voltage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9" name=""/>
          <p:cNvGrpSpPr/>
          <p:nvPr/>
        </p:nvGrpSpPr>
        <p:grpSpPr>
          <a:xfrm>
            <a:off x="6127920" y="3108240"/>
            <a:ext cx="3015720" cy="3749400"/>
            <a:chOff x="6127920" y="3108240"/>
            <a:chExt cx="3015720" cy="3749400"/>
          </a:xfrm>
        </p:grpSpPr>
        <p:sp>
          <p:nvSpPr>
            <p:cNvPr id="890" name=""/>
            <p:cNvSpPr/>
            <p:nvPr/>
          </p:nvSpPr>
          <p:spPr>
            <a:xfrm>
              <a:off x="6840360" y="5403600"/>
              <a:ext cx="1393560" cy="1003680"/>
            </a:xfrm>
            <a:prstGeom prst="ellipse">
              <a:avLst/>
            </a:prstGeom>
            <a:noFill/>
            <a:ln w="93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210360" y="4950360"/>
              <a:ext cx="2650680" cy="1907280"/>
            </a:xfrm>
            <a:prstGeom prst="ellipse">
              <a:avLst/>
            </a:prstGeom>
            <a:noFill/>
            <a:ln w="93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92" name="" descr=""/>
            <p:cNvPicPr/>
            <p:nvPr/>
          </p:nvPicPr>
          <p:blipFill>
            <a:blip r:embed="rId1"/>
            <a:srcRect l="13858" t="11934" r="48265" b="7096"/>
            <a:stretch/>
          </p:blipFill>
          <p:spPr>
            <a:xfrm>
              <a:off x="6129360" y="3108240"/>
              <a:ext cx="3014280" cy="250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3" name="" descr=""/>
            <p:cNvPicPr/>
            <p:nvPr/>
          </p:nvPicPr>
          <p:blipFill>
            <a:blip r:embed="rId2"/>
            <a:srcRect l="26494" t="55580" r="28258" b="16498"/>
            <a:stretch/>
          </p:blipFill>
          <p:spPr>
            <a:xfrm>
              <a:off x="6129360" y="5582160"/>
              <a:ext cx="3006360" cy="107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"/>
            <p:cNvSpPr/>
            <p:nvPr/>
          </p:nvSpPr>
          <p:spPr>
            <a:xfrm>
              <a:off x="6350040" y="4242240"/>
              <a:ext cx="2520" cy="225504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8955000" y="4230720"/>
              <a:ext cx="2880" cy="226116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127920" y="5183280"/>
              <a:ext cx="198360" cy="22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939360" y="3323160"/>
              <a:ext cx="5968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 Black"/>
                </a:rPr>
                <a:t>+Q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544880" y="3316680"/>
              <a:ext cx="5752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 Black"/>
                </a:rPr>
                <a:t>–</a:t>
              </a:r>
              <a:r>
                <a:rPr b="1" lang="en-US" sz="2400" spc="-1" strike="noStrike">
                  <a:solidFill>
                    <a:srgbClr val="000099"/>
                  </a:solidFill>
                  <a:latin typeface="Arial Black"/>
                </a:rPr>
                <a:t>Q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99" name="PlaceHolder 2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9a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Varying Capacitance 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"/>
          <p:cNvSpPr/>
          <p:nvPr/>
        </p:nvSpPr>
        <p:spPr>
          <a:xfrm>
            <a:off x="0" y="0"/>
            <a:ext cx="9144000" cy="30574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1" name=""/>
          <p:cNvGrpSpPr/>
          <p:nvPr/>
        </p:nvGrpSpPr>
        <p:grpSpPr>
          <a:xfrm>
            <a:off x="3124080" y="3108240"/>
            <a:ext cx="3016440" cy="3749400"/>
            <a:chOff x="3124080" y="3108240"/>
            <a:chExt cx="3016440" cy="3749400"/>
          </a:xfrm>
        </p:grpSpPr>
        <p:sp>
          <p:nvSpPr>
            <p:cNvPr id="902" name=""/>
            <p:cNvSpPr/>
            <p:nvPr/>
          </p:nvSpPr>
          <p:spPr>
            <a:xfrm>
              <a:off x="3836880" y="5403600"/>
              <a:ext cx="1393920" cy="1003680"/>
            </a:xfrm>
            <a:prstGeom prst="ellipse">
              <a:avLst/>
            </a:prstGeom>
            <a:noFill/>
            <a:ln w="93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206880" y="4950360"/>
              <a:ext cx="2651040" cy="1907280"/>
            </a:xfrm>
            <a:prstGeom prst="ellipse">
              <a:avLst/>
            </a:prstGeom>
            <a:noFill/>
            <a:ln w="93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04" name="" descr=""/>
            <p:cNvPicPr/>
            <p:nvPr/>
          </p:nvPicPr>
          <p:blipFill>
            <a:blip r:embed="rId1"/>
            <a:srcRect l="13858" t="11934" r="48265" b="7096"/>
            <a:stretch/>
          </p:blipFill>
          <p:spPr>
            <a:xfrm>
              <a:off x="3125880" y="3108240"/>
              <a:ext cx="3014640" cy="250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2"/>
            <a:srcRect l="26494" t="55580" r="28258" b="16498"/>
            <a:stretch/>
          </p:blipFill>
          <p:spPr>
            <a:xfrm>
              <a:off x="3125880" y="5582160"/>
              <a:ext cx="3006720" cy="107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6" name=""/>
            <p:cNvSpPr/>
            <p:nvPr/>
          </p:nvSpPr>
          <p:spPr>
            <a:xfrm>
              <a:off x="3346560" y="4242240"/>
              <a:ext cx="2880" cy="225504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951520" y="4230720"/>
              <a:ext cx="3240" cy="226116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124080" y="5183280"/>
              <a:ext cx="198720" cy="22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945960" y="3323160"/>
              <a:ext cx="5770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 Black"/>
                </a:rPr>
                <a:t>+</a:t>
              </a:r>
              <a:r>
                <a:rPr b="1" i="1" lang="en-US" sz="2400" spc="-1" strike="noStrike">
                  <a:solidFill>
                    <a:srgbClr val="fc0128"/>
                  </a:solidFill>
                  <a:latin typeface="Arial Black"/>
                </a:rPr>
                <a:t>Q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551480" y="3316680"/>
              <a:ext cx="5554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 Black"/>
                </a:rPr>
                <a:t>–</a:t>
              </a:r>
              <a:r>
                <a:rPr b="1" i="1" lang="en-US" sz="2400" spc="-1" strike="noStrike">
                  <a:solidFill>
                    <a:srgbClr val="000099"/>
                  </a:solidFill>
                  <a:latin typeface="Arial Black"/>
                </a:rPr>
                <a:t>Q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1" name="PlaceHolder 1"/>
          <p:cNvSpPr>
            <a:spLocks noGrp="1"/>
          </p:cNvSpPr>
          <p:nvPr>
            <p:ph/>
          </p:nvPr>
        </p:nvSpPr>
        <p:spPr>
          <a:xfrm>
            <a:off x="0" y="658800"/>
            <a:ext cx="4394160" cy="23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parallel-plate capacitor initially has a voltage of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00 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stays connected to the batter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If the plate spacing is now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oubled,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hat happe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4638600" y="581040"/>
            <a:ext cx="4505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voltage decrea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voltage increa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charge decrea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charge increa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oth voltage and charge chan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9b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Varying Capacitance I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"/>
          <p:cNvSpPr/>
          <p:nvPr/>
        </p:nvSpPr>
        <p:spPr>
          <a:xfrm>
            <a:off x="0" y="3133800"/>
            <a:ext cx="5722920" cy="275724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135000" y="3144960"/>
            <a:ext cx="5410080" cy="26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ince the battery stays connected, the voltage must remain constant !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  Since                    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     , when the spacing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is doubled the capacitance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is halved.   And since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C V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, that means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harge must decrease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0" y="0"/>
            <a:ext cx="9144000" cy="30574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17" name=""/>
          <p:cNvGrpSpPr/>
          <p:nvPr/>
        </p:nvGrpSpPr>
        <p:grpSpPr>
          <a:xfrm>
            <a:off x="5880240" y="3108240"/>
            <a:ext cx="3015720" cy="3749400"/>
            <a:chOff x="5880240" y="3108240"/>
            <a:chExt cx="3015720" cy="3749400"/>
          </a:xfrm>
        </p:grpSpPr>
        <p:sp>
          <p:nvSpPr>
            <p:cNvPr id="918" name=""/>
            <p:cNvSpPr/>
            <p:nvPr/>
          </p:nvSpPr>
          <p:spPr>
            <a:xfrm>
              <a:off x="6592680" y="5403600"/>
              <a:ext cx="1393560" cy="1003680"/>
            </a:xfrm>
            <a:prstGeom prst="ellipse">
              <a:avLst/>
            </a:prstGeom>
            <a:noFill/>
            <a:ln w="93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962680" y="4950360"/>
              <a:ext cx="2650680" cy="1907280"/>
            </a:xfrm>
            <a:prstGeom prst="ellipse">
              <a:avLst/>
            </a:prstGeom>
            <a:noFill/>
            <a:ln w="93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20" name="" descr=""/>
            <p:cNvPicPr/>
            <p:nvPr/>
          </p:nvPicPr>
          <p:blipFill>
            <a:blip r:embed="rId1"/>
            <a:srcRect l="13858" t="11934" r="48265" b="7096"/>
            <a:stretch/>
          </p:blipFill>
          <p:spPr>
            <a:xfrm>
              <a:off x="5881680" y="3108240"/>
              <a:ext cx="3014280" cy="250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1" name="" descr=""/>
            <p:cNvPicPr/>
            <p:nvPr/>
          </p:nvPicPr>
          <p:blipFill>
            <a:blip r:embed="rId2"/>
            <a:srcRect l="26494" t="55580" r="28258" b="16498"/>
            <a:stretch/>
          </p:blipFill>
          <p:spPr>
            <a:xfrm>
              <a:off x="5881680" y="5582160"/>
              <a:ext cx="3006360" cy="107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2" name=""/>
            <p:cNvSpPr/>
            <p:nvPr/>
          </p:nvSpPr>
          <p:spPr>
            <a:xfrm>
              <a:off x="6102360" y="4242240"/>
              <a:ext cx="2520" cy="225504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707320" y="4230720"/>
              <a:ext cx="2880" cy="226116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880240" y="5183280"/>
              <a:ext cx="198360" cy="22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701400" y="3323160"/>
              <a:ext cx="5770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 Black"/>
                </a:rPr>
                <a:t>+</a:t>
              </a:r>
              <a:r>
                <a:rPr b="1" i="1" lang="en-US" sz="2400" spc="-1" strike="noStrike">
                  <a:solidFill>
                    <a:srgbClr val="fc0128"/>
                  </a:solidFill>
                  <a:latin typeface="Arial Black"/>
                </a:rPr>
                <a:t>Q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306920" y="3316680"/>
              <a:ext cx="5554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 Black"/>
                </a:rPr>
                <a:t>–</a:t>
              </a:r>
              <a:r>
                <a:rPr b="1" i="1" lang="en-US" sz="2400" spc="-1" strike="noStrike">
                  <a:solidFill>
                    <a:srgbClr val="000099"/>
                  </a:solidFill>
                  <a:latin typeface="Arial Black"/>
                </a:rPr>
                <a:t>Q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27" name=""/>
              <p:cNvSpPr txBox="1"/>
              <p:nvPr/>
            </p:nvSpPr>
            <p:spPr>
              <a:xfrm>
                <a:off x="466560" y="4041720"/>
                <a:ext cx="101952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28" name="PlaceHolder 1"/>
          <p:cNvSpPr>
            <a:spLocks noGrp="1"/>
          </p:cNvSpPr>
          <p:nvPr>
            <p:ph/>
          </p:nvPr>
        </p:nvSpPr>
        <p:spPr>
          <a:xfrm>
            <a:off x="0" y="658800"/>
            <a:ext cx="4394160" cy="23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parallel-plate capacitor initially has a voltage of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00 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stays connected to the batter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If the plate spacing is now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oubled,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hat happe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4638600" y="581040"/>
            <a:ext cx="4505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voltage decrea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voltage increa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charge decrea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charge increa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oth voltage and charge chan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289400" y="1577880"/>
            <a:ext cx="3884760" cy="49392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9b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Varying Capacitance I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6178680"/>
            <a:ext cx="5684760" cy="398880"/>
          </a:xfrm>
          <a:prstGeom prst="rect">
            <a:avLst/>
          </a:prstGeom>
          <a:solidFill>
            <a:srgbClr val="3366ff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-up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How do you increase the charg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"/>
          <p:cNvSpPr/>
          <p:nvPr/>
        </p:nvSpPr>
        <p:spPr>
          <a:xfrm>
            <a:off x="0" y="0"/>
            <a:ext cx="9144000" cy="30574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/>
          </p:nvPr>
        </p:nvSpPr>
        <p:spPr>
          <a:xfrm>
            <a:off x="-360" y="684000"/>
            <a:ext cx="5119560" cy="23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parallel-plate capacitor initially has a potential difference of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00 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is then disconnected from the charging battery.  If the plate spacing is now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ouble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without changing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, what is the new value of the volta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6040440" y="593640"/>
            <a:ext cx="2495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00 V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00 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400 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800 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1600 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6" name=""/>
          <p:cNvGrpSpPr/>
          <p:nvPr/>
        </p:nvGrpSpPr>
        <p:grpSpPr>
          <a:xfrm>
            <a:off x="3112920" y="3108240"/>
            <a:ext cx="3016440" cy="3749400"/>
            <a:chOff x="3112920" y="3108240"/>
            <a:chExt cx="3016440" cy="3749400"/>
          </a:xfrm>
        </p:grpSpPr>
        <p:sp>
          <p:nvSpPr>
            <p:cNvPr id="937" name=""/>
            <p:cNvSpPr/>
            <p:nvPr/>
          </p:nvSpPr>
          <p:spPr>
            <a:xfrm>
              <a:off x="3825720" y="5403600"/>
              <a:ext cx="1393920" cy="1003680"/>
            </a:xfrm>
            <a:prstGeom prst="ellipse">
              <a:avLst/>
            </a:prstGeom>
            <a:noFill/>
            <a:ln w="93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195720" y="4950360"/>
              <a:ext cx="2651040" cy="1907280"/>
            </a:xfrm>
            <a:prstGeom prst="ellipse">
              <a:avLst/>
            </a:prstGeom>
            <a:noFill/>
            <a:ln w="93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39" name="" descr=""/>
            <p:cNvPicPr/>
            <p:nvPr/>
          </p:nvPicPr>
          <p:blipFill>
            <a:blip r:embed="rId1"/>
            <a:srcRect l="13858" t="11934" r="48265" b="7096"/>
            <a:stretch/>
          </p:blipFill>
          <p:spPr>
            <a:xfrm>
              <a:off x="3114720" y="3108240"/>
              <a:ext cx="3014640" cy="250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0" name="" descr=""/>
            <p:cNvPicPr/>
            <p:nvPr/>
          </p:nvPicPr>
          <p:blipFill>
            <a:blip r:embed="rId2"/>
            <a:srcRect l="26494" t="55580" r="28258" b="16498"/>
            <a:stretch/>
          </p:blipFill>
          <p:spPr>
            <a:xfrm>
              <a:off x="3114720" y="5582160"/>
              <a:ext cx="3006720" cy="107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1" name=""/>
            <p:cNvSpPr/>
            <p:nvPr/>
          </p:nvSpPr>
          <p:spPr>
            <a:xfrm>
              <a:off x="3335400" y="4242240"/>
              <a:ext cx="2880" cy="225504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940360" y="4230720"/>
              <a:ext cx="3240" cy="226116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3112920" y="5183280"/>
              <a:ext cx="198720" cy="22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934800" y="3323160"/>
              <a:ext cx="5770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 Black"/>
                </a:rPr>
                <a:t>+</a:t>
              </a:r>
              <a:r>
                <a:rPr b="1" i="1" lang="en-US" sz="2400" spc="-1" strike="noStrike">
                  <a:solidFill>
                    <a:srgbClr val="fc0128"/>
                  </a:solidFill>
                  <a:latin typeface="Arial Black"/>
                </a:rPr>
                <a:t>Q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540320" y="3316680"/>
              <a:ext cx="5554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 Black"/>
                </a:rPr>
                <a:t>–</a:t>
              </a:r>
              <a:r>
                <a:rPr b="1" i="1" lang="en-US" sz="2400" spc="-1" strike="noStrike">
                  <a:solidFill>
                    <a:srgbClr val="000099"/>
                  </a:solidFill>
                  <a:latin typeface="Arial Black"/>
                </a:rPr>
                <a:t>Q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6" name="PlaceHolder 2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9c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Varying Capacitance II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"/>
          <p:cNvSpPr/>
          <p:nvPr/>
        </p:nvSpPr>
        <p:spPr>
          <a:xfrm>
            <a:off x="71280" y="3290760"/>
            <a:ext cx="5823000" cy="31021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0" y="3335400"/>
            <a:ext cx="58435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Once the battery is disconnected,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has to remain constant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, since no charge can flow either to or from the battery.  Since                       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    , when the spacing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is doubled the capacitance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is halved.  And since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C V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, that means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voltage must double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0" y="0"/>
            <a:ext cx="9144000" cy="30574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622840" y="2033640"/>
            <a:ext cx="2228760" cy="49356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/>
          </p:nvPr>
        </p:nvSpPr>
        <p:spPr>
          <a:xfrm>
            <a:off x="-360" y="684000"/>
            <a:ext cx="5119560" cy="23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parallel-plate capacitor initially has a potential difference of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00 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is then disconnected from the charging battery.  If the plate spacing is now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ouble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without changing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, what is the new value of the volta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6040440" y="593640"/>
            <a:ext cx="2495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00 V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00 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400 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800 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1600 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53" name=""/>
          <p:cNvGrpSpPr/>
          <p:nvPr/>
        </p:nvGrpSpPr>
        <p:grpSpPr>
          <a:xfrm>
            <a:off x="6013440" y="3108240"/>
            <a:ext cx="3016440" cy="3749400"/>
            <a:chOff x="6013440" y="3108240"/>
            <a:chExt cx="3016440" cy="3749400"/>
          </a:xfrm>
        </p:grpSpPr>
        <p:sp>
          <p:nvSpPr>
            <p:cNvPr id="954" name=""/>
            <p:cNvSpPr/>
            <p:nvPr/>
          </p:nvSpPr>
          <p:spPr>
            <a:xfrm>
              <a:off x="6726240" y="5403600"/>
              <a:ext cx="1393920" cy="1003680"/>
            </a:xfrm>
            <a:prstGeom prst="ellipse">
              <a:avLst/>
            </a:prstGeom>
            <a:noFill/>
            <a:ln w="93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096240" y="4950360"/>
              <a:ext cx="2651040" cy="1907280"/>
            </a:xfrm>
            <a:prstGeom prst="ellipse">
              <a:avLst/>
            </a:prstGeom>
            <a:noFill/>
            <a:ln w="93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56" name="" descr=""/>
            <p:cNvPicPr/>
            <p:nvPr/>
          </p:nvPicPr>
          <p:blipFill>
            <a:blip r:embed="rId1"/>
            <a:srcRect l="13858" t="11934" r="48265" b="7096"/>
            <a:stretch/>
          </p:blipFill>
          <p:spPr>
            <a:xfrm>
              <a:off x="6015240" y="3108240"/>
              <a:ext cx="3014640" cy="250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7" name="" descr=""/>
            <p:cNvPicPr/>
            <p:nvPr/>
          </p:nvPicPr>
          <p:blipFill>
            <a:blip r:embed="rId2"/>
            <a:srcRect l="26494" t="55580" r="28258" b="16498"/>
            <a:stretch/>
          </p:blipFill>
          <p:spPr>
            <a:xfrm>
              <a:off x="6015240" y="5582160"/>
              <a:ext cx="3006720" cy="107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8" name=""/>
            <p:cNvSpPr/>
            <p:nvPr/>
          </p:nvSpPr>
          <p:spPr>
            <a:xfrm>
              <a:off x="6235920" y="4242240"/>
              <a:ext cx="2880" cy="225504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8840880" y="4230720"/>
              <a:ext cx="3240" cy="226116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013440" y="5183280"/>
              <a:ext cx="198720" cy="22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835320" y="3323160"/>
              <a:ext cx="5770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 Black"/>
                </a:rPr>
                <a:t>+</a:t>
              </a:r>
              <a:r>
                <a:rPr b="1" i="1" lang="en-US" sz="2400" spc="-1" strike="noStrike">
                  <a:solidFill>
                    <a:srgbClr val="fc0128"/>
                  </a:solidFill>
                  <a:latin typeface="Arial Black"/>
                </a:rPr>
                <a:t>Q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440840" y="3316680"/>
              <a:ext cx="5554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 Black"/>
                </a:rPr>
                <a:t>–</a:t>
              </a:r>
              <a:r>
                <a:rPr b="1" i="1" lang="en-US" sz="2400" spc="-1" strike="noStrike">
                  <a:solidFill>
                    <a:srgbClr val="000099"/>
                  </a:solidFill>
                  <a:latin typeface="Arial Black"/>
                </a:rPr>
                <a:t>Q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63" name=""/>
              <p:cNvSpPr txBox="1"/>
              <p:nvPr/>
            </p:nvSpPr>
            <p:spPr>
              <a:xfrm>
                <a:off x="281160" y="4727520"/>
                <a:ext cx="101916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4" name="PlaceHolder 2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9c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Varying Capacitance II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0" y="0"/>
            <a:ext cx="9144000" cy="28591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10a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apacitors 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967" name=""/>
          <p:cNvGrpSpPr/>
          <p:nvPr/>
        </p:nvGrpSpPr>
        <p:grpSpPr>
          <a:xfrm>
            <a:off x="4805280" y="3349800"/>
            <a:ext cx="4338720" cy="2560320"/>
            <a:chOff x="4805280" y="3349800"/>
            <a:chExt cx="4338720" cy="2560320"/>
          </a:xfrm>
        </p:grpSpPr>
        <p:sp>
          <p:nvSpPr>
            <p:cNvPr id="968" name=""/>
            <p:cNvSpPr/>
            <p:nvPr/>
          </p:nvSpPr>
          <p:spPr>
            <a:xfrm>
              <a:off x="4805280" y="3349800"/>
              <a:ext cx="4338720" cy="2560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69" name=""/>
            <p:cNvGrpSpPr/>
            <p:nvPr/>
          </p:nvGrpSpPr>
          <p:grpSpPr>
            <a:xfrm>
              <a:off x="4822560" y="3540240"/>
              <a:ext cx="4303440" cy="1966680"/>
              <a:chOff x="4822560" y="3540240"/>
              <a:chExt cx="4303440" cy="1966680"/>
            </a:xfrm>
          </p:grpSpPr>
          <p:sp>
            <p:nvSpPr>
              <p:cNvPr id="970" name=""/>
              <p:cNvSpPr/>
              <p:nvPr/>
            </p:nvSpPr>
            <p:spPr>
              <a:xfrm>
                <a:off x="5337720" y="3966120"/>
                <a:ext cx="20127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 flipV="1">
                <a:off x="5384880" y="5392440"/>
                <a:ext cx="3141000" cy="172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6625800" y="3959640"/>
                <a:ext cx="0" cy="6195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6302160" y="4579560"/>
                <a:ext cx="6472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6302160" y="4994640"/>
                <a:ext cx="6472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8512200" y="3929400"/>
                <a:ext cx="0" cy="6195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8512200" y="4964400"/>
                <a:ext cx="0" cy="4132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8188560" y="4549320"/>
                <a:ext cx="64692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8188560" y="4964400"/>
                <a:ext cx="64692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5172480" y="3793680"/>
                <a:ext cx="267480" cy="28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3360" rIns="63360" tIns="25560" bIns="2556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5207400" y="5222520"/>
                <a:ext cx="267480" cy="28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3360" rIns="63360" tIns="25560" bIns="2556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5964840" y="4527720"/>
                <a:ext cx="404640" cy="4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afd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6616080" y="5018040"/>
                <a:ext cx="0" cy="4132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8721360" y="4493160"/>
                <a:ext cx="404640" cy="4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afd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flipV="1">
                <a:off x="7643880" y="3540240"/>
                <a:ext cx="0" cy="8258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 flipV="1">
                <a:off x="7371000" y="3544560"/>
                <a:ext cx="0" cy="8258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7657560" y="3935880"/>
                <a:ext cx="8679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7276680" y="4230720"/>
                <a:ext cx="404640" cy="4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afd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4822560" y="4419720"/>
                <a:ext cx="612000" cy="46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afd00"/>
                    </a:solidFill>
                    <a:latin typeface="Arial"/>
                  </a:rPr>
                  <a:t>C</a:t>
                </a:r>
                <a:r>
                  <a:rPr b="1" i="1" lang="en-US" sz="2400" spc="-1" strike="noStrike" baseline="-25000">
                    <a:solidFill>
                      <a:srgbClr val="fafd00"/>
                    </a:solidFill>
                    <a:latin typeface="Arial"/>
                  </a:rPr>
                  <a:t>eq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89" name=""/>
          <p:cNvSpPr/>
          <p:nvPr/>
        </p:nvSpPr>
        <p:spPr>
          <a:xfrm>
            <a:off x="5329080" y="666720"/>
            <a:ext cx="2311560" cy="23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eq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  3/2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eq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  2/3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eq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  3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eq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  1/3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eq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  1/2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262080" y="958680"/>
            <a:ext cx="490032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>
              <a:lnSpc>
                <a:spcPct val="14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equivalent capacitance,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eq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, of the combination below?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0" y="3333600"/>
            <a:ext cx="4759200" cy="253080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3454560"/>
            <a:ext cx="4862520" cy="22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4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The 2 equal capacitors in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series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add up as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inverses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, giving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1/2 </a:t>
            </a:r>
            <a:r>
              <a:rPr b="1" i="1" lang="en-US" sz="2000" spc="-1" strike="noStrike">
                <a:solidFill>
                  <a:srgbClr val="000080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.  These are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parallel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to the first one, which add up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directly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.  Thus, the total equivalent capacitance is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3/2 </a:t>
            </a:r>
            <a:r>
              <a:rPr b="1" i="1" lang="en-US" sz="2000" spc="-1" strike="noStrike">
                <a:solidFill>
                  <a:srgbClr val="000080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9144000" cy="28591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10a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apacitors 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5108400" y="692280"/>
            <a:ext cx="2514600" cy="50940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6" name=""/>
          <p:cNvGrpSpPr/>
          <p:nvPr/>
        </p:nvGrpSpPr>
        <p:grpSpPr>
          <a:xfrm>
            <a:off x="4805280" y="3349800"/>
            <a:ext cx="4338720" cy="2560320"/>
            <a:chOff x="4805280" y="3349800"/>
            <a:chExt cx="4338720" cy="2560320"/>
          </a:xfrm>
        </p:grpSpPr>
        <p:sp>
          <p:nvSpPr>
            <p:cNvPr id="997" name=""/>
            <p:cNvSpPr/>
            <p:nvPr/>
          </p:nvSpPr>
          <p:spPr>
            <a:xfrm>
              <a:off x="4805280" y="3349800"/>
              <a:ext cx="4338720" cy="2560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98" name=""/>
            <p:cNvGrpSpPr/>
            <p:nvPr/>
          </p:nvGrpSpPr>
          <p:grpSpPr>
            <a:xfrm>
              <a:off x="4822560" y="3540240"/>
              <a:ext cx="4303440" cy="1966680"/>
              <a:chOff x="4822560" y="3540240"/>
              <a:chExt cx="4303440" cy="1966680"/>
            </a:xfrm>
          </p:grpSpPr>
          <p:sp>
            <p:nvSpPr>
              <p:cNvPr id="999" name=""/>
              <p:cNvSpPr/>
              <p:nvPr/>
            </p:nvSpPr>
            <p:spPr>
              <a:xfrm>
                <a:off x="5337720" y="3966120"/>
                <a:ext cx="20127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flipV="1">
                <a:off x="5384880" y="5392440"/>
                <a:ext cx="3141000" cy="172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625800" y="3959640"/>
                <a:ext cx="0" cy="6195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6302160" y="4579560"/>
                <a:ext cx="6472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6302160" y="4994640"/>
                <a:ext cx="6472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8512200" y="3929400"/>
                <a:ext cx="0" cy="6195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8512200" y="4964400"/>
                <a:ext cx="0" cy="4132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8188560" y="4549320"/>
                <a:ext cx="64692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8188560" y="4964400"/>
                <a:ext cx="64692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5172480" y="3793680"/>
                <a:ext cx="267480" cy="28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3360" rIns="63360" tIns="25560" bIns="2556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207400" y="5222520"/>
                <a:ext cx="267480" cy="28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3360" rIns="63360" tIns="25560" bIns="2556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964840" y="4527720"/>
                <a:ext cx="404640" cy="4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afd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6616080" y="5018040"/>
                <a:ext cx="0" cy="4132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8721360" y="4493160"/>
                <a:ext cx="404640" cy="4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afd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 flipV="1">
                <a:off x="7643880" y="3540240"/>
                <a:ext cx="0" cy="8258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 flipV="1">
                <a:off x="7371000" y="3544560"/>
                <a:ext cx="0" cy="8258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7657560" y="3935880"/>
                <a:ext cx="8679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276680" y="4230720"/>
                <a:ext cx="404640" cy="4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afd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4822560" y="4419720"/>
                <a:ext cx="612000" cy="46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afd00"/>
                    </a:solidFill>
                    <a:latin typeface="Arial"/>
                  </a:rPr>
                  <a:t>C</a:t>
                </a:r>
                <a:r>
                  <a:rPr b="1" i="1" lang="en-US" sz="2400" spc="-1" strike="noStrike" baseline="-25000">
                    <a:solidFill>
                      <a:srgbClr val="fafd00"/>
                    </a:solidFill>
                    <a:latin typeface="Arial"/>
                  </a:rPr>
                  <a:t>eq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8" name=""/>
          <p:cNvSpPr/>
          <p:nvPr/>
        </p:nvSpPr>
        <p:spPr>
          <a:xfrm>
            <a:off x="5329080" y="666720"/>
            <a:ext cx="2311560" cy="23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eq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  3/2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eq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  2/3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eq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  3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eq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  1/3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eq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  1/2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262080" y="958680"/>
            <a:ext cx="490032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>
              <a:lnSpc>
                <a:spcPct val="14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equivalent capacitance,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eq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, of the combination below?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"/>
          <p:cNvSpPr/>
          <p:nvPr/>
        </p:nvSpPr>
        <p:spPr>
          <a:xfrm>
            <a:off x="0" y="0"/>
            <a:ext cx="9144000" cy="28591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10b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apacitors I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5049720" y="631800"/>
            <a:ext cx="3897360" cy="22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&gt;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&lt;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all voltages are ze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3" name=""/>
          <p:cNvGrpSpPr/>
          <p:nvPr/>
        </p:nvGrpSpPr>
        <p:grpSpPr>
          <a:xfrm>
            <a:off x="4122720" y="3602160"/>
            <a:ext cx="5021280" cy="2347920"/>
            <a:chOff x="4122720" y="3602160"/>
            <a:chExt cx="5021280" cy="2347920"/>
          </a:xfrm>
        </p:grpSpPr>
        <p:sp>
          <p:nvSpPr>
            <p:cNvPr id="1024" name=""/>
            <p:cNvSpPr/>
            <p:nvPr/>
          </p:nvSpPr>
          <p:spPr>
            <a:xfrm>
              <a:off x="4122720" y="3602160"/>
              <a:ext cx="5021280" cy="234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636440" y="4285080"/>
              <a:ext cx="1806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V="1">
              <a:off x="4643640" y="5561280"/>
              <a:ext cx="2855520" cy="1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793840" y="4280040"/>
              <a:ext cx="0" cy="5540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502600" y="4834080"/>
              <a:ext cx="5810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502600" y="5205600"/>
              <a:ext cx="5810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7487640" y="4253040"/>
              <a:ext cx="0" cy="5540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7487640" y="5178600"/>
              <a:ext cx="0" cy="370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7196400" y="4807080"/>
              <a:ext cx="5806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7196400" y="5178600"/>
              <a:ext cx="5806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054040" y="4800960"/>
              <a:ext cx="1620720" cy="4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00ff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</a:rPr>
                <a:t> = 1.0 </a:t>
              </a:r>
              <a:r>
                <a:rPr b="1" lang="en-US" sz="24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</a:t>
              </a: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784840" y="5226120"/>
              <a:ext cx="0" cy="370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7471800" y="4781880"/>
              <a:ext cx="1620720" cy="4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00ff00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</a:rPr>
                <a:t> = 1.0 </a:t>
              </a:r>
              <a:r>
                <a:rPr b="1" lang="en-US" sz="24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</a:t>
              </a: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V="1">
              <a:off x="6707880" y="3903480"/>
              <a:ext cx="0" cy="7398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V="1">
              <a:off x="6463080" y="3906720"/>
              <a:ext cx="0" cy="7398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719760" y="4258080"/>
              <a:ext cx="7794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802560" y="3767400"/>
              <a:ext cx="1620720" cy="4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00ff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</a:rPr>
                <a:t> = 1.0 </a:t>
              </a:r>
              <a:r>
                <a:rPr b="1" lang="en-US" sz="24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</a:t>
              </a: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189680" y="5007240"/>
              <a:ext cx="8114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10 V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489560" y="4786560"/>
              <a:ext cx="312120" cy="14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V="1">
              <a:off x="4640760" y="5010120"/>
              <a:ext cx="0" cy="5540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V="1">
              <a:off x="4637880" y="4280040"/>
              <a:ext cx="0" cy="5176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353840" y="4962600"/>
              <a:ext cx="567360" cy="14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-360" y="725040"/>
            <a:ext cx="4583160" cy="19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8160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 does the voltag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cross the first capacitor (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compare to the voltag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cross the second capacitor (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"/>
          <p:cNvSpPr/>
          <p:nvPr/>
        </p:nvSpPr>
        <p:spPr>
          <a:xfrm>
            <a:off x="0" y="0"/>
            <a:ext cx="9144000" cy="28591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10b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apacitors I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4821120" y="1189080"/>
            <a:ext cx="2322720" cy="52056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5049720" y="631800"/>
            <a:ext cx="3897360" cy="22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&gt;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&lt;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all voltages are ze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51" name=""/>
          <p:cNvGrpSpPr/>
          <p:nvPr/>
        </p:nvGrpSpPr>
        <p:grpSpPr>
          <a:xfrm>
            <a:off x="4122720" y="3602160"/>
            <a:ext cx="5021280" cy="2347920"/>
            <a:chOff x="4122720" y="3602160"/>
            <a:chExt cx="5021280" cy="2347920"/>
          </a:xfrm>
        </p:grpSpPr>
        <p:sp>
          <p:nvSpPr>
            <p:cNvPr id="1052" name=""/>
            <p:cNvSpPr/>
            <p:nvPr/>
          </p:nvSpPr>
          <p:spPr>
            <a:xfrm>
              <a:off x="4122720" y="3602160"/>
              <a:ext cx="5021280" cy="234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636440" y="4285080"/>
              <a:ext cx="1806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V="1">
              <a:off x="4643640" y="5561280"/>
              <a:ext cx="2855520" cy="1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793840" y="4280040"/>
              <a:ext cx="0" cy="5540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502600" y="4834080"/>
              <a:ext cx="5810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502600" y="5205600"/>
              <a:ext cx="5810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7487640" y="4253040"/>
              <a:ext cx="0" cy="5540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487640" y="5178600"/>
              <a:ext cx="0" cy="370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7196400" y="4807080"/>
              <a:ext cx="5806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7196400" y="5178600"/>
              <a:ext cx="5806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054040" y="4800960"/>
              <a:ext cx="1620720" cy="4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00ff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</a:rPr>
                <a:t> = 1.0 </a:t>
              </a:r>
              <a:r>
                <a:rPr b="1" lang="en-US" sz="24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</a:t>
              </a: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784840" y="5226120"/>
              <a:ext cx="0" cy="370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471800" y="4781880"/>
              <a:ext cx="1620720" cy="4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00ff00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</a:rPr>
                <a:t> = 1.0 </a:t>
              </a:r>
              <a:r>
                <a:rPr b="1" lang="en-US" sz="24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</a:t>
              </a: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V="1">
              <a:off x="6707880" y="3903480"/>
              <a:ext cx="0" cy="7398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V="1">
              <a:off x="6463080" y="3906720"/>
              <a:ext cx="0" cy="7398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719760" y="4258080"/>
              <a:ext cx="7794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802560" y="3767400"/>
              <a:ext cx="1620720" cy="4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00ff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</a:rPr>
                <a:t> = 1.0 </a:t>
              </a:r>
              <a:r>
                <a:rPr b="1" lang="en-US" sz="24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</a:t>
              </a: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189680" y="5007240"/>
              <a:ext cx="8114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10 V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489560" y="4786560"/>
              <a:ext cx="312120" cy="14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V="1">
              <a:off x="4640760" y="5010120"/>
              <a:ext cx="0" cy="5540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V="1">
              <a:off x="4637880" y="4280040"/>
              <a:ext cx="0" cy="5176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353840" y="4962600"/>
              <a:ext cx="567360" cy="14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74" name=""/>
          <p:cNvSpPr/>
          <p:nvPr/>
        </p:nvSpPr>
        <p:spPr>
          <a:xfrm>
            <a:off x="0" y="3067200"/>
            <a:ext cx="4083120" cy="356364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-79200" y="3156120"/>
            <a:ext cx="4159080" cy="37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The voltage across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00004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is 10 V.  The combined capacitors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00004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+C</a:t>
            </a:r>
            <a:r>
              <a:rPr b="1" i="1" lang="en-US" sz="2000" spc="-1" strike="noStrike" baseline="-25000">
                <a:solidFill>
                  <a:srgbClr val="00004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are parallel to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00004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.  The voltage across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00004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+C</a:t>
            </a:r>
            <a:r>
              <a:rPr b="1" i="1" lang="en-US" sz="2000" spc="-1" strike="noStrike" baseline="-25000">
                <a:solidFill>
                  <a:srgbClr val="00004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is also 10 V.  Since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00004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00004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are in series, their voltages add.  Thus the voltage across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00004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00004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each has to be 5 V, which is less than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00004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.</a:t>
            </a:r>
            <a:r>
              <a:rPr b="1" lang="en-US" sz="2200" spc="-1" strike="noStrike">
                <a:solidFill>
                  <a:srgbClr val="00004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-360" y="725040"/>
            <a:ext cx="4583160" cy="19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8160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 does the voltag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cross the first capacitor (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compare to the voltag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cross the second capacitor (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4172040" y="6146640"/>
            <a:ext cx="4659120" cy="703800"/>
          </a:xfrm>
          <a:prstGeom prst="rect">
            <a:avLst/>
          </a:prstGeom>
          <a:solidFill>
            <a:srgbClr val="3366ff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-up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current in this circui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"/>
          <p:cNvSpPr/>
          <p:nvPr/>
        </p:nvSpPr>
        <p:spPr>
          <a:xfrm>
            <a:off x="0" y="0"/>
            <a:ext cx="9144000" cy="28591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10c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apacitors II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080" name=""/>
          <p:cNvGrpSpPr/>
          <p:nvPr/>
        </p:nvGrpSpPr>
        <p:grpSpPr>
          <a:xfrm>
            <a:off x="3927600" y="3559320"/>
            <a:ext cx="5216400" cy="2347920"/>
            <a:chOff x="3927600" y="3559320"/>
            <a:chExt cx="5216400" cy="2347920"/>
          </a:xfrm>
        </p:grpSpPr>
        <p:sp>
          <p:nvSpPr>
            <p:cNvPr id="1081" name=""/>
            <p:cNvSpPr/>
            <p:nvPr/>
          </p:nvSpPr>
          <p:spPr>
            <a:xfrm>
              <a:off x="3927600" y="3559320"/>
              <a:ext cx="5216400" cy="234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461120" y="4242240"/>
              <a:ext cx="18770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V="1">
              <a:off x="4469040" y="5518440"/>
              <a:ext cx="2966400" cy="1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663520" y="4237200"/>
              <a:ext cx="0" cy="5540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5360760" y="4791240"/>
              <a:ext cx="6037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360760" y="5162760"/>
              <a:ext cx="6037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7423200" y="4210200"/>
              <a:ext cx="0" cy="5540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7423200" y="5135760"/>
              <a:ext cx="0" cy="370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7120440" y="4764240"/>
              <a:ext cx="603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120440" y="5135760"/>
              <a:ext cx="603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96000" y="4758120"/>
              <a:ext cx="1620720" cy="4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00ff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</a:rPr>
                <a:t> = 1.0 </a:t>
              </a:r>
              <a:r>
                <a:rPr b="1" lang="en-US" sz="24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</a:t>
              </a: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5654520" y="5183280"/>
              <a:ext cx="0" cy="370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407000" y="4739040"/>
              <a:ext cx="1620720" cy="4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00ff00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</a:rPr>
                <a:t> = 1.0 </a:t>
              </a:r>
              <a:r>
                <a:rPr b="1" lang="en-US" sz="24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</a:t>
              </a: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V="1">
              <a:off x="6613200" y="3860640"/>
              <a:ext cx="0" cy="7398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V="1">
              <a:off x="6358680" y="3863880"/>
              <a:ext cx="0" cy="7398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625440" y="4215240"/>
              <a:ext cx="8096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6711120" y="3724560"/>
              <a:ext cx="1620720" cy="4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00ff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</a:rPr>
                <a:t> = 1.0 </a:t>
              </a:r>
              <a:r>
                <a:rPr b="1" lang="en-US" sz="24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</a:t>
              </a: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997080" y="4964400"/>
              <a:ext cx="8114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10 V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308840" y="4743720"/>
              <a:ext cx="324360" cy="14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4465800" y="4967280"/>
              <a:ext cx="0" cy="5540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V="1">
              <a:off x="4462560" y="4237200"/>
              <a:ext cx="0" cy="5176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167720" y="4919760"/>
              <a:ext cx="589680" cy="14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03" name=""/>
          <p:cNvSpPr/>
          <p:nvPr/>
        </p:nvSpPr>
        <p:spPr>
          <a:xfrm>
            <a:off x="5049720" y="585720"/>
            <a:ext cx="3897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&gt;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&lt;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all charges are ze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-95400" y="879120"/>
            <a:ext cx="5021280" cy="19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8952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 does the charg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n the first capacitor (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compare to the charg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n the second capacitor (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9144000" cy="3429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1219320"/>
            <a:ext cx="41911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6176880" y="3675240"/>
            <a:ext cx="2739600" cy="2937960"/>
            <a:chOff x="6176880" y="3675240"/>
            <a:chExt cx="2739600" cy="2937960"/>
          </a:xfrm>
        </p:grpSpPr>
        <p:grpSp>
          <p:nvGrpSpPr>
            <p:cNvPr id="172" name=""/>
            <p:cNvGrpSpPr/>
            <p:nvPr/>
          </p:nvGrpSpPr>
          <p:grpSpPr>
            <a:xfrm>
              <a:off x="6176880" y="3675240"/>
              <a:ext cx="2739600" cy="2925360"/>
              <a:chOff x="6176880" y="3675240"/>
              <a:chExt cx="2739600" cy="2925360"/>
            </a:xfrm>
          </p:grpSpPr>
          <p:pic>
            <p:nvPicPr>
              <p:cNvPr id="173" name="" descr=""/>
              <p:cNvPicPr/>
              <p:nvPr/>
            </p:nvPicPr>
            <p:blipFill>
              <a:blip r:embed="rId1"/>
              <a:srcRect l="58595" t="26835" r="15521" b="25210"/>
              <a:stretch/>
            </p:blipFill>
            <p:spPr>
              <a:xfrm>
                <a:off x="6176880" y="3675240"/>
                <a:ext cx="2739600" cy="2925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74" name=""/>
              <p:cNvGrpSpPr/>
              <p:nvPr/>
            </p:nvGrpSpPr>
            <p:grpSpPr>
              <a:xfrm>
                <a:off x="6782400" y="3802680"/>
                <a:ext cx="1464480" cy="2561040"/>
                <a:chOff x="6782400" y="3802680"/>
                <a:chExt cx="1464480" cy="256104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6782400" y="380268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6782400" y="422964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6782400" y="465660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6782400" y="593712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6782400" y="636372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6782400" y="508320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6782400" y="551016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182" name=""/>
                  <p:cNvSpPr txBox="1"/>
                  <p:nvPr/>
                </p:nvSpPr>
                <p:spPr>
                  <a:xfrm>
                    <a:off x="7148520" y="5906880"/>
                    <a:ext cx="650880" cy="548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83" name=""/>
            <p:cNvSpPr/>
            <p:nvPr/>
          </p:nvSpPr>
          <p:spPr>
            <a:xfrm>
              <a:off x="6492600" y="4502160"/>
              <a:ext cx="11714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Arial"/>
                </a:rPr>
                <a:t>electr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485760" y="5681880"/>
              <a:ext cx="9867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Arial"/>
                </a:rPr>
                <a:t>prot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6176880" y="3687840"/>
              <a:ext cx="2739600" cy="2925360"/>
              <a:chOff x="6176880" y="3687840"/>
              <a:chExt cx="2739600" cy="2925360"/>
            </a:xfrm>
          </p:grpSpPr>
          <p:grpSp>
            <p:nvGrpSpPr>
              <p:cNvPr id="186" name=""/>
              <p:cNvGrpSpPr/>
              <p:nvPr/>
            </p:nvGrpSpPr>
            <p:grpSpPr>
              <a:xfrm>
                <a:off x="6176880" y="3687840"/>
                <a:ext cx="2739600" cy="2925360"/>
                <a:chOff x="6176880" y="3687840"/>
                <a:chExt cx="2739600" cy="2925360"/>
              </a:xfrm>
            </p:grpSpPr>
            <p:pic>
              <p:nvPicPr>
                <p:cNvPr id="187" name="" descr=""/>
                <p:cNvPicPr/>
                <p:nvPr/>
              </p:nvPicPr>
              <p:blipFill>
                <a:blip r:embed="rId2"/>
                <a:srcRect l="58595" t="26835" r="15521" b="25210"/>
                <a:stretch/>
              </p:blipFill>
              <p:spPr>
                <a:xfrm>
                  <a:off x="6176880" y="3687840"/>
                  <a:ext cx="2739600" cy="2925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88" name=""/>
                <p:cNvGrpSpPr/>
                <p:nvPr/>
              </p:nvGrpSpPr>
              <p:grpSpPr>
                <a:xfrm>
                  <a:off x="6782400" y="3815280"/>
                  <a:ext cx="1464480" cy="2561040"/>
                  <a:chOff x="6782400" y="3815280"/>
                  <a:chExt cx="1464480" cy="256104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>
                    <a:off x="6782400" y="381528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6782400" y="424224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6782400" y="466920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6782400" y="594972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6782400" y="637632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6782400" y="509580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6782400" y="552276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mc:AlternateContent>
              <mc:Choice xmlns:a14="http://schemas.microsoft.com/office/drawing/2010/main" Requires="a14">
                <p:sp>
                  <p:nvSpPr>
                    <p:cNvPr id="196" name=""/>
                    <p:cNvSpPr txBox="1"/>
                    <p:nvPr/>
                  </p:nvSpPr>
                  <p:spPr>
                    <a:xfrm>
                      <a:off x="7148520" y="5919480"/>
                      <a:ext cx="650880" cy="5486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E</m:t>
                              </m:r>
                            </m:e>
                          </m:acc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197" name=""/>
              <p:cNvSpPr/>
              <p:nvPr/>
            </p:nvSpPr>
            <p:spPr>
              <a:xfrm>
                <a:off x="6653160" y="4390920"/>
                <a:ext cx="117144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990000"/>
                    </a:solidFill>
                    <a:latin typeface="Arial"/>
                  </a:rPr>
                  <a:t>electro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646320" y="5570640"/>
                <a:ext cx="98676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990000"/>
                    </a:solidFill>
                    <a:latin typeface="Arial"/>
                  </a:rPr>
                  <a:t>proto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7370640" y="5456520"/>
              <a:ext cx="209520" cy="196920"/>
            </a:xfrm>
            <a:prstGeom prst="ellipse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24560" y="4681800"/>
              <a:ext cx="235080" cy="196920"/>
            </a:xfrm>
            <a:prstGeom prst="ellipse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649920" y="5381640"/>
              <a:ext cx="245880" cy="257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640200" y="4704120"/>
              <a:ext cx="284400" cy="295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306920" y="53262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297200" y="45403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4243320" y="1109520"/>
            <a:ext cx="2141640" cy="52884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5680" y="4354560"/>
            <a:ext cx="5919840" cy="16095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4441680"/>
            <a:ext cx="6181560" cy="12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Since 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F = ma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and 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lectron is much less massive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than the proton, the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ectron experiences the larger acceleration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-360" y="704520"/>
            <a:ext cx="4419720" cy="281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prot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an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electr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re in a constant electric field created by oppositely charged plates.  You release the 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prot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from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ositiv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ide and the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electr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from the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negativ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ide.  Which has the larger acceleratio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1b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lectric Potential Energy II 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05320" y="766800"/>
            <a:ext cx="473868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t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lectr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oth feel the same accele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neither–there is no accele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they feel the same magnitude acceleration but in opposite direc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"/>
          <p:cNvSpPr/>
          <p:nvPr/>
        </p:nvSpPr>
        <p:spPr>
          <a:xfrm>
            <a:off x="0" y="0"/>
            <a:ext cx="9144000" cy="28591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10c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apacitors II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4897440" y="1233360"/>
            <a:ext cx="2155680" cy="52092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08" name=""/>
          <p:cNvGrpSpPr/>
          <p:nvPr/>
        </p:nvGrpSpPr>
        <p:grpSpPr>
          <a:xfrm>
            <a:off x="3927600" y="3559320"/>
            <a:ext cx="5216400" cy="2347920"/>
            <a:chOff x="3927600" y="3559320"/>
            <a:chExt cx="5216400" cy="2347920"/>
          </a:xfrm>
        </p:grpSpPr>
        <p:sp>
          <p:nvSpPr>
            <p:cNvPr id="1109" name=""/>
            <p:cNvSpPr/>
            <p:nvPr/>
          </p:nvSpPr>
          <p:spPr>
            <a:xfrm>
              <a:off x="3927600" y="3559320"/>
              <a:ext cx="5216400" cy="234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461120" y="4242240"/>
              <a:ext cx="18770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V="1">
              <a:off x="4469040" y="5518440"/>
              <a:ext cx="2966400" cy="1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663520" y="4237200"/>
              <a:ext cx="0" cy="5540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360760" y="4791240"/>
              <a:ext cx="6037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5360760" y="5162760"/>
              <a:ext cx="6037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7423200" y="4210200"/>
              <a:ext cx="0" cy="5540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7423200" y="5135760"/>
              <a:ext cx="0" cy="370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120440" y="4764240"/>
              <a:ext cx="603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120440" y="5135760"/>
              <a:ext cx="603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896000" y="4758120"/>
              <a:ext cx="1620720" cy="4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00ff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</a:rPr>
                <a:t> = 1.0 </a:t>
              </a:r>
              <a:r>
                <a:rPr b="1" lang="en-US" sz="24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</a:t>
              </a: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654520" y="5183280"/>
              <a:ext cx="0" cy="370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7407000" y="4739040"/>
              <a:ext cx="1620720" cy="4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00ff00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</a:rPr>
                <a:t> = 1.0 </a:t>
              </a:r>
              <a:r>
                <a:rPr b="1" lang="en-US" sz="24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</a:t>
              </a: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V="1">
              <a:off x="6613200" y="3860640"/>
              <a:ext cx="0" cy="7398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 flipV="1">
              <a:off x="6358680" y="3863880"/>
              <a:ext cx="0" cy="7398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6625440" y="4215240"/>
              <a:ext cx="8096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711120" y="3724560"/>
              <a:ext cx="1620720" cy="4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00ff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</a:rPr>
                <a:t> = 1.0 </a:t>
              </a:r>
              <a:r>
                <a:rPr b="1" lang="en-US" sz="24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</a:t>
              </a: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997080" y="4964400"/>
              <a:ext cx="8114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10 V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308840" y="4743720"/>
              <a:ext cx="324360" cy="14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V="1">
              <a:off x="4465800" y="4967280"/>
              <a:ext cx="0" cy="5540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V="1">
              <a:off x="4462560" y="4237200"/>
              <a:ext cx="0" cy="5176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167720" y="4919760"/>
              <a:ext cx="589680" cy="14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31" name=""/>
          <p:cNvSpPr/>
          <p:nvPr/>
        </p:nvSpPr>
        <p:spPr>
          <a:xfrm>
            <a:off x="0" y="3112920"/>
            <a:ext cx="3887640" cy="323064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-79200" y="3213000"/>
            <a:ext cx="398592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We already know that the voltage across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00004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is 10 V and the voltage across both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00004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00004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is 5 V each.  Since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CV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is 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ame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for all the capacitors, then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ince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 &gt; V</a:t>
            </a:r>
            <a:r>
              <a:rPr b="1" i="1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therefore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&gt; Q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5049720" y="585720"/>
            <a:ext cx="3897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&gt;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&lt;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all charges are ze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-95400" y="879120"/>
            <a:ext cx="5021280" cy="19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8952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 does the charg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n the first capacitor (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compare to the charg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n the second capacitor (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0"/>
            <a:ext cx="9144000" cy="35146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174840" y="3675240"/>
            <a:ext cx="2739600" cy="2937960"/>
            <a:chOff x="3174840" y="3675240"/>
            <a:chExt cx="2739600" cy="2937960"/>
          </a:xfrm>
        </p:grpSpPr>
        <p:grpSp>
          <p:nvGrpSpPr>
            <p:cNvPr id="215" name=""/>
            <p:cNvGrpSpPr/>
            <p:nvPr/>
          </p:nvGrpSpPr>
          <p:grpSpPr>
            <a:xfrm>
              <a:off x="3174840" y="3675240"/>
              <a:ext cx="2739600" cy="2925360"/>
              <a:chOff x="3174840" y="3675240"/>
              <a:chExt cx="2739600" cy="2925360"/>
            </a:xfrm>
          </p:grpSpPr>
          <p:pic>
            <p:nvPicPr>
              <p:cNvPr id="216" name="" descr=""/>
              <p:cNvPicPr/>
              <p:nvPr/>
            </p:nvPicPr>
            <p:blipFill>
              <a:blip r:embed="rId1"/>
              <a:srcRect l="58595" t="26835" r="15521" b="25210"/>
              <a:stretch/>
            </p:blipFill>
            <p:spPr>
              <a:xfrm>
                <a:off x="3174840" y="3675240"/>
                <a:ext cx="2739600" cy="2925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17" name=""/>
              <p:cNvGrpSpPr/>
              <p:nvPr/>
            </p:nvGrpSpPr>
            <p:grpSpPr>
              <a:xfrm>
                <a:off x="3780360" y="3802680"/>
                <a:ext cx="1464480" cy="2561040"/>
                <a:chOff x="3780360" y="3802680"/>
                <a:chExt cx="1464480" cy="256104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3780360" y="380268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80360" y="422964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780360" y="465660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80360" y="593712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780360" y="636372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3780360" y="508320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3780360" y="551016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225" name=""/>
                  <p:cNvSpPr txBox="1"/>
                  <p:nvPr/>
                </p:nvSpPr>
                <p:spPr>
                  <a:xfrm>
                    <a:off x="4146480" y="5906880"/>
                    <a:ext cx="650880" cy="548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26" name=""/>
            <p:cNvSpPr/>
            <p:nvPr/>
          </p:nvSpPr>
          <p:spPr>
            <a:xfrm>
              <a:off x="3490560" y="4502160"/>
              <a:ext cx="11714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Arial"/>
                </a:rPr>
                <a:t>electr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483720" y="5681880"/>
              <a:ext cx="9867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Arial"/>
                </a:rPr>
                <a:t>prot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3174840" y="3687840"/>
              <a:ext cx="2739600" cy="2925360"/>
              <a:chOff x="3174840" y="3687840"/>
              <a:chExt cx="2739600" cy="2925360"/>
            </a:xfrm>
          </p:grpSpPr>
          <p:grpSp>
            <p:nvGrpSpPr>
              <p:cNvPr id="229" name=""/>
              <p:cNvGrpSpPr/>
              <p:nvPr/>
            </p:nvGrpSpPr>
            <p:grpSpPr>
              <a:xfrm>
                <a:off x="3174840" y="3687840"/>
                <a:ext cx="2739600" cy="2925360"/>
                <a:chOff x="3174840" y="3687840"/>
                <a:chExt cx="2739600" cy="2925360"/>
              </a:xfrm>
            </p:grpSpPr>
            <p:pic>
              <p:nvPicPr>
                <p:cNvPr id="230" name="" descr=""/>
                <p:cNvPicPr/>
                <p:nvPr/>
              </p:nvPicPr>
              <p:blipFill>
                <a:blip r:embed="rId2"/>
                <a:srcRect l="58595" t="26835" r="15521" b="25210"/>
                <a:stretch/>
              </p:blipFill>
              <p:spPr>
                <a:xfrm>
                  <a:off x="3174840" y="3687840"/>
                  <a:ext cx="2739600" cy="2925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231" name=""/>
                <p:cNvGrpSpPr/>
                <p:nvPr/>
              </p:nvGrpSpPr>
              <p:grpSpPr>
                <a:xfrm>
                  <a:off x="3780360" y="3815280"/>
                  <a:ext cx="1464480" cy="2561040"/>
                  <a:chOff x="3780360" y="3815280"/>
                  <a:chExt cx="1464480" cy="256104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>
                    <a:off x="3780360" y="381528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3780360" y="424224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3780360" y="466920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3780360" y="594972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3780360" y="637632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3780360" y="509580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3780360" y="552276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mc:AlternateContent>
              <mc:Choice xmlns:a14="http://schemas.microsoft.com/office/drawing/2010/main" Requires="a14">
                <p:sp>
                  <p:nvSpPr>
                    <p:cNvPr id="239" name=""/>
                    <p:cNvSpPr txBox="1"/>
                    <p:nvPr/>
                  </p:nvSpPr>
                  <p:spPr>
                    <a:xfrm>
                      <a:off x="4146480" y="5919480"/>
                      <a:ext cx="650880" cy="5486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E</m:t>
                              </m:r>
                            </m:e>
                          </m:acc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240" name=""/>
              <p:cNvSpPr/>
              <p:nvPr/>
            </p:nvSpPr>
            <p:spPr>
              <a:xfrm>
                <a:off x="3651120" y="4390920"/>
                <a:ext cx="117144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990000"/>
                    </a:solidFill>
                    <a:latin typeface="Arial"/>
                  </a:rPr>
                  <a:t>electro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644280" y="5570640"/>
                <a:ext cx="98676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990000"/>
                    </a:solidFill>
                    <a:latin typeface="Arial"/>
                  </a:rPr>
                  <a:t>proto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4368600" y="5456520"/>
              <a:ext cx="209520" cy="196920"/>
            </a:xfrm>
            <a:prstGeom prst="ellipse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322520" y="4681800"/>
              <a:ext cx="235080" cy="196920"/>
            </a:xfrm>
            <a:prstGeom prst="ellipse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647880" y="5381640"/>
              <a:ext cx="245880" cy="257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638160" y="4704120"/>
              <a:ext cx="284400" cy="295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304880" y="53262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295160" y="45403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668840" y="695160"/>
            <a:ext cx="45180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t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lectr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oth acquire the same K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 neither – there is no change of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K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 they both acquire the same K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t  with opposite sig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27040" y="0"/>
            <a:ext cx="81835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1c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lectric Potential Energy III 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-360" y="704520"/>
            <a:ext cx="4419720" cy="281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prot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an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electr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re in a constant electric field created by oppositely charged plates.  You release the 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prot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from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ositiv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ide and the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electr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from the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negativ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ide.   When it strikes the opposite plate, which one has more K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3784680"/>
            <a:ext cx="6070680" cy="27511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0"/>
            <a:ext cx="9144000" cy="35146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6148440" y="3675240"/>
            <a:ext cx="2739600" cy="2937960"/>
            <a:chOff x="6148440" y="3675240"/>
            <a:chExt cx="2739600" cy="2937960"/>
          </a:xfrm>
        </p:grpSpPr>
        <p:grpSp>
          <p:nvGrpSpPr>
            <p:cNvPr id="256" name=""/>
            <p:cNvGrpSpPr/>
            <p:nvPr/>
          </p:nvGrpSpPr>
          <p:grpSpPr>
            <a:xfrm>
              <a:off x="6148440" y="3675240"/>
              <a:ext cx="2739600" cy="2925360"/>
              <a:chOff x="6148440" y="3675240"/>
              <a:chExt cx="2739600" cy="2925360"/>
            </a:xfrm>
          </p:grpSpPr>
          <p:pic>
            <p:nvPicPr>
              <p:cNvPr id="257" name="" descr=""/>
              <p:cNvPicPr/>
              <p:nvPr/>
            </p:nvPicPr>
            <p:blipFill>
              <a:blip r:embed="rId1"/>
              <a:srcRect l="58595" t="26835" r="15521" b="25210"/>
              <a:stretch/>
            </p:blipFill>
            <p:spPr>
              <a:xfrm>
                <a:off x="6148440" y="3675240"/>
                <a:ext cx="2739600" cy="2925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58" name=""/>
              <p:cNvGrpSpPr/>
              <p:nvPr/>
            </p:nvGrpSpPr>
            <p:grpSpPr>
              <a:xfrm>
                <a:off x="6753960" y="3802680"/>
                <a:ext cx="1464480" cy="2561040"/>
                <a:chOff x="6753960" y="3802680"/>
                <a:chExt cx="1464480" cy="256104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6753960" y="380268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6753960" y="422964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6753960" y="465660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6753960" y="593712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753960" y="636372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753960" y="508320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753960" y="551016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266" name=""/>
                  <p:cNvSpPr txBox="1"/>
                  <p:nvPr/>
                </p:nvSpPr>
                <p:spPr>
                  <a:xfrm>
                    <a:off x="7120080" y="5906880"/>
                    <a:ext cx="650880" cy="548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67" name=""/>
            <p:cNvSpPr/>
            <p:nvPr/>
          </p:nvSpPr>
          <p:spPr>
            <a:xfrm>
              <a:off x="6464160" y="4502160"/>
              <a:ext cx="11714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Arial"/>
                </a:rPr>
                <a:t>electr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57320" y="5681880"/>
              <a:ext cx="9867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Arial"/>
                </a:rPr>
                <a:t>prot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6148440" y="3687840"/>
              <a:ext cx="2739600" cy="2925360"/>
              <a:chOff x="6148440" y="3687840"/>
              <a:chExt cx="2739600" cy="2925360"/>
            </a:xfrm>
          </p:grpSpPr>
          <p:grpSp>
            <p:nvGrpSpPr>
              <p:cNvPr id="270" name=""/>
              <p:cNvGrpSpPr/>
              <p:nvPr/>
            </p:nvGrpSpPr>
            <p:grpSpPr>
              <a:xfrm>
                <a:off x="6148440" y="3687840"/>
                <a:ext cx="2739600" cy="2925360"/>
                <a:chOff x="6148440" y="3687840"/>
                <a:chExt cx="2739600" cy="2925360"/>
              </a:xfrm>
            </p:grpSpPr>
            <p:pic>
              <p:nvPicPr>
                <p:cNvPr id="271" name="" descr=""/>
                <p:cNvPicPr/>
                <p:nvPr/>
              </p:nvPicPr>
              <p:blipFill>
                <a:blip r:embed="rId2"/>
                <a:srcRect l="58595" t="26835" r="15521" b="25210"/>
                <a:stretch/>
              </p:blipFill>
              <p:spPr>
                <a:xfrm>
                  <a:off x="6148440" y="3687840"/>
                  <a:ext cx="2739600" cy="2925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272" name=""/>
                <p:cNvGrpSpPr/>
                <p:nvPr/>
              </p:nvGrpSpPr>
              <p:grpSpPr>
                <a:xfrm>
                  <a:off x="6753960" y="3815280"/>
                  <a:ext cx="1464480" cy="2561040"/>
                  <a:chOff x="6753960" y="3815280"/>
                  <a:chExt cx="1464480" cy="2561040"/>
                </a:xfrm>
              </p:grpSpPr>
              <p:sp>
                <p:nvSpPr>
                  <p:cNvPr id="273" name=""/>
                  <p:cNvSpPr/>
                  <p:nvPr/>
                </p:nvSpPr>
                <p:spPr>
                  <a:xfrm>
                    <a:off x="6753960" y="381528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6753960" y="424224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6753960" y="466920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6753960" y="594972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6753960" y="637632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6753960" y="509580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6753960" y="552276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mc:AlternateContent>
              <mc:Choice xmlns:a14="http://schemas.microsoft.com/office/drawing/2010/main" Requires="a14">
                <p:sp>
                  <p:nvSpPr>
                    <p:cNvPr id="280" name=""/>
                    <p:cNvSpPr txBox="1"/>
                    <p:nvPr/>
                  </p:nvSpPr>
                  <p:spPr>
                    <a:xfrm>
                      <a:off x="7120080" y="5919480"/>
                      <a:ext cx="650880" cy="5486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E</m:t>
                              </m:r>
                            </m:e>
                          </m:acc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281" name=""/>
              <p:cNvSpPr/>
              <p:nvPr/>
            </p:nvSpPr>
            <p:spPr>
              <a:xfrm>
                <a:off x="6624720" y="4390920"/>
                <a:ext cx="117144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990000"/>
                    </a:solidFill>
                    <a:latin typeface="Arial"/>
                  </a:rPr>
                  <a:t>electro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617880" y="5570640"/>
                <a:ext cx="98676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990000"/>
                    </a:solidFill>
                    <a:latin typeface="Arial"/>
                  </a:rPr>
                  <a:t>proto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7342200" y="5456520"/>
              <a:ext cx="209520" cy="196920"/>
            </a:xfrm>
            <a:prstGeom prst="ellipse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296120" y="4681800"/>
              <a:ext cx="235080" cy="196920"/>
            </a:xfrm>
            <a:prstGeom prst="ellipse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621480" y="5381640"/>
              <a:ext cx="245880" cy="257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611760" y="4704120"/>
              <a:ext cx="284400" cy="295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278480" y="53262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268760" y="45403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4459320" y="1460520"/>
            <a:ext cx="4400640" cy="5284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3828960"/>
            <a:ext cx="595476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Sinc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E =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qV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and the proton and electron have 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ame charge in magnitude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, they both have 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ame electric potential energy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initially.   Because energy is conserved, they both must have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ame kinetic energy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after they reach the opposite pla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27040" y="0"/>
            <a:ext cx="81835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1c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lectric Potential Energy III 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-360" y="704520"/>
            <a:ext cx="4419720" cy="281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prot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an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electr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re in a constant electric field created by oppositely charged plates.  You release the 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prot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from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ositiv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ide and the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electr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from the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negativ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ide.   When it strikes the opposite plate, which one has more K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668840" y="695160"/>
            <a:ext cx="45180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t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lectr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oth acquire the same K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 neither – there is no change of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K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 they both acquire the same K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t  with opposite sig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0"/>
            <a:ext cx="9144000" cy="376236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306360" y="652320"/>
            <a:ext cx="8058240" cy="92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ich group of charges took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more wor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to bring together from a very large initial distance apar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16080" y="1778040"/>
            <a:ext cx="35208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1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6411600" y="1367280"/>
            <a:ext cx="2282400" cy="2004120"/>
            <a:chOff x="6411600" y="1367280"/>
            <a:chExt cx="2282400" cy="2004120"/>
          </a:xfrm>
        </p:grpSpPr>
        <p:grpSp>
          <p:nvGrpSpPr>
            <p:cNvPr id="300" name=""/>
            <p:cNvGrpSpPr/>
            <p:nvPr/>
          </p:nvGrpSpPr>
          <p:grpSpPr>
            <a:xfrm>
              <a:off x="6411600" y="2732040"/>
              <a:ext cx="528120" cy="423000"/>
              <a:chOff x="6411600" y="2732040"/>
              <a:chExt cx="528120" cy="423000"/>
            </a:xfrm>
          </p:grpSpPr>
          <p:sp>
            <p:nvSpPr>
              <p:cNvPr id="301" name=""/>
              <p:cNvSpPr/>
              <p:nvPr/>
            </p:nvSpPr>
            <p:spPr>
              <a:xfrm>
                <a:off x="6453000" y="2746800"/>
                <a:ext cx="442440" cy="391320"/>
              </a:xfrm>
              <a:prstGeom prst="ellipse">
                <a:avLst/>
              </a:prstGeom>
              <a:solidFill>
                <a:srgbClr val="00ff00"/>
              </a:solidFill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411600" y="2732040"/>
                <a:ext cx="5281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+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>
              <a:off x="6925680" y="2940480"/>
              <a:ext cx="125712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709040" y="1739160"/>
              <a:ext cx="562680" cy="97488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6785640" y="1752840"/>
              <a:ext cx="563040" cy="97488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7277760" y="1367280"/>
              <a:ext cx="528120" cy="423000"/>
              <a:chOff x="7277760" y="1367280"/>
              <a:chExt cx="528120" cy="423000"/>
            </a:xfrm>
          </p:grpSpPr>
          <p:sp>
            <p:nvSpPr>
              <p:cNvPr id="307" name=""/>
              <p:cNvSpPr/>
              <p:nvPr/>
            </p:nvSpPr>
            <p:spPr>
              <a:xfrm>
                <a:off x="7317360" y="1382040"/>
                <a:ext cx="443160" cy="391320"/>
              </a:xfrm>
              <a:prstGeom prst="ellipse">
                <a:avLst/>
              </a:prstGeom>
              <a:solidFill>
                <a:srgbClr val="00ff00"/>
              </a:solidFill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277760" y="1367280"/>
                <a:ext cx="5281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+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8165880" y="2688120"/>
              <a:ext cx="528120" cy="423000"/>
              <a:chOff x="8165880" y="2688120"/>
              <a:chExt cx="528120" cy="423000"/>
            </a:xfrm>
          </p:grpSpPr>
          <p:sp>
            <p:nvSpPr>
              <p:cNvPr id="310" name=""/>
              <p:cNvSpPr/>
              <p:nvPr/>
            </p:nvSpPr>
            <p:spPr>
              <a:xfrm>
                <a:off x="8207280" y="2702520"/>
                <a:ext cx="442440" cy="391320"/>
              </a:xfrm>
              <a:prstGeom prst="ellipse">
                <a:avLst/>
              </a:prstGeom>
              <a:solidFill>
                <a:srgbClr val="00ff00"/>
              </a:solidFill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8165880" y="2688120"/>
                <a:ext cx="5281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+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>
              <a:off x="6642720" y="1981080"/>
              <a:ext cx="3664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040240" y="1981080"/>
              <a:ext cx="3664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333920" y="2948400"/>
              <a:ext cx="3664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 txBox="1"/>
          <p:nvPr/>
        </p:nvSpPr>
        <p:spPr>
          <a:xfrm>
            <a:off x="6180120" y="142416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2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897120" y="1672200"/>
            <a:ext cx="2442240" cy="773640"/>
            <a:chOff x="897120" y="1672200"/>
            <a:chExt cx="2442240" cy="773640"/>
          </a:xfrm>
        </p:grpSpPr>
        <p:grpSp>
          <p:nvGrpSpPr>
            <p:cNvPr id="317" name=""/>
            <p:cNvGrpSpPr/>
            <p:nvPr/>
          </p:nvGrpSpPr>
          <p:grpSpPr>
            <a:xfrm>
              <a:off x="2811240" y="1958760"/>
              <a:ext cx="528120" cy="485280"/>
              <a:chOff x="2811240" y="1958760"/>
              <a:chExt cx="528120" cy="485280"/>
            </a:xfrm>
          </p:grpSpPr>
          <p:sp>
            <p:nvSpPr>
              <p:cNvPr id="318" name=""/>
              <p:cNvSpPr/>
              <p:nvPr/>
            </p:nvSpPr>
            <p:spPr>
              <a:xfrm>
                <a:off x="2828520" y="1958760"/>
                <a:ext cx="491760" cy="485280"/>
              </a:xfrm>
              <a:prstGeom prst="ellipse">
                <a:avLst/>
              </a:prstGeom>
              <a:solidFill>
                <a:srgbClr val="00ff00"/>
              </a:solidFill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811240" y="1990440"/>
                <a:ext cx="5281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+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0" name=""/>
            <p:cNvSpPr/>
            <p:nvPr/>
          </p:nvSpPr>
          <p:spPr>
            <a:xfrm>
              <a:off x="1433160" y="2203200"/>
              <a:ext cx="139680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897120" y="1960200"/>
              <a:ext cx="528120" cy="485640"/>
              <a:chOff x="897120" y="1960200"/>
              <a:chExt cx="528120" cy="485640"/>
            </a:xfrm>
          </p:grpSpPr>
          <p:sp>
            <p:nvSpPr>
              <p:cNvPr id="322" name=""/>
              <p:cNvSpPr/>
              <p:nvPr/>
            </p:nvSpPr>
            <p:spPr>
              <a:xfrm>
                <a:off x="915840" y="1960200"/>
                <a:ext cx="492120" cy="485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897120" y="1990440"/>
                <a:ext cx="5281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+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2003040" y="1672200"/>
              <a:ext cx="3664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847800" y="2943360"/>
            <a:ext cx="6111720" cy="647640"/>
            <a:chOff x="847800" y="2943360"/>
            <a:chExt cx="6111720" cy="647640"/>
          </a:xfrm>
        </p:grpSpPr>
        <p:sp>
          <p:nvSpPr>
            <p:cNvPr id="326" name=""/>
            <p:cNvSpPr txBox="1"/>
            <p:nvPr/>
          </p:nvSpPr>
          <p:spPr>
            <a:xfrm>
              <a:off x="847800" y="294336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3</a:t>
              </a:r>
              <a:endPara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438200" y="3137760"/>
              <a:ext cx="552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Both took the same amount of wor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8" name="PlaceHolder 2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2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Work and Potential Energy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4071960"/>
            <a:ext cx="4324320" cy="259704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4167360"/>
            <a:ext cx="421020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needed to assemble a collection of charges is the same as th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otal P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those charg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289080" y="5743440"/>
                <a:ext cx="18525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</m:t>
                    </m:r>
                    <m:r>
                      <m:t xml:space="preserve">=</m:t>
                    </m:r>
                    <m:r>
                      <m:t xml:space="preserve">k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1</m:t>
                        </m:r>
                        <m:r>
                          <m:t xml:space="preserve">Q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4" name=""/>
          <p:cNvSpPr/>
          <p:nvPr/>
        </p:nvSpPr>
        <p:spPr>
          <a:xfrm>
            <a:off x="0" y="0"/>
            <a:ext cx="9144000" cy="376236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306360" y="652320"/>
            <a:ext cx="8058240" cy="92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ich group of charges took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more wor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to bring together from a very large initial distance apar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16080" y="1778040"/>
            <a:ext cx="35208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1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6411600" y="1367280"/>
            <a:ext cx="2282400" cy="2004120"/>
            <a:chOff x="6411600" y="1367280"/>
            <a:chExt cx="2282400" cy="2004120"/>
          </a:xfrm>
        </p:grpSpPr>
        <p:grpSp>
          <p:nvGrpSpPr>
            <p:cNvPr id="338" name=""/>
            <p:cNvGrpSpPr/>
            <p:nvPr/>
          </p:nvGrpSpPr>
          <p:grpSpPr>
            <a:xfrm>
              <a:off x="6411600" y="2732040"/>
              <a:ext cx="528120" cy="423000"/>
              <a:chOff x="6411600" y="2732040"/>
              <a:chExt cx="528120" cy="423000"/>
            </a:xfrm>
          </p:grpSpPr>
          <p:sp>
            <p:nvSpPr>
              <p:cNvPr id="339" name=""/>
              <p:cNvSpPr/>
              <p:nvPr/>
            </p:nvSpPr>
            <p:spPr>
              <a:xfrm>
                <a:off x="6453000" y="2746800"/>
                <a:ext cx="442440" cy="391320"/>
              </a:xfrm>
              <a:prstGeom prst="ellipse">
                <a:avLst/>
              </a:prstGeom>
              <a:solidFill>
                <a:srgbClr val="00ff00"/>
              </a:solidFill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411600" y="2732040"/>
                <a:ext cx="5281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+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>
              <a:off x="6925680" y="2940480"/>
              <a:ext cx="125712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709040" y="1739160"/>
              <a:ext cx="562680" cy="97488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6785640" y="1752840"/>
              <a:ext cx="563040" cy="97488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4" name=""/>
            <p:cNvGrpSpPr/>
            <p:nvPr/>
          </p:nvGrpSpPr>
          <p:grpSpPr>
            <a:xfrm>
              <a:off x="7277760" y="1367280"/>
              <a:ext cx="528120" cy="423000"/>
              <a:chOff x="7277760" y="1367280"/>
              <a:chExt cx="528120" cy="423000"/>
            </a:xfrm>
          </p:grpSpPr>
          <p:sp>
            <p:nvSpPr>
              <p:cNvPr id="345" name=""/>
              <p:cNvSpPr/>
              <p:nvPr/>
            </p:nvSpPr>
            <p:spPr>
              <a:xfrm>
                <a:off x="7317360" y="1382040"/>
                <a:ext cx="443160" cy="391320"/>
              </a:xfrm>
              <a:prstGeom prst="ellipse">
                <a:avLst/>
              </a:prstGeom>
              <a:solidFill>
                <a:srgbClr val="00ff00"/>
              </a:solidFill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277760" y="1367280"/>
                <a:ext cx="5281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+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8165880" y="2688120"/>
              <a:ext cx="528120" cy="423000"/>
              <a:chOff x="8165880" y="2688120"/>
              <a:chExt cx="528120" cy="423000"/>
            </a:xfrm>
          </p:grpSpPr>
          <p:sp>
            <p:nvSpPr>
              <p:cNvPr id="348" name=""/>
              <p:cNvSpPr/>
              <p:nvPr/>
            </p:nvSpPr>
            <p:spPr>
              <a:xfrm>
                <a:off x="8207280" y="2702520"/>
                <a:ext cx="442440" cy="391320"/>
              </a:xfrm>
              <a:prstGeom prst="ellipse">
                <a:avLst/>
              </a:prstGeom>
              <a:solidFill>
                <a:srgbClr val="00ff00"/>
              </a:solidFill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8165880" y="2688120"/>
                <a:ext cx="5281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+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6642720" y="1981080"/>
              <a:ext cx="3664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040240" y="1981080"/>
              <a:ext cx="3664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333920" y="2948400"/>
              <a:ext cx="3664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 txBox="1"/>
          <p:nvPr/>
        </p:nvSpPr>
        <p:spPr>
          <a:xfrm>
            <a:off x="6180120" y="142416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2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897120" y="1672200"/>
            <a:ext cx="2442240" cy="773640"/>
            <a:chOff x="897120" y="1672200"/>
            <a:chExt cx="2442240" cy="773640"/>
          </a:xfrm>
        </p:grpSpPr>
        <p:grpSp>
          <p:nvGrpSpPr>
            <p:cNvPr id="355" name=""/>
            <p:cNvGrpSpPr/>
            <p:nvPr/>
          </p:nvGrpSpPr>
          <p:grpSpPr>
            <a:xfrm>
              <a:off x="2811240" y="1958760"/>
              <a:ext cx="528120" cy="485280"/>
              <a:chOff x="2811240" y="1958760"/>
              <a:chExt cx="528120" cy="485280"/>
            </a:xfrm>
          </p:grpSpPr>
          <p:sp>
            <p:nvSpPr>
              <p:cNvPr id="356" name=""/>
              <p:cNvSpPr/>
              <p:nvPr/>
            </p:nvSpPr>
            <p:spPr>
              <a:xfrm>
                <a:off x="2828520" y="1958760"/>
                <a:ext cx="491760" cy="485280"/>
              </a:xfrm>
              <a:prstGeom prst="ellipse">
                <a:avLst/>
              </a:prstGeom>
              <a:solidFill>
                <a:srgbClr val="00ff00"/>
              </a:solidFill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811240" y="1990440"/>
                <a:ext cx="5281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+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1433160" y="2203200"/>
              <a:ext cx="139680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9" name=""/>
            <p:cNvGrpSpPr/>
            <p:nvPr/>
          </p:nvGrpSpPr>
          <p:grpSpPr>
            <a:xfrm>
              <a:off x="897120" y="1960200"/>
              <a:ext cx="528120" cy="485640"/>
              <a:chOff x="897120" y="1960200"/>
              <a:chExt cx="528120" cy="485640"/>
            </a:xfrm>
          </p:grpSpPr>
          <p:sp>
            <p:nvSpPr>
              <p:cNvPr id="360" name=""/>
              <p:cNvSpPr/>
              <p:nvPr/>
            </p:nvSpPr>
            <p:spPr>
              <a:xfrm>
                <a:off x="915840" y="1960200"/>
                <a:ext cx="492120" cy="485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897120" y="1990440"/>
                <a:ext cx="5281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+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2" name=""/>
            <p:cNvSpPr/>
            <p:nvPr/>
          </p:nvSpPr>
          <p:spPr>
            <a:xfrm>
              <a:off x="2003040" y="1672200"/>
              <a:ext cx="3664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847800" y="2943360"/>
            <a:ext cx="6111720" cy="647640"/>
            <a:chOff x="847800" y="2943360"/>
            <a:chExt cx="6111720" cy="647640"/>
          </a:xfrm>
        </p:grpSpPr>
        <p:sp>
          <p:nvSpPr>
            <p:cNvPr id="364" name=""/>
            <p:cNvSpPr txBox="1"/>
            <p:nvPr/>
          </p:nvSpPr>
          <p:spPr>
            <a:xfrm>
              <a:off x="847800" y="294336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3</a:t>
              </a:r>
              <a:endPara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438200" y="3137760"/>
              <a:ext cx="552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Both took the same amount of wor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5811840" y="1306440"/>
            <a:ext cx="1106640" cy="939960"/>
          </a:xfrm>
          <a:prstGeom prst="ellipse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4619520" y="3840120"/>
            <a:ext cx="4524480" cy="1481040"/>
            <a:chOff x="4619520" y="3840120"/>
            <a:chExt cx="4524480" cy="1481040"/>
          </a:xfrm>
        </p:grpSpPr>
        <p:sp>
          <p:nvSpPr>
            <p:cNvPr id="368" name=""/>
            <p:cNvSpPr/>
            <p:nvPr/>
          </p:nvSpPr>
          <p:spPr>
            <a:xfrm>
              <a:off x="4619520" y="3840120"/>
              <a:ext cx="4524480" cy="148104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49840" y="3902040"/>
              <a:ext cx="439416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11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For case 1:</a:t>
              </a: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   </a:t>
              </a: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only 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 pair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0" name=""/>
                <p:cNvSpPr txBox="1"/>
                <p:nvPr/>
              </p:nvSpPr>
              <p:spPr>
                <a:xfrm>
                  <a:off x="5229360" y="4398840"/>
                  <a:ext cx="3117600" cy="86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E</m:t>
                      </m:r>
                      <m:r>
                        <m:t xml:space="preserve">=</m:t>
                      </m:r>
                      <m:r>
                        <m:t xml:space="preserve">k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d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k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d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71" name=""/>
          <p:cNvGrpSpPr/>
          <p:nvPr/>
        </p:nvGrpSpPr>
        <p:grpSpPr>
          <a:xfrm>
            <a:off x="4619520" y="5376960"/>
            <a:ext cx="4524480" cy="1481040"/>
            <a:chOff x="4619520" y="5376960"/>
            <a:chExt cx="4524480" cy="1481040"/>
          </a:xfrm>
        </p:grpSpPr>
        <p:sp>
          <p:nvSpPr>
            <p:cNvPr id="372" name=""/>
            <p:cNvSpPr/>
            <p:nvPr/>
          </p:nvSpPr>
          <p:spPr>
            <a:xfrm>
              <a:off x="4619520" y="5376960"/>
              <a:ext cx="4524480" cy="148104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749840" y="5438880"/>
              <a:ext cx="439416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11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For case 2:</a:t>
              </a:r>
              <a:r>
                <a:rPr b="1" lang="en-US" sz="2400" spc="-1" strike="noStrike">
                  <a:solidFill>
                    <a:srgbClr val="0066ff"/>
                  </a:solidFill>
                  <a:latin typeface="Arial"/>
                </a:rPr>
                <a:t>   </a:t>
              </a: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there are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 pairs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4" name=""/>
                <p:cNvSpPr txBox="1"/>
                <p:nvPr/>
              </p:nvSpPr>
              <p:spPr>
                <a:xfrm>
                  <a:off x="5072040" y="5935680"/>
                  <a:ext cx="3433680" cy="86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E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k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d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k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d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75" name=""/>
          <p:cNvSpPr/>
          <p:nvPr/>
        </p:nvSpPr>
        <p:spPr>
          <a:xfrm>
            <a:off x="2462040" y="5676840"/>
            <a:ext cx="16225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dded over all pai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2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Work and Potential Energy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0"/>
            <a:ext cx="9144000" cy="30830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784840" y="961920"/>
            <a:ext cx="1601640" cy="17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&lt;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2733840" y="3260880"/>
            <a:ext cx="4189320" cy="3103560"/>
            <a:chOff x="2733840" y="3260880"/>
            <a:chExt cx="4189320" cy="3103560"/>
          </a:xfrm>
        </p:grpSpPr>
        <p:pic>
          <p:nvPicPr>
            <p:cNvPr id="382" name="" descr=""/>
            <p:cNvPicPr/>
            <p:nvPr/>
          </p:nvPicPr>
          <p:blipFill>
            <a:blip r:embed="rId1"/>
            <a:srcRect l="7773" t="3874" r="5606" b="5499"/>
            <a:stretch/>
          </p:blipFill>
          <p:spPr>
            <a:xfrm>
              <a:off x="2733840" y="3260880"/>
              <a:ext cx="4189320" cy="310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/>
            <p:nvPr/>
          </p:nvSpPr>
          <p:spPr>
            <a:xfrm>
              <a:off x="3152880" y="3929400"/>
              <a:ext cx="141480" cy="152280"/>
            </a:xfrm>
            <a:prstGeom prst="ellipse">
              <a:avLst/>
            </a:prstGeom>
            <a:solidFill>
              <a:srgbClr val="00ff00"/>
            </a:solidFill>
            <a:ln w="3816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680000" y="3946680"/>
              <a:ext cx="142920" cy="1526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942280" y="3532320"/>
              <a:ext cx="400320" cy="423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55000" y="3548160"/>
              <a:ext cx="383400" cy="423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787320" y="1044720"/>
            <a:ext cx="3214800" cy="12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electric potential at point A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3a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lectric Potential 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2-12T15:55:06Z</dcterms:created>
  <dc:creator>C. Bennhold and J. Feldman</dc:creator>
  <dc:description/>
  <dc:language>en-US</dc:language>
  <cp:lastModifiedBy>The Evergreen State College</cp:lastModifiedBy>
  <cp:lastPrinted>2002-01-23T16:08:46Z</cp:lastPrinted>
  <dcterms:modified xsi:type="dcterms:W3CDTF">2008-07-14T15:34:51Z</dcterms:modified>
  <cp:revision>21558</cp:revision>
  <dc:subject/>
  <dc:title>Chap. 17 Conceptual Modules Giancoli</dc:title>
</cp:coreProperties>
</file>