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8CC8-13F6-4146-9C2D-4E70B0F194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9288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E9E66DC-9319-4C82-B8D6-5369AF6409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67A-B32A-4EAC-BEAE-F75F6280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2DE-6FC2-4411-9A24-99036C16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80E-FF52-48F7-B144-E75F1082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479-1D63-41EE-9CF5-84FD1957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4376-1B2B-4977-BD35-19B19FD3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5AD-DB10-48E2-B3A8-322FB604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9189-9886-4234-9FFD-8738F129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9BC-888D-4695-93D9-A31FEB04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69F-C25F-40EB-A070-74C8E8C7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7612-98FF-4F44-81E0-9ACEACCF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7CE-ACF5-46E5-B3D0-A91327E8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3DC-11B4-42C3-8D34-27CA80A3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C3E7-625D-4953-88B7-FC3F6A4A5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751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2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onducto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29360" y="693720"/>
            <a:ext cx="3439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neg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positive or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negative or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027240" y="3767040"/>
            <a:ext cx="3627720" cy="2220120"/>
            <a:chOff x="3027240" y="3767040"/>
            <a:chExt cx="3627720" cy="2220120"/>
          </a:xfrm>
        </p:grpSpPr>
        <p:sp>
          <p:nvSpPr>
            <p:cNvPr id="55" name=""/>
            <p:cNvSpPr/>
            <p:nvPr/>
          </p:nvSpPr>
          <p:spPr>
            <a:xfrm>
              <a:off x="3990960" y="3767040"/>
              <a:ext cx="2664000" cy="306360"/>
            </a:xfrm>
            <a:prstGeom prst="rect">
              <a:avLst/>
            </a:prstGeom>
            <a:solidFill>
              <a:srgbClr val="8080ff"/>
            </a:solidFill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239360" y="4091760"/>
              <a:ext cx="1077480" cy="1895400"/>
              <a:chOff x="4239360" y="4091760"/>
              <a:chExt cx="1077480" cy="1895400"/>
            </a:xfrm>
          </p:grpSpPr>
          <p:sp>
            <p:nvSpPr>
              <p:cNvPr id="57" name=""/>
              <p:cNvSpPr/>
              <p:nvPr/>
            </p:nvSpPr>
            <p:spPr>
              <a:xfrm rot="1441800">
                <a:off x="4340880" y="5250240"/>
                <a:ext cx="635040" cy="6350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4788000" y="4091760"/>
                <a:ext cx="528840" cy="11858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027240" y="5397480"/>
              <a:ext cx="1096920" cy="374400"/>
              <a:chOff x="3027240" y="5397480"/>
              <a:chExt cx="1096920" cy="374400"/>
            </a:xfrm>
          </p:grpSpPr>
          <p:sp>
            <p:nvSpPr>
              <p:cNvPr id="60" name=""/>
              <p:cNvSpPr/>
              <p:nvPr/>
            </p:nvSpPr>
            <p:spPr>
              <a:xfrm>
                <a:off x="3027240" y="5397480"/>
                <a:ext cx="1096920" cy="37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3811680" y="5467320"/>
                <a:ext cx="234720" cy="234720"/>
                <a:chOff x="3811680" y="5467320"/>
                <a:chExt cx="234720" cy="2347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3811680" y="5584320"/>
                  <a:ext cx="234720" cy="0"/>
                </a:xfrm>
                <a:prstGeom prst="line">
                  <a:avLst/>
                </a:prstGeom>
                <a:ln w="381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V="1">
                  <a:off x="3928680" y="5467320"/>
                  <a:ext cx="0" cy="234720"/>
                </a:xfrm>
                <a:prstGeom prst="line">
                  <a:avLst/>
                </a:prstGeom>
                <a:ln w="381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816120"/>
            <a:ext cx="4979880" cy="22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85560" indent="0">
              <a:lnSpc>
                <a:spcPct val="14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etal ball hangs from the ceiling by an insulating thread.  The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ttrac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charged rod held near the ball.  The charge of the ball must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64240" y="3890880"/>
            <a:ext cx="2809800" cy="296712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587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97680" y="0"/>
            <a:ext cx="947880" cy="6429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4840" y="3664080"/>
            <a:ext cx="5145120" cy="2319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9120" y="3681360"/>
            <a:ext cx="50198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charge +2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repels +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owards the right.  The charge +4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repels +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upward, but with a stronger force.  Therefore,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t force is up and to the right, but mostly up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926960" y="-1080"/>
            <a:ext cx="3905280" cy="3855600"/>
            <a:chOff x="4926960" y="-1080"/>
            <a:chExt cx="3905280" cy="3855600"/>
          </a:xfrm>
        </p:grpSpPr>
        <p:grpSp>
          <p:nvGrpSpPr>
            <p:cNvPr id="290" name=""/>
            <p:cNvGrpSpPr/>
            <p:nvPr/>
          </p:nvGrpSpPr>
          <p:grpSpPr>
            <a:xfrm>
              <a:off x="4926960" y="1631880"/>
              <a:ext cx="765720" cy="693720"/>
              <a:chOff x="4926960" y="1631880"/>
              <a:chExt cx="765720" cy="693720"/>
            </a:xfrm>
          </p:grpSpPr>
          <p:sp>
            <p:nvSpPr>
              <p:cNvPr id="291" name=""/>
              <p:cNvSpPr/>
              <p:nvPr/>
            </p:nvSpPr>
            <p:spPr>
              <a:xfrm>
                <a:off x="4962240" y="1631880"/>
                <a:ext cx="693720" cy="6937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926960" y="1767240"/>
                <a:ext cx="765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494040" y="3160800"/>
              <a:ext cx="765720" cy="693720"/>
              <a:chOff x="6494040" y="3160800"/>
              <a:chExt cx="765720" cy="693720"/>
            </a:xfrm>
          </p:grpSpPr>
          <p:sp>
            <p:nvSpPr>
              <p:cNvPr id="294" name=""/>
              <p:cNvSpPr/>
              <p:nvPr/>
            </p:nvSpPr>
            <p:spPr>
              <a:xfrm>
                <a:off x="6529320" y="3160800"/>
                <a:ext cx="693720" cy="69372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94040" y="3296160"/>
                <a:ext cx="765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4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V="1">
              <a:off x="6856200" y="568440"/>
              <a:ext cx="0" cy="102384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75600" y="1992240"/>
              <a:ext cx="10238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162560" y="964080"/>
              <a:ext cx="724320" cy="7243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008840" y="644040"/>
              <a:ext cx="383760" cy="9489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6530760" y="1631880"/>
              <a:ext cx="693720" cy="693720"/>
              <a:chOff x="6530760" y="1631880"/>
              <a:chExt cx="693720" cy="693720"/>
            </a:xfrm>
          </p:grpSpPr>
          <p:sp>
            <p:nvSpPr>
              <p:cNvPr id="301" name=""/>
              <p:cNvSpPr/>
              <p:nvPr/>
            </p:nvSpPr>
            <p:spPr>
              <a:xfrm>
                <a:off x="6530760" y="1631880"/>
                <a:ext cx="693720" cy="693720"/>
              </a:xfrm>
              <a:prstGeom prst="ellipse">
                <a:avLst/>
              </a:prstGeom>
              <a:solidFill>
                <a:srgbClr val="fafd00"/>
              </a:solidFill>
              <a:ln w="381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579360" y="176724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635880" y="-10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83880" y="132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88400" y="5133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12400" y="11800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82320" y="17895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7224120" y="1433520"/>
              <a:ext cx="942480" cy="4003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49360" y="1563840"/>
              <a:ext cx="325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99160" y="1981080"/>
              <a:ext cx="78588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867360" y="2349000"/>
              <a:ext cx="0" cy="785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33600" y="2573280"/>
              <a:ext cx="325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825880" y="4951440"/>
            <a:ext cx="765720" cy="519120"/>
            <a:chOff x="5825880" y="4951440"/>
            <a:chExt cx="765720" cy="519120"/>
          </a:xfrm>
        </p:grpSpPr>
        <p:sp>
          <p:nvSpPr>
            <p:cNvPr id="314" name=""/>
            <p:cNvSpPr/>
            <p:nvPr/>
          </p:nvSpPr>
          <p:spPr>
            <a:xfrm>
              <a:off x="5951160" y="4951440"/>
              <a:ext cx="513360" cy="51912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25880" y="5000040"/>
              <a:ext cx="765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2</a:t>
              </a:r>
              <a:r>
                <a:rPr b="1" i="1" lang="en-US" sz="2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986160" y="6095880"/>
            <a:ext cx="765720" cy="519120"/>
            <a:chOff x="6986160" y="6095880"/>
            <a:chExt cx="765720" cy="519120"/>
          </a:xfrm>
        </p:grpSpPr>
        <p:sp>
          <p:nvSpPr>
            <p:cNvPr id="317" name=""/>
            <p:cNvSpPr/>
            <p:nvPr/>
          </p:nvSpPr>
          <p:spPr>
            <a:xfrm>
              <a:off x="7110720" y="6095880"/>
              <a:ext cx="513360" cy="51912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86160" y="6144480"/>
              <a:ext cx="765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4</a:t>
              </a:r>
              <a:r>
                <a:rPr b="1" i="1" lang="en-US" sz="2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V="1">
            <a:off x="7412040" y="4177800"/>
            <a:ext cx="512640" cy="984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112160" y="4951440"/>
            <a:ext cx="514080" cy="519120"/>
            <a:chOff x="7112160" y="4951440"/>
            <a:chExt cx="514080" cy="519120"/>
          </a:xfrm>
        </p:grpSpPr>
        <p:sp>
          <p:nvSpPr>
            <p:cNvPr id="321" name=""/>
            <p:cNvSpPr/>
            <p:nvPr/>
          </p:nvSpPr>
          <p:spPr>
            <a:xfrm>
              <a:off x="7112160" y="4951440"/>
              <a:ext cx="514080" cy="51912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76680" y="5000040"/>
              <a:ext cx="1846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7356600" y="4156200"/>
            <a:ext cx="5652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959600" y="4155840"/>
            <a:ext cx="0" cy="1060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353360" y="4154040"/>
            <a:ext cx="0" cy="106524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94400" y="5214960"/>
            <a:ext cx="540000" cy="14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5680080" cy="9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orces in 2D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945720"/>
            <a:ext cx="37656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arrows best represents the direction of the net force on charge +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other two charg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2560" y="6146640"/>
            <a:ext cx="456588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would happens if the yellow charge were +3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2998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60320" y="3129120"/>
            <a:ext cx="7594560" cy="1473120"/>
            <a:chOff x="760320" y="3129120"/>
            <a:chExt cx="7594560" cy="1473120"/>
          </a:xfrm>
        </p:grpSpPr>
        <p:grpSp>
          <p:nvGrpSpPr>
            <p:cNvPr id="332" name=""/>
            <p:cNvGrpSpPr/>
            <p:nvPr/>
          </p:nvGrpSpPr>
          <p:grpSpPr>
            <a:xfrm>
              <a:off x="3127320" y="3623040"/>
              <a:ext cx="528120" cy="485640"/>
              <a:chOff x="3127320" y="3623040"/>
              <a:chExt cx="528120" cy="485640"/>
            </a:xfrm>
          </p:grpSpPr>
          <p:sp>
            <p:nvSpPr>
              <p:cNvPr id="333" name=""/>
              <p:cNvSpPr/>
              <p:nvPr/>
            </p:nvSpPr>
            <p:spPr>
              <a:xfrm>
                <a:off x="3146040" y="362304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127320" y="3653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351920" y="3623040"/>
              <a:ext cx="528120" cy="485640"/>
              <a:chOff x="7351920" y="3623040"/>
              <a:chExt cx="528120" cy="485640"/>
            </a:xfrm>
          </p:grpSpPr>
          <p:sp>
            <p:nvSpPr>
              <p:cNvPr id="336" name=""/>
              <p:cNvSpPr/>
              <p:nvPr/>
            </p:nvSpPr>
            <p:spPr>
              <a:xfrm>
                <a:off x="7368840" y="3623040"/>
                <a:ext cx="492120" cy="4856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51920" y="36550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76032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1182960" y="3623040"/>
              <a:ext cx="528120" cy="485640"/>
              <a:chOff x="1182960" y="3623040"/>
              <a:chExt cx="528120" cy="485640"/>
            </a:xfrm>
          </p:grpSpPr>
          <p:sp>
            <p:nvSpPr>
              <p:cNvPr id="340" name=""/>
              <p:cNvSpPr/>
              <p:nvPr/>
            </p:nvSpPr>
            <p:spPr>
              <a:xfrm>
                <a:off x="120024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8296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399280" y="3623040"/>
              <a:ext cx="528120" cy="485640"/>
              <a:chOff x="5399280" y="3623040"/>
              <a:chExt cx="528120" cy="485640"/>
            </a:xfrm>
          </p:grpSpPr>
          <p:sp>
            <p:nvSpPr>
              <p:cNvPr id="343" name=""/>
              <p:cNvSpPr/>
              <p:nvPr/>
            </p:nvSpPr>
            <p:spPr>
              <a:xfrm>
                <a:off x="541656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9928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478620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3808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4784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4180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0880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4970520" y="682560"/>
            <a:ext cx="41734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 same for both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745920"/>
            <a:ext cx="3813120" cy="20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twe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, which of them experiences the greate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lectric fiel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8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eld and For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629320" y="1560600"/>
            <a:ext cx="528120" cy="485640"/>
            <a:chOff x="5629320" y="1560600"/>
            <a:chExt cx="528120" cy="485640"/>
          </a:xfrm>
        </p:grpSpPr>
        <p:sp>
          <p:nvSpPr>
            <p:cNvPr id="354" name=""/>
            <p:cNvSpPr/>
            <p:nvPr/>
          </p:nvSpPr>
          <p:spPr>
            <a:xfrm>
              <a:off x="5648040" y="1560600"/>
              <a:ext cx="492120" cy="485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29320" y="159084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597640" y="747720"/>
            <a:ext cx="528120" cy="485640"/>
            <a:chOff x="5597640" y="747720"/>
            <a:chExt cx="528120" cy="485640"/>
          </a:xfrm>
        </p:grpSpPr>
        <p:sp>
          <p:nvSpPr>
            <p:cNvPr id="357" name=""/>
            <p:cNvSpPr/>
            <p:nvPr/>
          </p:nvSpPr>
          <p:spPr>
            <a:xfrm>
              <a:off x="5614560" y="747720"/>
              <a:ext cx="492120" cy="48564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97640" y="77976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14360" y="5027760"/>
            <a:ext cx="5303880" cy="12999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4360" y="4976640"/>
            <a:ext cx="517680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Both charges feel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electric fiel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due to the green charge because they are a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e point in spa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9144000" cy="2998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60320" y="3129120"/>
            <a:ext cx="7594560" cy="1473120"/>
            <a:chOff x="760320" y="3129120"/>
            <a:chExt cx="7594560" cy="1473120"/>
          </a:xfrm>
        </p:grpSpPr>
        <p:grpSp>
          <p:nvGrpSpPr>
            <p:cNvPr id="363" name=""/>
            <p:cNvGrpSpPr/>
            <p:nvPr/>
          </p:nvGrpSpPr>
          <p:grpSpPr>
            <a:xfrm>
              <a:off x="3127320" y="3623040"/>
              <a:ext cx="528120" cy="485640"/>
              <a:chOff x="3127320" y="3623040"/>
              <a:chExt cx="528120" cy="485640"/>
            </a:xfrm>
          </p:grpSpPr>
          <p:sp>
            <p:nvSpPr>
              <p:cNvPr id="364" name=""/>
              <p:cNvSpPr/>
              <p:nvPr/>
            </p:nvSpPr>
            <p:spPr>
              <a:xfrm>
                <a:off x="3146040" y="362304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127320" y="3653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7351920" y="3623040"/>
              <a:ext cx="528120" cy="485640"/>
              <a:chOff x="7351920" y="3623040"/>
              <a:chExt cx="528120" cy="485640"/>
            </a:xfrm>
          </p:grpSpPr>
          <p:sp>
            <p:nvSpPr>
              <p:cNvPr id="367" name=""/>
              <p:cNvSpPr/>
              <p:nvPr/>
            </p:nvSpPr>
            <p:spPr>
              <a:xfrm>
                <a:off x="7368840" y="3623040"/>
                <a:ext cx="492120" cy="4856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51920" y="36550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76032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182960" y="3623040"/>
              <a:ext cx="528120" cy="485640"/>
              <a:chOff x="1182960" y="3623040"/>
              <a:chExt cx="528120" cy="485640"/>
            </a:xfrm>
          </p:grpSpPr>
          <p:sp>
            <p:nvSpPr>
              <p:cNvPr id="371" name=""/>
              <p:cNvSpPr/>
              <p:nvPr/>
            </p:nvSpPr>
            <p:spPr>
              <a:xfrm>
                <a:off x="120024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18296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399280" y="3623040"/>
              <a:ext cx="528120" cy="485640"/>
              <a:chOff x="5399280" y="3623040"/>
              <a:chExt cx="528120" cy="485640"/>
            </a:xfrm>
          </p:grpSpPr>
          <p:sp>
            <p:nvSpPr>
              <p:cNvPr id="374" name=""/>
              <p:cNvSpPr/>
              <p:nvPr/>
            </p:nvSpPr>
            <p:spPr>
              <a:xfrm>
                <a:off x="541656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39928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478620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3808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4784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4180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0880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4970520" y="682560"/>
            <a:ext cx="41734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 same for both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415200" y="4883040"/>
            <a:ext cx="1850760" cy="1414080"/>
            <a:chOff x="6415200" y="4883040"/>
            <a:chExt cx="1850760" cy="1414080"/>
          </a:xfrm>
        </p:grpSpPr>
        <p:sp>
          <p:nvSpPr>
            <p:cNvPr id="383" name=""/>
            <p:cNvSpPr/>
            <p:nvPr/>
          </p:nvSpPr>
          <p:spPr>
            <a:xfrm>
              <a:off x="6415200" y="4883040"/>
              <a:ext cx="1850760" cy="1414080"/>
            </a:xfrm>
            <a:prstGeom prst="roundRect">
              <a:avLst>
                <a:gd name="adj" fmla="val 16667"/>
              </a:avLst>
            </a:prstGeom>
            <a:solidFill>
              <a:srgbClr val="00004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6711480" y="5061600"/>
                  <a:ext cx="1280880" cy="93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0" y="745920"/>
            <a:ext cx="3813120" cy="20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twe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, which of them experiences the greate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lectric fiel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8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eld and For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3440" y="2151000"/>
            <a:ext cx="3697560" cy="5684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629320" y="1560600"/>
            <a:ext cx="528120" cy="485640"/>
            <a:chOff x="5629320" y="1560600"/>
            <a:chExt cx="528120" cy="485640"/>
          </a:xfrm>
        </p:grpSpPr>
        <p:sp>
          <p:nvSpPr>
            <p:cNvPr id="389" name=""/>
            <p:cNvSpPr/>
            <p:nvPr/>
          </p:nvSpPr>
          <p:spPr>
            <a:xfrm>
              <a:off x="5648040" y="1560600"/>
              <a:ext cx="492120" cy="485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29320" y="159084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597640" y="747720"/>
            <a:ext cx="528120" cy="485640"/>
            <a:chOff x="5597640" y="747720"/>
            <a:chExt cx="528120" cy="485640"/>
          </a:xfrm>
        </p:grpSpPr>
        <p:sp>
          <p:nvSpPr>
            <p:cNvPr id="392" name=""/>
            <p:cNvSpPr/>
            <p:nvPr/>
          </p:nvSpPr>
          <p:spPr>
            <a:xfrm>
              <a:off x="5614560" y="747720"/>
              <a:ext cx="492120" cy="48564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97640" y="77976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9144000" cy="2998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60320" y="3129120"/>
            <a:ext cx="7594560" cy="1473120"/>
            <a:chOff x="760320" y="3129120"/>
            <a:chExt cx="7594560" cy="1473120"/>
          </a:xfrm>
        </p:grpSpPr>
        <p:grpSp>
          <p:nvGrpSpPr>
            <p:cNvPr id="396" name=""/>
            <p:cNvGrpSpPr/>
            <p:nvPr/>
          </p:nvGrpSpPr>
          <p:grpSpPr>
            <a:xfrm>
              <a:off x="3127320" y="3623040"/>
              <a:ext cx="528120" cy="485640"/>
              <a:chOff x="3127320" y="3623040"/>
              <a:chExt cx="528120" cy="485640"/>
            </a:xfrm>
          </p:grpSpPr>
          <p:sp>
            <p:nvSpPr>
              <p:cNvPr id="397" name=""/>
              <p:cNvSpPr/>
              <p:nvPr/>
            </p:nvSpPr>
            <p:spPr>
              <a:xfrm>
                <a:off x="3146040" y="362304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27320" y="3653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7351920" y="3623040"/>
              <a:ext cx="528120" cy="485640"/>
              <a:chOff x="7351920" y="3623040"/>
              <a:chExt cx="528120" cy="485640"/>
            </a:xfrm>
          </p:grpSpPr>
          <p:sp>
            <p:nvSpPr>
              <p:cNvPr id="400" name=""/>
              <p:cNvSpPr/>
              <p:nvPr/>
            </p:nvSpPr>
            <p:spPr>
              <a:xfrm>
                <a:off x="7368840" y="3623040"/>
                <a:ext cx="492120" cy="4856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51920" y="36550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76032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182960" y="3623040"/>
              <a:ext cx="528120" cy="485640"/>
              <a:chOff x="1182960" y="3623040"/>
              <a:chExt cx="528120" cy="485640"/>
            </a:xfrm>
          </p:grpSpPr>
          <p:sp>
            <p:nvSpPr>
              <p:cNvPr id="404" name=""/>
              <p:cNvSpPr/>
              <p:nvPr/>
            </p:nvSpPr>
            <p:spPr>
              <a:xfrm>
                <a:off x="120024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18296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5399280" y="3623040"/>
              <a:ext cx="528120" cy="485640"/>
              <a:chOff x="5399280" y="3623040"/>
              <a:chExt cx="528120" cy="485640"/>
            </a:xfrm>
          </p:grpSpPr>
          <p:sp>
            <p:nvSpPr>
              <p:cNvPr id="407" name=""/>
              <p:cNvSpPr/>
              <p:nvPr/>
            </p:nvSpPr>
            <p:spPr>
              <a:xfrm>
                <a:off x="541656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9928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478620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3808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4784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4180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50880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4970520" y="682560"/>
            <a:ext cx="41734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 same for both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745920"/>
            <a:ext cx="3813120" cy="20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twe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, which of them experiences the greate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lectric for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8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eld and For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629320" y="1560600"/>
            <a:ext cx="528120" cy="485640"/>
            <a:chOff x="5629320" y="1560600"/>
            <a:chExt cx="528120" cy="485640"/>
          </a:xfrm>
        </p:grpSpPr>
        <p:sp>
          <p:nvSpPr>
            <p:cNvPr id="418" name=""/>
            <p:cNvSpPr/>
            <p:nvPr/>
          </p:nvSpPr>
          <p:spPr>
            <a:xfrm>
              <a:off x="5648040" y="1560600"/>
              <a:ext cx="492120" cy="485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29320" y="159084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597640" y="747720"/>
            <a:ext cx="528120" cy="485640"/>
            <a:chOff x="5597640" y="747720"/>
            <a:chExt cx="528120" cy="485640"/>
          </a:xfrm>
        </p:grpSpPr>
        <p:sp>
          <p:nvSpPr>
            <p:cNvPr id="421" name=""/>
            <p:cNvSpPr/>
            <p:nvPr/>
          </p:nvSpPr>
          <p:spPr>
            <a:xfrm>
              <a:off x="5614560" y="747720"/>
              <a:ext cx="492120" cy="48564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97640" y="77976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57040" y="4979880"/>
            <a:ext cx="6242040" cy="14335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7040" y="5002200"/>
            <a:ext cx="610416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ectric field is the sam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or both charges, bu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on a given charge also depends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gnitude of that specific charg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9144000" cy="2998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60320" y="3129120"/>
            <a:ext cx="7594560" cy="1473120"/>
            <a:chOff x="760320" y="3129120"/>
            <a:chExt cx="7594560" cy="1473120"/>
          </a:xfrm>
        </p:grpSpPr>
        <p:grpSp>
          <p:nvGrpSpPr>
            <p:cNvPr id="427" name=""/>
            <p:cNvGrpSpPr/>
            <p:nvPr/>
          </p:nvGrpSpPr>
          <p:grpSpPr>
            <a:xfrm>
              <a:off x="3127320" y="3623040"/>
              <a:ext cx="528120" cy="485640"/>
              <a:chOff x="3127320" y="3623040"/>
              <a:chExt cx="528120" cy="485640"/>
            </a:xfrm>
          </p:grpSpPr>
          <p:sp>
            <p:nvSpPr>
              <p:cNvPr id="428" name=""/>
              <p:cNvSpPr/>
              <p:nvPr/>
            </p:nvSpPr>
            <p:spPr>
              <a:xfrm>
                <a:off x="3146040" y="362304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27320" y="3653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7351920" y="3623040"/>
              <a:ext cx="528120" cy="485640"/>
              <a:chOff x="7351920" y="3623040"/>
              <a:chExt cx="528120" cy="485640"/>
            </a:xfrm>
          </p:grpSpPr>
          <p:sp>
            <p:nvSpPr>
              <p:cNvPr id="431" name=""/>
              <p:cNvSpPr/>
              <p:nvPr/>
            </p:nvSpPr>
            <p:spPr>
              <a:xfrm>
                <a:off x="7368840" y="3623040"/>
                <a:ext cx="492120" cy="4856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351920" y="36550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76032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182960" y="3623040"/>
              <a:ext cx="528120" cy="485640"/>
              <a:chOff x="1182960" y="3623040"/>
              <a:chExt cx="528120" cy="485640"/>
            </a:xfrm>
          </p:grpSpPr>
          <p:sp>
            <p:nvSpPr>
              <p:cNvPr id="435" name=""/>
              <p:cNvSpPr/>
              <p:nvPr/>
            </p:nvSpPr>
            <p:spPr>
              <a:xfrm>
                <a:off x="120024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18296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5399280" y="3623040"/>
              <a:ext cx="528120" cy="485640"/>
              <a:chOff x="5399280" y="3623040"/>
              <a:chExt cx="528120" cy="485640"/>
            </a:xfrm>
          </p:grpSpPr>
          <p:sp>
            <p:nvSpPr>
              <p:cNvPr id="438" name=""/>
              <p:cNvSpPr/>
              <p:nvPr/>
            </p:nvSpPr>
            <p:spPr>
              <a:xfrm>
                <a:off x="541656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39928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478620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3808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4784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4180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0880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4970520" y="682560"/>
            <a:ext cx="41734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 same for both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0" y="745920"/>
            <a:ext cx="3813120" cy="20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twe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, which of them experiences the greate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lectric for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969240" y="5372280"/>
            <a:ext cx="1571400" cy="598320"/>
            <a:chOff x="6969240" y="5372280"/>
            <a:chExt cx="1571400" cy="598320"/>
          </a:xfrm>
        </p:grpSpPr>
        <p:sp>
          <p:nvSpPr>
            <p:cNvPr id="448" name=""/>
            <p:cNvSpPr/>
            <p:nvPr/>
          </p:nvSpPr>
          <p:spPr>
            <a:xfrm>
              <a:off x="6969240" y="5372280"/>
              <a:ext cx="1571400" cy="598320"/>
            </a:xfrm>
            <a:prstGeom prst="roundRect">
              <a:avLst>
                <a:gd name="adj" fmla="val 16667"/>
              </a:avLst>
            </a:prstGeom>
            <a:solidFill>
              <a:srgbClr val="00004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7162920" y="5423040"/>
                  <a:ext cx="11095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q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8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eld and For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62560" y="1455840"/>
            <a:ext cx="2881080" cy="7142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5629320" y="1560600"/>
            <a:ext cx="528120" cy="485640"/>
            <a:chOff x="5629320" y="1560600"/>
            <a:chExt cx="528120" cy="485640"/>
          </a:xfrm>
        </p:grpSpPr>
        <p:sp>
          <p:nvSpPr>
            <p:cNvPr id="453" name=""/>
            <p:cNvSpPr/>
            <p:nvPr/>
          </p:nvSpPr>
          <p:spPr>
            <a:xfrm>
              <a:off x="5648040" y="1560600"/>
              <a:ext cx="492120" cy="485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29320" y="159084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5597640" y="747720"/>
            <a:ext cx="528120" cy="485640"/>
            <a:chOff x="5597640" y="747720"/>
            <a:chExt cx="528120" cy="485640"/>
          </a:xfrm>
        </p:grpSpPr>
        <p:sp>
          <p:nvSpPr>
            <p:cNvPr id="456" name=""/>
            <p:cNvSpPr/>
            <p:nvPr/>
          </p:nvSpPr>
          <p:spPr>
            <a:xfrm>
              <a:off x="5614560" y="747720"/>
              <a:ext cx="492120" cy="48564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97640" y="77976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9144000" cy="3333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-360" y="853560"/>
            <a:ext cx="384660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field at the center of the squ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867640" y="755640"/>
            <a:ext cx="2800080" cy="2321640"/>
            <a:chOff x="5867640" y="755640"/>
            <a:chExt cx="2800080" cy="2321640"/>
          </a:xfrm>
        </p:grpSpPr>
        <p:sp>
          <p:nvSpPr>
            <p:cNvPr id="461" name=""/>
            <p:cNvSpPr/>
            <p:nvPr/>
          </p:nvSpPr>
          <p:spPr>
            <a:xfrm>
              <a:off x="6748200" y="954360"/>
              <a:ext cx="1919520" cy="191916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31000" y="1906920"/>
              <a:ext cx="7714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940080" y="1911600"/>
              <a:ext cx="771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711920" y="1135080"/>
              <a:ext cx="0" cy="7718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7163280" y="132984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88160" y="1878120"/>
              <a:ext cx="5544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236080" y="1932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940800" y="19558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26480" y="970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88600" y="9655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30840" y="839880"/>
              <a:ext cx="23832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26160" y="2740320"/>
              <a:ext cx="23796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67640" y="26542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67640" y="75564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3648240" y="2584440"/>
            <a:ext cx="1514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=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0"/>
            <a:ext cx="9144000" cy="3333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65080" y="3543480"/>
            <a:ext cx="6996240" cy="2124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65080" y="3662280"/>
            <a:ext cx="7045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For the upper charge, th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 vector at the center of the square points toward that charge.  For the lower charge, the same thing is true.  Then the vector sum of these two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 vector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ints to the lef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-360" y="853560"/>
            <a:ext cx="384660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field at the center of the squ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867640" y="755640"/>
            <a:ext cx="2800080" cy="2321640"/>
            <a:chOff x="5867640" y="755640"/>
            <a:chExt cx="2800080" cy="2321640"/>
          </a:xfrm>
        </p:grpSpPr>
        <p:sp>
          <p:nvSpPr>
            <p:cNvPr id="482" name=""/>
            <p:cNvSpPr/>
            <p:nvPr/>
          </p:nvSpPr>
          <p:spPr>
            <a:xfrm>
              <a:off x="6748200" y="954360"/>
              <a:ext cx="1919520" cy="191916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31000" y="1906920"/>
              <a:ext cx="7714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940080" y="1911600"/>
              <a:ext cx="771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711920" y="1135080"/>
              <a:ext cx="0" cy="7718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7163280" y="132984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88160" y="1878120"/>
              <a:ext cx="5544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236080" y="1932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40800" y="19558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26480" y="970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88600" y="9655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30840" y="839880"/>
              <a:ext cx="23832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26160" y="2740320"/>
              <a:ext cx="23796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7640" y="26542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67640" y="75564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648240" y="2584440"/>
            <a:ext cx="1514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=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16800" y="1712880"/>
            <a:ext cx="1177920" cy="623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78080" y="5894280"/>
            <a:ext cx="603396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f the lower charge were +2 C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What if both charges were +2 C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148360" y="760320"/>
            <a:ext cx="3779280" cy="2334240"/>
            <a:chOff x="5148360" y="760320"/>
            <a:chExt cx="3779280" cy="2334240"/>
          </a:xfrm>
        </p:grpSpPr>
        <p:sp>
          <p:nvSpPr>
            <p:cNvPr id="502" name=""/>
            <p:cNvSpPr/>
            <p:nvPr/>
          </p:nvSpPr>
          <p:spPr>
            <a:xfrm>
              <a:off x="6035760" y="971280"/>
              <a:ext cx="1919160" cy="191952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18200" y="1923840"/>
              <a:ext cx="7714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227280" y="1928520"/>
              <a:ext cx="771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999120" y="1152000"/>
              <a:ext cx="0" cy="771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6450480" y="134676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75360" y="1895400"/>
              <a:ext cx="5544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23280" y="19494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28000" y="19731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13680" y="987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075800" y="982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918040" y="857160"/>
              <a:ext cx="23832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13360" y="2757240"/>
              <a:ext cx="23796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54840" y="267156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48360" y="76032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131320" y="7696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170920" y="26668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29640" y="850680"/>
              <a:ext cx="23796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835760" y="2761920"/>
              <a:ext cx="23832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-360" y="853560"/>
            <a:ext cx="384660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field at the center of the squ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57640" y="2743200"/>
            <a:ext cx="1514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=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14360" y="3624120"/>
            <a:ext cx="5967360" cy="20559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428840" y="3700440"/>
            <a:ext cx="6083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four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 vectors all point outward   from the center of the square toward their respective charges.  Because they are all equal,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t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field is zero at the center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148360" y="760320"/>
            <a:ext cx="3779280" cy="2334240"/>
            <a:chOff x="5148360" y="760320"/>
            <a:chExt cx="3779280" cy="2334240"/>
          </a:xfrm>
        </p:grpSpPr>
        <p:sp>
          <p:nvSpPr>
            <p:cNvPr id="527" name=""/>
            <p:cNvSpPr/>
            <p:nvPr/>
          </p:nvSpPr>
          <p:spPr>
            <a:xfrm>
              <a:off x="6035760" y="971280"/>
              <a:ext cx="1919160" cy="191952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18200" y="1923840"/>
              <a:ext cx="7714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227280" y="1928520"/>
              <a:ext cx="771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6999120" y="1152000"/>
              <a:ext cx="0" cy="771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6450480" y="134676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360" y="1895400"/>
              <a:ext cx="5544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23280" y="19494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28000" y="19731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13680" y="987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75800" y="982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18040" y="857160"/>
              <a:ext cx="23832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13360" y="2757240"/>
              <a:ext cx="23796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54840" y="267156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48360" y="76032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31320" y="7696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170920" y="26668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29640" y="850680"/>
              <a:ext cx="23796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35760" y="2761920"/>
              <a:ext cx="23832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2973240" y="2641680"/>
            <a:ext cx="2071800" cy="623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-360" y="853560"/>
            <a:ext cx="384660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field at the center of the squ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57640" y="2743200"/>
            <a:ext cx="1514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=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12680" y="5846760"/>
            <a:ext cx="670572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f the upper two charges were +2 C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What if the right-hand charges were +2 C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64600" y="1072800"/>
            <a:ext cx="3699000" cy="20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ir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electric field at the position of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157000" y="571680"/>
            <a:ext cx="3273480" cy="2918520"/>
            <a:chOff x="5157000" y="571680"/>
            <a:chExt cx="3273480" cy="2918520"/>
          </a:xfrm>
        </p:grpSpPr>
        <p:sp>
          <p:nvSpPr>
            <p:cNvPr id="553" name=""/>
            <p:cNvSpPr/>
            <p:nvPr/>
          </p:nvSpPr>
          <p:spPr>
            <a:xfrm>
              <a:off x="6975360" y="1895400"/>
              <a:ext cx="5580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81880" y="2496960"/>
              <a:ext cx="0" cy="771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6906240" y="184248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33040" y="27986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080560" y="1816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48760" y="17845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26440" y="2692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88080" y="757080"/>
              <a:ext cx="1687320" cy="168912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84760" y="657360"/>
              <a:ext cx="20808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80080" y="2328840"/>
              <a:ext cx="20952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57000" y="2252520"/>
              <a:ext cx="596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12440" y="571680"/>
              <a:ext cx="520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89160" y="590400"/>
              <a:ext cx="596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65960" y="650880"/>
              <a:ext cx="20952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885360" y="2480400"/>
              <a:ext cx="563400" cy="5270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504200" y="1890000"/>
              <a:ext cx="563400" cy="527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33360" y="2494800"/>
              <a:ext cx="527040" cy="563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09280" y="3067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7413480" y="2376360"/>
              <a:ext cx="127080" cy="127080"/>
              <a:chOff x="7413480" y="2376360"/>
              <a:chExt cx="127080" cy="127080"/>
            </a:xfrm>
          </p:grpSpPr>
          <p:sp>
            <p:nvSpPr>
              <p:cNvPr id="572" name=""/>
              <p:cNvSpPr/>
              <p:nvPr/>
            </p:nvSpPr>
            <p:spPr>
              <a:xfrm>
                <a:off x="7416720" y="2376360"/>
                <a:ext cx="121320" cy="1270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7413480" y="2378160"/>
                <a:ext cx="127080" cy="12132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524400"/>
            <a:ext cx="5029200" cy="2774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603600"/>
            <a:ext cx="4971960" cy="26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Clearly, the ball will be attracted if its charge i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However, even if the ball i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utral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 charges in the ball can be separat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duction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(polarization), leading to a net attraction.</a:t>
            </a: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03920" y="2671920"/>
            <a:ext cx="3609720" cy="541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29360" y="693720"/>
            <a:ext cx="3439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neg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positive or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negative or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224320" y="3733920"/>
            <a:ext cx="3627720" cy="2220120"/>
            <a:chOff x="5224320" y="3733920"/>
            <a:chExt cx="3627720" cy="2220120"/>
          </a:xfrm>
        </p:grpSpPr>
        <p:sp>
          <p:nvSpPr>
            <p:cNvPr id="73" name=""/>
            <p:cNvSpPr/>
            <p:nvPr/>
          </p:nvSpPr>
          <p:spPr>
            <a:xfrm>
              <a:off x="6188040" y="3733920"/>
              <a:ext cx="2664000" cy="306360"/>
            </a:xfrm>
            <a:prstGeom prst="rect">
              <a:avLst/>
            </a:prstGeom>
            <a:solidFill>
              <a:srgbClr val="8080ff"/>
            </a:solidFill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36440" y="4058640"/>
              <a:ext cx="1077480" cy="1895400"/>
              <a:chOff x="6436440" y="4058640"/>
              <a:chExt cx="1077480" cy="1895400"/>
            </a:xfrm>
          </p:grpSpPr>
          <p:sp>
            <p:nvSpPr>
              <p:cNvPr id="75" name=""/>
              <p:cNvSpPr/>
              <p:nvPr/>
            </p:nvSpPr>
            <p:spPr>
              <a:xfrm rot="1441800">
                <a:off x="6537960" y="5217120"/>
                <a:ext cx="635040" cy="6350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6985080" y="4058640"/>
                <a:ext cx="528840" cy="11858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224320" y="5364360"/>
              <a:ext cx="1096920" cy="374400"/>
              <a:chOff x="5224320" y="5364360"/>
              <a:chExt cx="1096920" cy="37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224320" y="5364360"/>
                <a:ext cx="1096920" cy="37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6008760" y="5434200"/>
                <a:ext cx="234720" cy="234720"/>
                <a:chOff x="6008760" y="5434200"/>
                <a:chExt cx="234720" cy="234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008760" y="5551200"/>
                  <a:ext cx="234720" cy="0"/>
                </a:xfrm>
                <a:prstGeom prst="line">
                  <a:avLst/>
                </a:prstGeom>
                <a:ln w="381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V="1">
                  <a:off x="6125760" y="5434200"/>
                  <a:ext cx="0" cy="234720"/>
                </a:xfrm>
                <a:prstGeom prst="line">
                  <a:avLst/>
                </a:prstGeom>
                <a:ln w="381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816120"/>
            <a:ext cx="4979880" cy="22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85560" indent="0">
              <a:lnSpc>
                <a:spcPct val="14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etal ball hangs from the ceiling by an insulating thread.  The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ttrac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charged rod held near the ball.  The charge of the ball must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915240" y="5533560"/>
            <a:ext cx="150840" cy="150840"/>
            <a:chOff x="6915240" y="5533560"/>
            <a:chExt cx="150840" cy="150840"/>
          </a:xfrm>
        </p:grpSpPr>
        <p:sp>
          <p:nvSpPr>
            <p:cNvPr id="84" name=""/>
            <p:cNvSpPr/>
            <p:nvPr/>
          </p:nvSpPr>
          <p:spPr>
            <a:xfrm>
              <a:off x="6915240" y="5610960"/>
              <a:ext cx="150840" cy="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989760" y="5533560"/>
              <a:ext cx="0" cy="15084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621480" y="5370480"/>
            <a:ext cx="150840" cy="3240"/>
          </a:xfrm>
          <a:prstGeom prst="line">
            <a:avLst/>
          </a:prstGeom>
          <a:ln w="2844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83560" y="5293800"/>
            <a:ext cx="150480" cy="150840"/>
            <a:chOff x="6883560" y="5293800"/>
            <a:chExt cx="150480" cy="150840"/>
          </a:xfrm>
        </p:grpSpPr>
        <p:sp>
          <p:nvSpPr>
            <p:cNvPr id="88" name=""/>
            <p:cNvSpPr/>
            <p:nvPr/>
          </p:nvSpPr>
          <p:spPr>
            <a:xfrm>
              <a:off x="6883560" y="5371200"/>
              <a:ext cx="150480" cy="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957720" y="5293800"/>
              <a:ext cx="0" cy="15084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997680" y="5614560"/>
            <a:ext cx="150840" cy="150840"/>
            <a:chOff x="6997680" y="5614560"/>
            <a:chExt cx="150840" cy="150840"/>
          </a:xfrm>
        </p:grpSpPr>
        <p:sp>
          <p:nvSpPr>
            <p:cNvPr id="91" name=""/>
            <p:cNvSpPr/>
            <p:nvPr/>
          </p:nvSpPr>
          <p:spPr>
            <a:xfrm>
              <a:off x="6997680" y="5691960"/>
              <a:ext cx="150840" cy="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7072200" y="5614560"/>
              <a:ext cx="0" cy="15084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045200" y="5479560"/>
            <a:ext cx="150840" cy="150840"/>
            <a:chOff x="7045200" y="5479560"/>
            <a:chExt cx="150840" cy="150840"/>
          </a:xfrm>
        </p:grpSpPr>
        <p:sp>
          <p:nvSpPr>
            <p:cNvPr id="94" name=""/>
            <p:cNvSpPr/>
            <p:nvPr/>
          </p:nvSpPr>
          <p:spPr>
            <a:xfrm>
              <a:off x="7045200" y="5556960"/>
              <a:ext cx="150840" cy="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119720" y="5479560"/>
              <a:ext cx="0" cy="15084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989760" y="5358960"/>
            <a:ext cx="150840" cy="150840"/>
            <a:chOff x="6989760" y="5358960"/>
            <a:chExt cx="150840" cy="150840"/>
          </a:xfrm>
        </p:grpSpPr>
        <p:sp>
          <p:nvSpPr>
            <p:cNvPr id="97" name=""/>
            <p:cNvSpPr/>
            <p:nvPr/>
          </p:nvSpPr>
          <p:spPr>
            <a:xfrm>
              <a:off x="6989760" y="5436360"/>
              <a:ext cx="150840" cy="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064280" y="5358960"/>
              <a:ext cx="0" cy="15084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566040" y="5468760"/>
            <a:ext cx="150840" cy="3240"/>
          </a:xfrm>
          <a:prstGeom prst="line">
            <a:avLst/>
          </a:prstGeom>
          <a:ln w="2844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5400" y="5570640"/>
            <a:ext cx="150840" cy="3240"/>
          </a:xfrm>
          <a:prstGeom prst="line">
            <a:avLst/>
          </a:prstGeom>
          <a:ln w="2844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88080" y="5748480"/>
            <a:ext cx="150840" cy="2880"/>
          </a:xfrm>
          <a:prstGeom prst="line">
            <a:avLst/>
          </a:prstGeom>
          <a:ln w="2844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05640" y="5653080"/>
            <a:ext cx="150840" cy="3240"/>
          </a:xfrm>
          <a:prstGeom prst="line">
            <a:avLst/>
          </a:prstGeom>
          <a:ln w="2844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67680" y="5502240"/>
            <a:ext cx="1876320" cy="833760"/>
            <a:chOff x="7267680" y="5502240"/>
            <a:chExt cx="1876320" cy="833760"/>
          </a:xfrm>
        </p:grpSpPr>
        <p:sp>
          <p:nvSpPr>
            <p:cNvPr id="104" name=""/>
            <p:cNvSpPr/>
            <p:nvPr/>
          </p:nvSpPr>
          <p:spPr>
            <a:xfrm>
              <a:off x="7655040" y="5502240"/>
              <a:ext cx="1488960" cy="8337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member the ball is a conductor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7267680" y="5542920"/>
              <a:ext cx="457200" cy="196920"/>
            </a:xfrm>
            <a:prstGeom prst="line">
              <a:avLst/>
            </a:prstGeom>
            <a:ln w="5724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2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onducto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451560"/>
            <a:ext cx="914400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happens if the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metal ba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replaced by a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plastic ba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05080" y="3627360"/>
            <a:ext cx="6195960" cy="23605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85800" y="3652920"/>
            <a:ext cx="60008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two +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charges give a resultant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 that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wn and to the righ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e –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charge has a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p and to the lef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bu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n magnitude.  Therefore,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tal electric field is down and to the righ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0080" y="2649600"/>
            <a:ext cx="819360" cy="623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264600" y="1072800"/>
            <a:ext cx="3699000" cy="20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ir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electric field at the position of the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157000" y="571680"/>
            <a:ext cx="3273480" cy="2918520"/>
            <a:chOff x="5157000" y="571680"/>
            <a:chExt cx="3273480" cy="2918520"/>
          </a:xfrm>
        </p:grpSpPr>
        <p:sp>
          <p:nvSpPr>
            <p:cNvPr id="581" name=""/>
            <p:cNvSpPr/>
            <p:nvPr/>
          </p:nvSpPr>
          <p:spPr>
            <a:xfrm>
              <a:off x="6975360" y="1895400"/>
              <a:ext cx="5580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81880" y="2496960"/>
              <a:ext cx="0" cy="771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6906240" y="184248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033040" y="27986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80560" y="1816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48760" y="17845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26440" y="2692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88080" y="757080"/>
              <a:ext cx="1687320" cy="168912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84760" y="657360"/>
              <a:ext cx="20808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80080" y="2328840"/>
              <a:ext cx="20952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57000" y="2252520"/>
              <a:ext cx="596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12440" y="571680"/>
              <a:ext cx="520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89160" y="590400"/>
              <a:ext cx="596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365960" y="650880"/>
              <a:ext cx="20952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885360" y="2480400"/>
              <a:ext cx="563400" cy="5270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504200" y="1890000"/>
              <a:ext cx="563400" cy="527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533360" y="2494800"/>
              <a:ext cx="527040" cy="563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09280" y="3067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7413480" y="2376360"/>
              <a:ext cx="127080" cy="127080"/>
              <a:chOff x="7413480" y="2376360"/>
              <a:chExt cx="127080" cy="127080"/>
            </a:xfrm>
          </p:grpSpPr>
          <p:sp>
            <p:nvSpPr>
              <p:cNvPr id="600" name=""/>
              <p:cNvSpPr/>
              <p:nvPr/>
            </p:nvSpPr>
            <p:spPr>
              <a:xfrm>
                <a:off x="7416720" y="2376360"/>
                <a:ext cx="121320" cy="1270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7413480" y="2378160"/>
                <a:ext cx="127080" cy="12132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90640" y="6162840"/>
            <a:ext cx="724212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f all three charges reversed their sign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0"/>
            <a:ext cx="9142560" cy="3568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12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ield Line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06600" y="1228680"/>
            <a:ext cx="36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the signs of the charges whose electric fields are shown below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06880" y="826920"/>
            <a:ext cx="352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no way to t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6529320" y="938160"/>
            <a:ext cx="1487160" cy="1898640"/>
            <a:chOff x="6529320" y="938160"/>
            <a:chExt cx="1487160" cy="1898640"/>
          </a:xfrm>
        </p:grpSpPr>
        <p:grpSp>
          <p:nvGrpSpPr>
            <p:cNvPr id="609" name=""/>
            <p:cNvGrpSpPr/>
            <p:nvPr/>
          </p:nvGrpSpPr>
          <p:grpSpPr>
            <a:xfrm>
              <a:off x="6529320" y="938160"/>
              <a:ext cx="289080" cy="285480"/>
              <a:chOff x="6529320" y="938160"/>
              <a:chExt cx="289080" cy="285480"/>
            </a:xfrm>
          </p:grpSpPr>
          <p:sp>
            <p:nvSpPr>
              <p:cNvPr id="610" name=""/>
              <p:cNvSpPr/>
              <p:nvPr/>
            </p:nvSpPr>
            <p:spPr>
              <a:xfrm>
                <a:off x="6529320" y="93816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566040" y="108072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6674040" y="972720"/>
                <a:ext cx="0" cy="21564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727760" y="938160"/>
              <a:ext cx="288720" cy="285840"/>
              <a:chOff x="7727760" y="938160"/>
              <a:chExt cx="288720" cy="285840"/>
            </a:xfrm>
          </p:grpSpPr>
          <p:sp>
            <p:nvSpPr>
              <p:cNvPr id="614" name=""/>
              <p:cNvSpPr/>
              <p:nvPr/>
            </p:nvSpPr>
            <p:spPr>
              <a:xfrm>
                <a:off x="7727760" y="9381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64120" y="10810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6529320" y="1473120"/>
              <a:ext cx="289080" cy="285480"/>
              <a:chOff x="6529320" y="1473120"/>
              <a:chExt cx="289080" cy="285480"/>
            </a:xfrm>
          </p:grpSpPr>
          <p:sp>
            <p:nvSpPr>
              <p:cNvPr id="617" name=""/>
              <p:cNvSpPr/>
              <p:nvPr/>
            </p:nvSpPr>
            <p:spPr>
              <a:xfrm>
                <a:off x="6529320" y="147312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566040" y="161568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7727760" y="1474560"/>
              <a:ext cx="288720" cy="285840"/>
              <a:chOff x="7727760" y="1474560"/>
              <a:chExt cx="288720" cy="285840"/>
            </a:xfrm>
          </p:grpSpPr>
          <p:sp>
            <p:nvSpPr>
              <p:cNvPr id="620" name=""/>
              <p:cNvSpPr/>
              <p:nvPr/>
            </p:nvSpPr>
            <p:spPr>
              <a:xfrm>
                <a:off x="7727760" y="14745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764120" y="16174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7872120" y="1509480"/>
                <a:ext cx="0" cy="21600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7727760" y="2012760"/>
              <a:ext cx="288720" cy="285840"/>
              <a:chOff x="7727760" y="2012760"/>
              <a:chExt cx="288720" cy="285840"/>
            </a:xfrm>
          </p:grpSpPr>
          <p:sp>
            <p:nvSpPr>
              <p:cNvPr id="624" name=""/>
              <p:cNvSpPr/>
              <p:nvPr/>
            </p:nvSpPr>
            <p:spPr>
              <a:xfrm>
                <a:off x="7727760" y="20127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764120" y="21556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529320" y="2011320"/>
              <a:ext cx="289080" cy="285480"/>
              <a:chOff x="6529320" y="2011320"/>
              <a:chExt cx="289080" cy="285480"/>
            </a:xfrm>
          </p:grpSpPr>
          <p:sp>
            <p:nvSpPr>
              <p:cNvPr id="627" name=""/>
              <p:cNvSpPr/>
              <p:nvPr/>
            </p:nvSpPr>
            <p:spPr>
              <a:xfrm>
                <a:off x="6529320" y="201132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566040" y="215388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6529320" y="2550960"/>
              <a:ext cx="289080" cy="285480"/>
              <a:chOff x="6529320" y="2550960"/>
              <a:chExt cx="289080" cy="285480"/>
            </a:xfrm>
          </p:grpSpPr>
          <p:sp>
            <p:nvSpPr>
              <p:cNvPr id="630" name=""/>
              <p:cNvSpPr/>
              <p:nvPr/>
            </p:nvSpPr>
            <p:spPr>
              <a:xfrm>
                <a:off x="6529320" y="255096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566040" y="269352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6674040" y="2585520"/>
                <a:ext cx="0" cy="21564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7727760" y="2550960"/>
              <a:ext cx="288720" cy="285840"/>
              <a:chOff x="7727760" y="2550960"/>
              <a:chExt cx="288720" cy="285840"/>
            </a:xfrm>
          </p:grpSpPr>
          <p:sp>
            <p:nvSpPr>
              <p:cNvPr id="634" name=""/>
              <p:cNvSpPr/>
              <p:nvPr/>
            </p:nvSpPr>
            <p:spPr>
              <a:xfrm>
                <a:off x="7727760" y="25509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764120" y="26938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7872120" y="2585880"/>
                <a:ext cx="0" cy="21600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" name=""/>
          <p:cNvGrpSpPr/>
          <p:nvPr/>
        </p:nvGrpSpPr>
        <p:grpSpPr>
          <a:xfrm>
            <a:off x="2706840" y="3957480"/>
            <a:ext cx="3649680" cy="2509920"/>
            <a:chOff x="2706840" y="3957480"/>
            <a:chExt cx="3649680" cy="2509920"/>
          </a:xfrm>
        </p:grpSpPr>
        <p:grpSp>
          <p:nvGrpSpPr>
            <p:cNvPr id="638" name=""/>
            <p:cNvGrpSpPr/>
            <p:nvPr/>
          </p:nvGrpSpPr>
          <p:grpSpPr>
            <a:xfrm>
              <a:off x="2706840" y="3957480"/>
              <a:ext cx="3649680" cy="2509920"/>
              <a:chOff x="2706840" y="3957480"/>
              <a:chExt cx="3649680" cy="2509920"/>
            </a:xfrm>
          </p:grpSpPr>
          <p:pic>
            <p:nvPicPr>
              <p:cNvPr id="639" name="" descr=""/>
              <p:cNvPicPr/>
              <p:nvPr/>
            </p:nvPicPr>
            <p:blipFill>
              <a:blip r:embed="rId1"/>
              <a:srcRect l="7748" t="24246" r="38557" b="20372"/>
              <a:stretch/>
            </p:blipFill>
            <p:spPr>
              <a:xfrm>
                <a:off x="2706840" y="3957480"/>
                <a:ext cx="3649680" cy="25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"/>
              <p:cNvSpPr/>
              <p:nvPr/>
            </p:nvSpPr>
            <p:spPr>
              <a:xfrm>
                <a:off x="5089320" y="4983480"/>
                <a:ext cx="288720" cy="28440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5400000">
                <a:off x="3793680" y="4983840"/>
                <a:ext cx="381960" cy="288360"/>
              </a:xfrm>
              <a:custGeom>
                <a:avLst/>
                <a:gdLst>
                  <a:gd name="textAreaLeft" fmla="*/ 83880 w 381960"/>
                  <a:gd name="textAreaRight" fmla="*/ 298080 w 381960"/>
                  <a:gd name="textAreaTop" fmla="*/ 63360 h 288360"/>
                  <a:gd name="textAreaBottom" fmla="*/ 225000 h 28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534840" y="4983480"/>
                <a:ext cx="288720" cy="28440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5400000">
                <a:off x="5568840" y="4923720"/>
                <a:ext cx="237600" cy="390600"/>
              </a:xfrm>
              <a:custGeom>
                <a:avLst/>
                <a:gdLst>
                  <a:gd name="textAreaLeft" fmla="*/ 72000 w 237600"/>
                  <a:gd name="textAreaRight" fmla="*/ 165600 w 237600"/>
                  <a:gd name="textAreaTop" fmla="*/ 118080 h 390600"/>
                  <a:gd name="textAreaBottom" fmla="*/ 272520 h 39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2986" y="21600"/>
                    </a:lnTo>
                    <a:lnTo>
                      <a:pt x="861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4070520" y="6194160"/>
              <a:ext cx="106200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0"/>
            <a:ext cx="9142560" cy="3568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12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ield Line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6600" y="1228680"/>
            <a:ext cx="36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the signs of the charges whose electric fields are shown at below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06880" y="826920"/>
            <a:ext cx="352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no way to t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6529320" y="938160"/>
            <a:ext cx="1487160" cy="1898640"/>
            <a:chOff x="6529320" y="938160"/>
            <a:chExt cx="1487160" cy="1898640"/>
          </a:xfrm>
        </p:grpSpPr>
        <p:grpSp>
          <p:nvGrpSpPr>
            <p:cNvPr id="650" name=""/>
            <p:cNvGrpSpPr/>
            <p:nvPr/>
          </p:nvGrpSpPr>
          <p:grpSpPr>
            <a:xfrm>
              <a:off x="6529320" y="938160"/>
              <a:ext cx="289080" cy="285480"/>
              <a:chOff x="6529320" y="938160"/>
              <a:chExt cx="289080" cy="285480"/>
            </a:xfrm>
          </p:grpSpPr>
          <p:sp>
            <p:nvSpPr>
              <p:cNvPr id="651" name=""/>
              <p:cNvSpPr/>
              <p:nvPr/>
            </p:nvSpPr>
            <p:spPr>
              <a:xfrm>
                <a:off x="6529320" y="93816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66040" y="108072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6674040" y="972720"/>
                <a:ext cx="0" cy="21564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7727760" y="938160"/>
              <a:ext cx="288720" cy="285840"/>
              <a:chOff x="7727760" y="938160"/>
              <a:chExt cx="288720" cy="285840"/>
            </a:xfrm>
          </p:grpSpPr>
          <p:sp>
            <p:nvSpPr>
              <p:cNvPr id="655" name=""/>
              <p:cNvSpPr/>
              <p:nvPr/>
            </p:nvSpPr>
            <p:spPr>
              <a:xfrm>
                <a:off x="7727760" y="9381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764120" y="10810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6529320" y="1473120"/>
              <a:ext cx="289080" cy="285480"/>
              <a:chOff x="6529320" y="1473120"/>
              <a:chExt cx="289080" cy="285480"/>
            </a:xfrm>
          </p:grpSpPr>
          <p:sp>
            <p:nvSpPr>
              <p:cNvPr id="658" name=""/>
              <p:cNvSpPr/>
              <p:nvPr/>
            </p:nvSpPr>
            <p:spPr>
              <a:xfrm>
                <a:off x="6529320" y="147312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566040" y="161568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7727760" y="1474560"/>
              <a:ext cx="288720" cy="285840"/>
              <a:chOff x="7727760" y="1474560"/>
              <a:chExt cx="288720" cy="285840"/>
            </a:xfrm>
          </p:grpSpPr>
          <p:sp>
            <p:nvSpPr>
              <p:cNvPr id="661" name=""/>
              <p:cNvSpPr/>
              <p:nvPr/>
            </p:nvSpPr>
            <p:spPr>
              <a:xfrm>
                <a:off x="7727760" y="14745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764120" y="16174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7872120" y="1509480"/>
                <a:ext cx="0" cy="21600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7727760" y="2012760"/>
              <a:ext cx="288720" cy="285840"/>
              <a:chOff x="7727760" y="2012760"/>
              <a:chExt cx="288720" cy="285840"/>
            </a:xfrm>
          </p:grpSpPr>
          <p:sp>
            <p:nvSpPr>
              <p:cNvPr id="665" name=""/>
              <p:cNvSpPr/>
              <p:nvPr/>
            </p:nvSpPr>
            <p:spPr>
              <a:xfrm>
                <a:off x="7727760" y="20127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64120" y="21556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6529320" y="2011320"/>
              <a:ext cx="289080" cy="285480"/>
              <a:chOff x="6529320" y="2011320"/>
              <a:chExt cx="289080" cy="285480"/>
            </a:xfrm>
          </p:grpSpPr>
          <p:sp>
            <p:nvSpPr>
              <p:cNvPr id="668" name=""/>
              <p:cNvSpPr/>
              <p:nvPr/>
            </p:nvSpPr>
            <p:spPr>
              <a:xfrm>
                <a:off x="6529320" y="201132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566040" y="215388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6529320" y="2550960"/>
              <a:ext cx="289080" cy="285480"/>
              <a:chOff x="6529320" y="2550960"/>
              <a:chExt cx="289080" cy="285480"/>
            </a:xfrm>
          </p:grpSpPr>
          <p:sp>
            <p:nvSpPr>
              <p:cNvPr id="671" name=""/>
              <p:cNvSpPr/>
              <p:nvPr/>
            </p:nvSpPr>
            <p:spPr>
              <a:xfrm>
                <a:off x="6529320" y="255096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566040" y="269352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6674040" y="2585520"/>
                <a:ext cx="0" cy="21564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7727760" y="2550960"/>
              <a:ext cx="288720" cy="285840"/>
              <a:chOff x="7727760" y="2550960"/>
              <a:chExt cx="288720" cy="285840"/>
            </a:xfrm>
          </p:grpSpPr>
          <p:sp>
            <p:nvSpPr>
              <p:cNvPr id="675" name=""/>
              <p:cNvSpPr/>
              <p:nvPr/>
            </p:nvSpPr>
            <p:spPr>
              <a:xfrm>
                <a:off x="7727760" y="25509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764120" y="26938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7872120" y="2585880"/>
                <a:ext cx="0" cy="21600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8" name=""/>
          <p:cNvSpPr/>
          <p:nvPr/>
        </p:nvSpPr>
        <p:spPr>
          <a:xfrm>
            <a:off x="5510160" y="1279440"/>
            <a:ext cx="3224160" cy="596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5040" y="4255920"/>
            <a:ext cx="4305240" cy="18036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40" y="4424400"/>
            <a:ext cx="446076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Electric field lin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riginate on positive charg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e on negative charg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5084640" y="4006800"/>
            <a:ext cx="3649680" cy="2509920"/>
            <a:chOff x="5084640" y="4006800"/>
            <a:chExt cx="3649680" cy="2509920"/>
          </a:xfrm>
        </p:grpSpPr>
        <p:grpSp>
          <p:nvGrpSpPr>
            <p:cNvPr id="682" name=""/>
            <p:cNvGrpSpPr/>
            <p:nvPr/>
          </p:nvGrpSpPr>
          <p:grpSpPr>
            <a:xfrm>
              <a:off x="5084640" y="4006800"/>
              <a:ext cx="3649680" cy="2509920"/>
              <a:chOff x="5084640" y="4006800"/>
              <a:chExt cx="3649680" cy="2509920"/>
            </a:xfrm>
          </p:grpSpPr>
          <p:pic>
            <p:nvPicPr>
              <p:cNvPr id="683" name="" descr=""/>
              <p:cNvPicPr/>
              <p:nvPr/>
            </p:nvPicPr>
            <p:blipFill>
              <a:blip r:embed="rId1"/>
              <a:srcRect l="7748" t="24246" r="38557" b="20372"/>
              <a:stretch/>
            </p:blipFill>
            <p:spPr>
              <a:xfrm>
                <a:off x="5084640" y="4006800"/>
                <a:ext cx="3649680" cy="25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"/>
              <p:cNvSpPr/>
              <p:nvPr/>
            </p:nvSpPr>
            <p:spPr>
              <a:xfrm>
                <a:off x="7467120" y="5032800"/>
                <a:ext cx="288720" cy="28440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5400000">
                <a:off x="6171480" y="5033160"/>
                <a:ext cx="381960" cy="288360"/>
              </a:xfrm>
              <a:custGeom>
                <a:avLst/>
                <a:gdLst>
                  <a:gd name="textAreaLeft" fmla="*/ 83880 w 381960"/>
                  <a:gd name="textAreaRight" fmla="*/ 298080 w 381960"/>
                  <a:gd name="textAreaTop" fmla="*/ 63360 h 288360"/>
                  <a:gd name="textAreaBottom" fmla="*/ 225000 h 28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912640" y="5032800"/>
                <a:ext cx="288720" cy="28440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5400000">
                <a:off x="7946640" y="4973040"/>
                <a:ext cx="237600" cy="390600"/>
              </a:xfrm>
              <a:custGeom>
                <a:avLst/>
                <a:gdLst>
                  <a:gd name="textAreaLeft" fmla="*/ 72000 w 237600"/>
                  <a:gd name="textAreaRight" fmla="*/ 165600 w 237600"/>
                  <a:gd name="textAreaTop" fmla="*/ 118080 h 390600"/>
                  <a:gd name="textAreaBottom" fmla="*/ 272520 h 39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2986" y="21600"/>
                    </a:lnTo>
                    <a:lnTo>
                      <a:pt x="861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6448320" y="6243480"/>
              <a:ext cx="106200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9142560" cy="3568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12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ield Line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15840" y="137952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charges has the greater magnitud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796080" y="1384200"/>
            <a:ext cx="289080" cy="28584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10480" y="1941480"/>
            <a:ext cx="288720" cy="285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9120" y="1096920"/>
            <a:ext cx="230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Both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732040" y="3922560"/>
            <a:ext cx="3649680" cy="2509920"/>
            <a:chOff x="2732040" y="3922560"/>
            <a:chExt cx="3649680" cy="2509920"/>
          </a:xfrm>
        </p:grpSpPr>
        <p:grpSp>
          <p:nvGrpSpPr>
            <p:cNvPr id="696" name=""/>
            <p:cNvGrpSpPr/>
            <p:nvPr/>
          </p:nvGrpSpPr>
          <p:grpSpPr>
            <a:xfrm>
              <a:off x="2732040" y="3922560"/>
              <a:ext cx="3649680" cy="2509920"/>
              <a:chOff x="2732040" y="3922560"/>
              <a:chExt cx="3649680" cy="2509920"/>
            </a:xfrm>
          </p:grpSpPr>
          <p:pic>
            <p:nvPicPr>
              <p:cNvPr id="697" name="" descr=""/>
              <p:cNvPicPr/>
              <p:nvPr/>
            </p:nvPicPr>
            <p:blipFill>
              <a:blip r:embed="rId1"/>
              <a:srcRect l="7748" t="24246" r="38557" b="20372"/>
              <a:stretch/>
            </p:blipFill>
            <p:spPr>
              <a:xfrm>
                <a:off x="2732040" y="3922560"/>
                <a:ext cx="3649680" cy="25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"/>
              <p:cNvSpPr/>
              <p:nvPr/>
            </p:nvSpPr>
            <p:spPr>
              <a:xfrm>
                <a:off x="5114520" y="4948560"/>
                <a:ext cx="288720" cy="28440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5400000">
                <a:off x="3818880" y="4948920"/>
                <a:ext cx="381960" cy="288360"/>
              </a:xfrm>
              <a:custGeom>
                <a:avLst/>
                <a:gdLst>
                  <a:gd name="textAreaLeft" fmla="*/ 83880 w 381960"/>
                  <a:gd name="textAreaRight" fmla="*/ 298080 w 381960"/>
                  <a:gd name="textAreaTop" fmla="*/ 63360 h 288360"/>
                  <a:gd name="textAreaBottom" fmla="*/ 225000 h 28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560040" y="4948560"/>
                <a:ext cx="288720" cy="28440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400000">
                <a:off x="5594040" y="4888800"/>
                <a:ext cx="237600" cy="390600"/>
              </a:xfrm>
              <a:custGeom>
                <a:avLst/>
                <a:gdLst>
                  <a:gd name="textAreaLeft" fmla="*/ 72000 w 237600"/>
                  <a:gd name="textAreaRight" fmla="*/ 165600 w 237600"/>
                  <a:gd name="textAreaTop" fmla="*/ 118080 h 390600"/>
                  <a:gd name="textAreaBottom" fmla="*/ 272520 h 39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2986" y="21600"/>
                    </a:lnTo>
                    <a:lnTo>
                      <a:pt x="861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4095720" y="6159240"/>
              <a:ext cx="106200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9142560" cy="3568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12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ield Line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915840" y="137952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charges has the greater magnitud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796080" y="1384200"/>
            <a:ext cx="289080" cy="28584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10480" y="1941480"/>
            <a:ext cx="288720" cy="285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099120" y="1096920"/>
            <a:ext cx="230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Both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22920" y="1792440"/>
            <a:ext cx="2301840" cy="5760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1840" y="3828960"/>
            <a:ext cx="4437000" cy="18036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3943440"/>
            <a:ext cx="46245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field lin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nser around the red charg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so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 one has the greater magnitud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5084640" y="4006800"/>
            <a:ext cx="3649680" cy="2509920"/>
            <a:chOff x="5084640" y="4006800"/>
            <a:chExt cx="3649680" cy="2509920"/>
          </a:xfrm>
        </p:grpSpPr>
        <p:grpSp>
          <p:nvGrpSpPr>
            <p:cNvPr id="713" name=""/>
            <p:cNvGrpSpPr/>
            <p:nvPr/>
          </p:nvGrpSpPr>
          <p:grpSpPr>
            <a:xfrm>
              <a:off x="5084640" y="4006800"/>
              <a:ext cx="3649680" cy="2509920"/>
              <a:chOff x="5084640" y="4006800"/>
              <a:chExt cx="3649680" cy="2509920"/>
            </a:xfrm>
          </p:grpSpPr>
          <p:pic>
            <p:nvPicPr>
              <p:cNvPr id="714" name="" descr=""/>
              <p:cNvPicPr/>
              <p:nvPr/>
            </p:nvPicPr>
            <p:blipFill>
              <a:blip r:embed="rId1"/>
              <a:srcRect l="7748" t="24246" r="38557" b="20372"/>
              <a:stretch/>
            </p:blipFill>
            <p:spPr>
              <a:xfrm>
                <a:off x="5084640" y="4006800"/>
                <a:ext cx="3649680" cy="25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>
                <a:off x="7467120" y="5032800"/>
                <a:ext cx="288720" cy="28440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5400000">
                <a:off x="6171480" y="5033160"/>
                <a:ext cx="381960" cy="288360"/>
              </a:xfrm>
              <a:custGeom>
                <a:avLst/>
                <a:gdLst>
                  <a:gd name="textAreaLeft" fmla="*/ 83880 w 381960"/>
                  <a:gd name="textAreaRight" fmla="*/ 298080 w 381960"/>
                  <a:gd name="textAreaTop" fmla="*/ 63360 h 288360"/>
                  <a:gd name="textAreaBottom" fmla="*/ 225000 h 28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912640" y="5032800"/>
                <a:ext cx="288720" cy="28440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5400000">
                <a:off x="7946640" y="4973040"/>
                <a:ext cx="237600" cy="390600"/>
              </a:xfrm>
              <a:custGeom>
                <a:avLst/>
                <a:gdLst>
                  <a:gd name="textAreaLeft" fmla="*/ 72000 w 237600"/>
                  <a:gd name="textAreaRight" fmla="*/ 165600 w 237600"/>
                  <a:gd name="textAreaTop" fmla="*/ 118080 h 390600"/>
                  <a:gd name="textAreaBottom" fmla="*/ 272520 h 39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2986" y="21600"/>
                    </a:lnTo>
                    <a:lnTo>
                      <a:pt x="861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6448320" y="6243480"/>
              <a:ext cx="106200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0" y="5884920"/>
            <a:ext cx="486576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s the red/green ratio of magnitudes for the two charg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3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oulomb’s Law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30800" y="749160"/>
            <a:ext cx="20844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/4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3.0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 12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16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48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3400" y="1646280"/>
            <a:ext cx="4460760" cy="101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7440" indent="0">
              <a:lnSpc>
                <a:spcPct val="12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increase one charge to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at is the magnitude of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F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07760" y="2671920"/>
            <a:ext cx="3670560" cy="674640"/>
            <a:chOff x="707760" y="2671920"/>
            <a:chExt cx="3670560" cy="674640"/>
          </a:xfrm>
        </p:grpSpPr>
        <p:sp>
          <p:nvSpPr>
            <p:cNvPr id="115" name=""/>
            <p:cNvSpPr/>
            <p:nvPr/>
          </p:nvSpPr>
          <p:spPr>
            <a:xfrm>
              <a:off x="1722600" y="28893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68960" y="2871720"/>
              <a:ext cx="552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94200" y="28893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40240" y="312264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83800" y="3133800"/>
              <a:ext cx="838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05720" y="290988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7760" y="26827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71840" y="26719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18560" y="828720"/>
            <a:ext cx="3670920" cy="678240"/>
            <a:chOff x="718560" y="828720"/>
            <a:chExt cx="3670920" cy="678240"/>
          </a:xfrm>
        </p:grpSpPr>
        <p:sp>
          <p:nvSpPr>
            <p:cNvPr id="124" name=""/>
            <p:cNvSpPr/>
            <p:nvPr/>
          </p:nvSpPr>
          <p:spPr>
            <a:xfrm>
              <a:off x="1733400" y="1045800"/>
              <a:ext cx="457200" cy="45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05000" y="1045800"/>
              <a:ext cx="457200" cy="45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51400" y="127944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895320" y="129060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7600" y="107784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16880" y="106668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8560" y="839520"/>
              <a:ext cx="103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3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2640" y="8287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3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oulomb’s Law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57840" y="1773360"/>
            <a:ext cx="2116080" cy="4809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03400" y="3537000"/>
            <a:ext cx="4845240" cy="2592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1880" y="3538440"/>
            <a:ext cx="4671720" cy="26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Originally we h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=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k(Q)(Q)/r</a:t>
            </a:r>
            <a:r>
              <a:rPr b="1" i="1" lang="en-US" sz="2000" spc="-1" strike="noStrike" baseline="30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=  3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Now we hav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=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k(4Q)(Q)/r</a:t>
            </a:r>
            <a:r>
              <a:rPr b="1" i="1" lang="en-US" sz="2000" spc="-1" strike="noStrike" baseline="30000">
                <a:solidFill>
                  <a:srgbClr val="00004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which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 times bigger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han befo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30800" y="749160"/>
            <a:ext cx="20844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/4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3.0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 12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16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48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3400" y="1646280"/>
            <a:ext cx="4460760" cy="101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7440" indent="0">
              <a:lnSpc>
                <a:spcPct val="12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increase one charge to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at is the magnitud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07760" y="2671920"/>
            <a:ext cx="3670560" cy="674640"/>
            <a:chOff x="707760" y="2671920"/>
            <a:chExt cx="3670560" cy="674640"/>
          </a:xfrm>
        </p:grpSpPr>
        <p:sp>
          <p:nvSpPr>
            <p:cNvPr id="142" name=""/>
            <p:cNvSpPr/>
            <p:nvPr/>
          </p:nvSpPr>
          <p:spPr>
            <a:xfrm>
              <a:off x="1722600" y="28893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68960" y="2871720"/>
              <a:ext cx="552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94200" y="28893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40240" y="312264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883800" y="3133800"/>
              <a:ext cx="838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05720" y="290988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7760" y="26827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71840" y="26719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18560" y="828720"/>
            <a:ext cx="3670920" cy="678240"/>
            <a:chOff x="718560" y="828720"/>
            <a:chExt cx="3670920" cy="678240"/>
          </a:xfrm>
        </p:grpSpPr>
        <p:sp>
          <p:nvSpPr>
            <p:cNvPr id="151" name=""/>
            <p:cNvSpPr/>
            <p:nvPr/>
          </p:nvSpPr>
          <p:spPr>
            <a:xfrm>
              <a:off x="1733400" y="1045800"/>
              <a:ext cx="457200" cy="45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05000" y="1045800"/>
              <a:ext cx="457200" cy="45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51400" y="127944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895320" y="129060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67600" y="107784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16880" y="106668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8560" y="839520"/>
              <a:ext cx="103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3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82640" y="8287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744560" y="6237360"/>
            <a:ext cx="5742000" cy="44064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Now what is the magnitud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4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or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43600" y="725400"/>
            <a:ext cx="41004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yes, but only i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s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yes, but only i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s neg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yes, independent of the sign (or value) o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o, the net force can never b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766440"/>
            <a:ext cx="4905360" cy="24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89520" indent="0">
              <a:lnSpc>
                <a:spcPct val="12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balls with charges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4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fixed at a separation distance of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s it possible to place another charged bal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line between the two charges such that the net force on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ll be zer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595600" y="4237200"/>
            <a:ext cx="4219560" cy="1542960"/>
            <a:chOff x="2595600" y="4237200"/>
            <a:chExt cx="4219560" cy="1542960"/>
          </a:xfrm>
        </p:grpSpPr>
        <p:sp>
          <p:nvSpPr>
            <p:cNvPr id="167" name=""/>
            <p:cNvSpPr/>
            <p:nvPr/>
          </p:nvSpPr>
          <p:spPr>
            <a:xfrm>
              <a:off x="2595600" y="4237200"/>
              <a:ext cx="4219560" cy="154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795400" y="4334040"/>
              <a:ext cx="3774960" cy="1078920"/>
              <a:chOff x="2795400" y="4334040"/>
              <a:chExt cx="3774960" cy="1078920"/>
            </a:xfrm>
          </p:grpSpPr>
          <p:sp>
            <p:nvSpPr>
              <p:cNvPr id="169" name=""/>
              <p:cNvSpPr/>
              <p:nvPr/>
            </p:nvSpPr>
            <p:spPr>
              <a:xfrm>
                <a:off x="5865480" y="4735800"/>
                <a:ext cx="528840" cy="5324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81880" y="4761000"/>
                <a:ext cx="528840" cy="53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12440" y="503172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ff00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78560" y="4352040"/>
                <a:ext cx="4975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59560" y="4334040"/>
                <a:ext cx="62388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4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95400" y="4986000"/>
                <a:ext cx="3774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267360" y="5412960"/>
                <a:ext cx="2878560" cy="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4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or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43600" y="725400"/>
            <a:ext cx="41004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yes, but only i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s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yes, but only i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s neg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yes, independent of the sign (or value) o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o, the net force can never b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766440"/>
            <a:ext cx="4905360" cy="24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89520" indent="0">
              <a:lnSpc>
                <a:spcPct val="12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balls with charges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4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fixed at a separation distance of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s it possible to place another charged bal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line between the two charges such that the net force on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ll be zer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924440" y="4286160"/>
            <a:ext cx="4219560" cy="1542960"/>
            <a:chOff x="4924440" y="4286160"/>
            <a:chExt cx="4219560" cy="1542960"/>
          </a:xfrm>
        </p:grpSpPr>
        <p:sp>
          <p:nvSpPr>
            <p:cNvPr id="183" name=""/>
            <p:cNvSpPr/>
            <p:nvPr/>
          </p:nvSpPr>
          <p:spPr>
            <a:xfrm>
              <a:off x="4924440" y="4286160"/>
              <a:ext cx="4219560" cy="154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124240" y="4383000"/>
              <a:ext cx="3774960" cy="1078920"/>
              <a:chOff x="5124240" y="4383000"/>
              <a:chExt cx="3774960" cy="1078920"/>
            </a:xfrm>
          </p:grpSpPr>
          <p:sp>
            <p:nvSpPr>
              <p:cNvPr id="185" name=""/>
              <p:cNvSpPr/>
              <p:nvPr/>
            </p:nvSpPr>
            <p:spPr>
              <a:xfrm>
                <a:off x="8194320" y="4784760"/>
                <a:ext cx="528840" cy="5324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0720" y="4809960"/>
                <a:ext cx="528840" cy="53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41280" y="508068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ff00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207400" y="4401000"/>
                <a:ext cx="4975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988400" y="4383000"/>
                <a:ext cx="62388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4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24240" y="5034960"/>
                <a:ext cx="3774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596200" y="5461920"/>
                <a:ext cx="2878560" cy="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0" y="3486240"/>
            <a:ext cx="4943520" cy="2644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473280"/>
            <a:ext cx="489420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A positive charge would be repelled by both charges, so a point where these two repulsive forces cancel can be found.  A negative charge would be attracted by both, and the same argument hol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24360" y="1554120"/>
            <a:ext cx="4319640" cy="10080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146640"/>
            <a:ext cx="632952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happens if both charges are +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 Where would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 point be in this cas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45600" y="771120"/>
            <a:ext cx="8455320" cy="121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348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balls with charges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4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separated by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 Where should you place another charged bal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line between the two charges such that the net force on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ll be zer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246320" y="3632040"/>
            <a:ext cx="6845040" cy="2298600"/>
            <a:chOff x="1246320" y="3632040"/>
            <a:chExt cx="6845040" cy="2298600"/>
          </a:xfrm>
        </p:grpSpPr>
        <p:sp>
          <p:nvSpPr>
            <p:cNvPr id="201" name=""/>
            <p:cNvSpPr/>
            <p:nvPr/>
          </p:nvSpPr>
          <p:spPr>
            <a:xfrm>
              <a:off x="1246320" y="3632040"/>
              <a:ext cx="6845040" cy="229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290600" y="3647880"/>
              <a:ext cx="6800400" cy="2266200"/>
              <a:chOff x="1290600" y="3647880"/>
              <a:chExt cx="6800400" cy="2266200"/>
            </a:xfrm>
          </p:grpSpPr>
          <p:sp>
            <p:nvSpPr>
              <p:cNvPr id="203" name=""/>
              <p:cNvSpPr/>
              <p:nvPr/>
            </p:nvSpPr>
            <p:spPr>
              <a:xfrm>
                <a:off x="6820920" y="4140000"/>
                <a:ext cx="953640" cy="955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42680" y="4151160"/>
                <a:ext cx="953640" cy="9572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415760" y="557496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ff00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68400" y="3763800"/>
                <a:ext cx="4975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959880" y="3647880"/>
                <a:ext cx="62388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4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0600" y="4638600"/>
                <a:ext cx="6800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140920" y="5405040"/>
                <a:ext cx="5186160" cy="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654000" y="452268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769840" y="45259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370200" y="451476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52560" y="45367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93960" y="45259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8200" y="4792320"/>
                <a:ext cx="3495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57160" y="479088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r>
                  <a:rPr b="1" i="1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699640" y="412416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607560" y="414468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82360" y="414936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34920" y="416700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88840" y="416520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4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or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45600" y="771120"/>
            <a:ext cx="8455320" cy="121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348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balls with charges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4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separated by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 Where should you place another charged bal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line between the two charges such that the net force on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ll be zer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4640" y="4403880"/>
            <a:ext cx="7818480" cy="2454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43120" y="4514760"/>
            <a:ext cx="774684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force o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due to +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:    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=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k(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)(Q)/R</a:t>
            </a:r>
            <a:r>
              <a:rPr b="1" i="1" lang="en-US" sz="2000" spc="-1" strike="noStrike" baseline="30000">
                <a:solidFill>
                  <a:srgbClr val="00004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force o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due to +4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:  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=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k(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)(4Q)/(2R)</a:t>
            </a:r>
            <a:r>
              <a:rPr b="1" i="1" lang="en-US" sz="2000" spc="-1" strike="noStrike" baseline="30000">
                <a:solidFill>
                  <a:srgbClr val="00004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+4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4 times bigger than +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needs to be farther from +4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In fact,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must be twice as far from +4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since the distance is squared in Coulomb’s La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295280" y="1936800"/>
            <a:ext cx="6845400" cy="2298600"/>
            <a:chOff x="1295280" y="1936800"/>
            <a:chExt cx="6845400" cy="2298600"/>
          </a:xfrm>
        </p:grpSpPr>
        <p:sp>
          <p:nvSpPr>
            <p:cNvPr id="230" name=""/>
            <p:cNvSpPr/>
            <p:nvPr/>
          </p:nvSpPr>
          <p:spPr>
            <a:xfrm>
              <a:off x="1295280" y="1936800"/>
              <a:ext cx="6845400" cy="229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339920" y="1952640"/>
              <a:ext cx="6800760" cy="2266200"/>
              <a:chOff x="1339920" y="1952640"/>
              <a:chExt cx="6800760" cy="2266200"/>
            </a:xfrm>
          </p:grpSpPr>
          <p:sp>
            <p:nvSpPr>
              <p:cNvPr id="232" name=""/>
              <p:cNvSpPr/>
              <p:nvPr/>
            </p:nvSpPr>
            <p:spPr>
              <a:xfrm>
                <a:off x="6870600" y="2444760"/>
                <a:ext cx="954000" cy="955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692360" y="2455920"/>
                <a:ext cx="954000" cy="9572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65440" y="387972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ff00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18080" y="2068560"/>
                <a:ext cx="4975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09560" y="1952640"/>
                <a:ext cx="62388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4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39920" y="2943360"/>
                <a:ext cx="6800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90600" y="3709800"/>
                <a:ext cx="5186520" cy="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03680" y="282744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19520" y="28306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19880" y="28195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02240" y="28414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43640" y="28306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47880" y="3097080"/>
                <a:ext cx="3495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06840" y="309564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r>
                  <a:rPr b="1" i="1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749320" y="242892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657600" y="244944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32400" y="245412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484600" y="247176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38880" y="246996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3384720" y="2308320"/>
            <a:ext cx="834840" cy="12668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4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or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0" y="945720"/>
            <a:ext cx="37656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arrows best represents the direction of the net force on charge +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other two charg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926960" y="-1080"/>
            <a:ext cx="3905280" cy="3855600"/>
            <a:chOff x="4926960" y="-1080"/>
            <a:chExt cx="3905280" cy="3855600"/>
          </a:xfrm>
        </p:grpSpPr>
        <p:grpSp>
          <p:nvGrpSpPr>
            <p:cNvPr id="258" name=""/>
            <p:cNvGrpSpPr/>
            <p:nvPr/>
          </p:nvGrpSpPr>
          <p:grpSpPr>
            <a:xfrm>
              <a:off x="4926960" y="1631880"/>
              <a:ext cx="765720" cy="693720"/>
              <a:chOff x="4926960" y="1631880"/>
              <a:chExt cx="765720" cy="693720"/>
            </a:xfrm>
          </p:grpSpPr>
          <p:sp>
            <p:nvSpPr>
              <p:cNvPr id="259" name=""/>
              <p:cNvSpPr/>
              <p:nvPr/>
            </p:nvSpPr>
            <p:spPr>
              <a:xfrm>
                <a:off x="4962240" y="1631880"/>
                <a:ext cx="693720" cy="6937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6960" y="1767240"/>
                <a:ext cx="765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494040" y="3160800"/>
              <a:ext cx="765720" cy="693720"/>
              <a:chOff x="6494040" y="3160800"/>
              <a:chExt cx="765720" cy="693720"/>
            </a:xfrm>
          </p:grpSpPr>
          <p:sp>
            <p:nvSpPr>
              <p:cNvPr id="262" name=""/>
              <p:cNvSpPr/>
              <p:nvPr/>
            </p:nvSpPr>
            <p:spPr>
              <a:xfrm>
                <a:off x="6529320" y="3160800"/>
                <a:ext cx="693720" cy="69372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494040" y="3296160"/>
                <a:ext cx="765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4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 flipV="1">
              <a:off x="6856200" y="568440"/>
              <a:ext cx="0" cy="102384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75600" y="1992240"/>
              <a:ext cx="10238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162560" y="964080"/>
              <a:ext cx="724320" cy="7243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008840" y="644040"/>
              <a:ext cx="383760" cy="9489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530760" y="1631880"/>
              <a:ext cx="693720" cy="693720"/>
              <a:chOff x="6530760" y="1631880"/>
              <a:chExt cx="693720" cy="693720"/>
            </a:xfrm>
          </p:grpSpPr>
          <p:sp>
            <p:nvSpPr>
              <p:cNvPr id="269" name=""/>
              <p:cNvSpPr/>
              <p:nvPr/>
            </p:nvSpPr>
            <p:spPr>
              <a:xfrm>
                <a:off x="6530760" y="1631880"/>
                <a:ext cx="693720" cy="693720"/>
              </a:xfrm>
              <a:prstGeom prst="ellipse">
                <a:avLst/>
              </a:prstGeom>
              <a:solidFill>
                <a:srgbClr val="fafd00"/>
              </a:solidFill>
              <a:ln w="381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579360" y="176724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635880" y="-10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83880" y="132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88400" y="5133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12400" y="11800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482320" y="17895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224120" y="1433520"/>
              <a:ext cx="942480" cy="4003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49360" y="1563840"/>
              <a:ext cx="325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99160" y="1981080"/>
              <a:ext cx="78588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867360" y="2349000"/>
              <a:ext cx="0" cy="785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33600" y="2573280"/>
              <a:ext cx="325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291960" y="-360"/>
            <a:ext cx="5680080" cy="9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orces in 2D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2T15:55:06Z</dcterms:created>
  <dc:creator>C. Bennhold and J. Feldman</dc:creator>
  <dc:description/>
  <dc:language>en-US</dc:language>
  <cp:lastModifiedBy>The Evergreen State College</cp:lastModifiedBy>
  <cp:lastPrinted>2003-01-17T20:19:10Z</cp:lastPrinted>
  <dcterms:modified xsi:type="dcterms:W3CDTF">2008-07-14T15:47:55Z</dcterms:modified>
  <cp:revision>21525</cp:revision>
  <dc:subject/>
  <dc:title>Chap. 16 Conceptual Modules Giancoli</dc:title>
</cp:coreProperties>
</file>