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F37-A32A-4826-85B8-DF088EE2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9BE-39A1-4950-9FE2-FB115B8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D49-D4E5-48A1-8021-A86ED744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323-B585-43A4-B9A5-5DBD055E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0EB3-70C2-4CE2-8A6A-7E4E8FE7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28DD-4696-4260-B6B5-344A612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A1B9-13E2-4941-BD92-83E8FEC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567-B3B7-4CA0-842D-B574F6AC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782D-29F5-49C3-B4A9-621B2A67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B5B-8E3D-422C-90CD-9162E29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D7C6-B130-4868-A54C-A9614AC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583-2AD2-43AA-9E63-38BC271A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7C80-35AB-49D9-B1F3-E9D80EB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5E28-425F-4839-B3DA-78CDF9B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082A-7C19-4D7D-AE7F-9CE8BE49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0B12-2BA6-47A2-9ED7-42E523E1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01EA-9170-478B-91ED-E22067EC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EE2-990A-42C5-9497-B2D81B4E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2FF-34A5-4A77-8AEB-F47B2553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DEA-D7C3-493A-9F06-CB8E5BAB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BCD-5185-45C6-871C-7FB504A4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190-0FE1-4918-AEC6-AEC0D14E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A86-13CC-4305-9E83-DF58A02B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E56-9D34-4678-A1E7-189D42D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8320a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8320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82e6d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756-8DE6-44C1-9C2B-F0DB465BFD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8320a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D2E8-F2F5-4243-A502-649017D2EC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832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82e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ffff99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8320a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82e6d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stockphoto.com/file_thumbview_approve/440089/2/Legal_Tender.jpg&amp;imgrefurl=http://www.istockphoto.com/imageindex/440/0/440089/&amp;h=175&amp;w=270&amp;sz=18&amp;tbnid=WsyrnxCCIHIJ:&amp;tbnh=70&amp;tbnw=108&amp;hl=en&amp;start=11&amp;prev=/images%3Fq%3Dlegal%2Btender%26svnum%3D10%26hl%3Den%26lr%3D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4e4d2"/>
                </a:solidFill>
                <a:latin typeface="Arial"/>
              </a:rPr>
              <a:t>PART SIX</a:t>
            </a:r>
            <a:br>
              <a:rPr sz="4800"/>
            </a:br>
            <a:r>
              <a:rPr b="1" lang="en-US" sz="4400" spc="-1" strike="noStrike">
                <a:solidFill>
                  <a:srgbClr val="c8320a"/>
                </a:solidFill>
                <a:latin typeface="Arial"/>
              </a:rPr>
              <a:t>Money, Banking, and Monetary Policy</a:t>
            </a:r>
            <a:endParaRPr b="1" lang="en-US" sz="4400" spc="-1" strike="noStrike">
              <a:solidFill>
                <a:srgbClr val="c832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may also affect the purchasing power of money and its accep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overnment prints too much money, the purchasing power of money dec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runaway inflation may significantly reduce the purchasing power of the dollar and may cause it to cease being used as a medium of ex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ederal Reserve System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and The Banking System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element of the U.S. banking system is the Federal Reserve System (the “Fed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d consists of the Board of Governors of the Federal Reserve and 12 regional Federal Reserve B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ederal Reserve System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and The Banking System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530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ederal Reserve System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and The Banking System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Board of Gover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ven-member group that supervises and controls the money and banking system of the U.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he 12 Federal Reserve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2 banks chartered by the U.S. government to control the money supply and perform othe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llectively serve as the nation’s “central bank” and also serve as bankers’ b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ederal Reserve System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and The Banking System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4430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ederal Reserve System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and The Banking System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ederal Open Market Committee (FO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MC is the 12 member Federal Reserve group determines the purchase and sale policies of the Federal Reserve Banks in the market for U.S. secu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l Reserve Bank in New York City conducts most of the Fed’s open market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ederal Reserve System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and The Banking System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Commercial Banks and Thr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approximately 7600 commercial banks, three-fourths are state banks, while the remaining one-fourth are national banks, chartered by the Federal government to operate nation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1,400 thrift institutions are regulated by agencies separate and apart from the Board of Governors and the Federal Reserve B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Fed Functions and Responsibilities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534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 performs the following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curr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s reserve requirements and holds reser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ds money to banks and thr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the banking system with a means for collecting che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s as a fiscal agent for the Federal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vises the operation of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s the money sup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Fed Reserve Independence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719360"/>
            <a:ext cx="8534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deral Reserve is an independent agency of th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tects the Fed from political pressure so that it could effectively control the money supply and interest rates to foster price-level s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Depositing Reserves in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a Federal Reserve Bank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mmercial banks and thrifts that provide checkable deposits must by law keep required reser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d reser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n amount of funds equal to a specified percentage of the bank’s own deposit li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reserves must be kept on deposit with the Federal Reserve Bank or held as cash in the bank’s v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Chapter 15: Money and Banking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2535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Depositing Reserves in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a Federal Reserve Bank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pecified percentage” of checkable deposit liabilities that a commercial bank must be keep as reserves is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rve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              bank’s required res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bank’s checkable-deposit li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267080"/>
            <a:ext cx="556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5520" y="3962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4798800" cy="3602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Functions of Money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functions of money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of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of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of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Components 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of the Money Supply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efinitions of the U.S. money supply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the narrowest definition of the money supply, where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s a more broadly defined money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Money Definition: </a:t>
            </a:r>
            <a:r>
              <a:rPr b="1" i="1" lang="en-US" sz="4000" spc="-1" strike="noStrike">
                <a:solidFill>
                  <a:srgbClr val="3399ff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oney = currency + checkable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 coins and paper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ins in circulation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ken mo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money, issued by the Federal Reserve Banks,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Reserve N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Money Definition: </a:t>
            </a:r>
            <a:r>
              <a:rPr b="1" i="1" lang="en-US" sz="4000" spc="-1" strike="noStrike">
                <a:solidFill>
                  <a:srgbClr val="3399ff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able depos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eckbook money) are a large component of the stock of money in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560" y="1224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What “Backs”</a:t>
            </a:r>
            <a:br>
              <a:rPr sz="4000"/>
            </a:br>
            <a:r>
              <a:rPr b="1" lang="en-US" sz="4000" spc="-1" strike="noStrike">
                <a:solidFill>
                  <a:srgbClr val="c8320a"/>
                </a:solidFill>
                <a:latin typeface="Arial"/>
              </a:rPr>
              <a:t>the Money Supply?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money supply is guaranteed by government’s ability to keep the value of money relatively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Value of Money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has value because of its acceptability, legal tender designation, and relative scar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as decreed currency 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gal te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aper money is a valid and legal means of payment of deb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800600"/>
            <a:ext cx="1542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Money and Prices</a:t>
            </a:r>
            <a:endParaRPr b="1" lang="en-US" sz="4000" spc="-1" strike="noStrike">
              <a:solidFill>
                <a:srgbClr val="c8320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chasing power of money is the amount of goods and services a unit of money will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320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chasing power of the dollar varies inversely with the pric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ff50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ice level rises, the purchasing power of the dollar falls, and vice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6000" y="6219720"/>
            <a:ext cx="80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yright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© 2007 by the McGraw-Hill Companies, Inc. 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17:13:06Z</dcterms:created>
  <dc:creator>Darlene DeVera</dc:creator>
  <dc:description/>
  <dc:language>en-US</dc:language>
  <cp:lastModifiedBy>The Evergreen State College</cp:lastModifiedBy>
  <dcterms:modified xsi:type="dcterms:W3CDTF">2008-05-08T18:11:40Z</dcterms:modified>
  <cp:revision>191</cp:revision>
  <dc:subject/>
  <dc:title>Chapter 15: Money and Ban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95424836</vt:r8>
  </property>
  <property fmtid="{D5CDD505-2E9C-101B-9397-08002B2CF9AE}" pid="3" name="_AuthorEmail">
    <vt:lpwstr>Jackie_Grabel@mcgraw-hill.com</vt:lpwstr>
  </property>
  <property fmtid="{D5CDD505-2E9C-101B-9397-08002B2CF9AE}" pid="4" name="_AuthorEmailDisplayName">
    <vt:lpwstr>Grabel, Jackie</vt:lpwstr>
  </property>
  <property fmtid="{D5CDD505-2E9C-101B-9397-08002B2CF9AE}" pid="5" name="_EmailSubject">
    <vt:lpwstr>Brue 1/e PPT</vt:lpwstr>
  </property>
  <property fmtid="{D5CDD505-2E9C-101B-9397-08002B2CF9AE}" pid="6" name="_ReviewingToolsShownOnce">
    <vt:lpwstr/>
  </property>
</Properties>
</file>