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D6E-FBF2-4F8B-AD2F-E15684C3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1D7-3EF1-4337-BB12-09002D55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914-3FAA-4686-8A2F-1A512C21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831-0B13-4438-8959-2A37952C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40A-1C57-43BC-8FBA-8748CA2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ED1-2F06-4D67-90F0-9E07E27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948-AC29-40D2-BE7A-28E9E546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25E-7920-4384-AECF-8C69ED3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006-0AAD-4451-994B-84FFAC51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992-5A9B-4BE9-B11D-66AB855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27B-B6F6-473F-80CB-8AC21F4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8D8-E07B-446C-8F4D-54A8E9F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634-30E8-4FB0-8F54-7E0E5310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Pap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P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id of Common Points</a:t>
            </a:r>
            <a:br>
              <a:rPr sz="44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T.B. Henning, Indiana U. Writing Cen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reading, note repeated words 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note conflicts or contra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ll of the above, write main research question answered by sourc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hese into categories for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58504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58680" y="304920"/>
            <a:ext cx="7226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handout “Recognizing Synthes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nother student, develop a list of specific techniques used in revision, which improved the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ith the whol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rganize Your Paper Around a The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95680" y="20574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2057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350532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48006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89480" y="202896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rganize Your Paper Around a The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8288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04812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37920" y="426708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26708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5867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is driven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reflect understanding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hat you’ve learned in some nove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five of the required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ly discouraged from doing addition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“Synthesi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want you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“Synthesi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ore than one source, yes.  But that’s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“Synthesi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ore than one source, yes.  But that’s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between sources, yes.  But that’s still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“Synthesi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ore than one source, yes.  But that’s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between sources, yes.  But that’s still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ultiple sources to back up your own thesis, great!  What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“Synthesi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ore than one source, yes.  But that’s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between sources, yes.  But that’s still no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ultiple sources to back up your own thesis, great!  What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sources topically, not proceeding source-by-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Ain’t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aren Craigo, General Studies Writing Progra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wling Green State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nthesized essay should leave a reader with a holistic sense that the writer has conveyed his or her own new ideas, and has drawn upon a chorus of voices for suppor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Ain’t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aren Craigo, General Studies Writing Progra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wling Green State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ain’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sources in a paragraph,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sources but mostly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relationships between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 your paper with the voices of as many other writers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17:45Z</dcterms:created>
  <dc:creator>Ted Whitesell</dc:creator>
  <dc:description/>
  <dc:language>en-US</dc:language>
  <cp:lastModifiedBy>Ted Whitesell</cp:lastModifiedBy>
  <dcterms:modified xsi:type="dcterms:W3CDTF">2008-10-23T22:01:23Z</dcterms:modified>
  <cp:revision>10</cp:revision>
  <dc:subject/>
  <dc:title>Synthesis Paper Strategies</dc:title>
</cp:coreProperties>
</file>