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EA37-3D68-4190-8DD3-D0F0483F7B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288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45A55871-925B-4A33-8322-5D556BCD5E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ORRECT 5 ANSW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26B-DAE0-4621-884A-983AA37F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176-D0D3-45F6-B310-B89482F5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D1AC-630C-4CEB-A893-B67E5CD7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669F-5799-4ADE-8357-0C5D61091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688-2541-4489-81D3-087CF0E0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551B-A1AA-452D-8D23-1300F99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36E0-B981-421E-B372-6805B3CB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84C-7A51-45A0-976E-C22D2AD3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321-1726-4349-9F6F-E55EEEF6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77B-62C4-46A3-B30A-AD9F5243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BAC-85A8-46CF-8913-3B57550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0EB-3271-4DA3-BF90-D26AC2E9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18D9-DA0F-48EA-A0B5-0F695985F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nduc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29360" y="693720"/>
            <a:ext cx="3439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posi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ega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027240" y="3767040"/>
            <a:ext cx="3627720" cy="2220120"/>
            <a:chOff x="3027240" y="3767040"/>
            <a:chExt cx="3627720" cy="2220120"/>
          </a:xfrm>
        </p:grpSpPr>
        <p:sp>
          <p:nvSpPr>
            <p:cNvPr id="55" name=""/>
            <p:cNvSpPr/>
            <p:nvPr/>
          </p:nvSpPr>
          <p:spPr>
            <a:xfrm>
              <a:off x="3990960" y="3767040"/>
              <a:ext cx="2664000" cy="306360"/>
            </a:xfrm>
            <a:prstGeom prst="rect">
              <a:avLst/>
            </a:prstGeom>
            <a:solidFill>
              <a:srgbClr val="8080ff"/>
            </a:solidFill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239360" y="4091760"/>
              <a:ext cx="1077480" cy="1895400"/>
              <a:chOff x="4239360" y="4091760"/>
              <a:chExt cx="1077480" cy="1895400"/>
            </a:xfrm>
          </p:grpSpPr>
          <p:sp>
            <p:nvSpPr>
              <p:cNvPr id="57" name=""/>
              <p:cNvSpPr/>
              <p:nvPr/>
            </p:nvSpPr>
            <p:spPr>
              <a:xfrm rot="1441800">
                <a:off x="4340880" y="5250240"/>
                <a:ext cx="635040" cy="635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788000" y="4091760"/>
                <a:ext cx="528840" cy="11858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027240" y="5397480"/>
              <a:ext cx="1096920" cy="374400"/>
              <a:chOff x="3027240" y="5397480"/>
              <a:chExt cx="1096920" cy="374400"/>
            </a:xfrm>
          </p:grpSpPr>
          <p:sp>
            <p:nvSpPr>
              <p:cNvPr id="60" name=""/>
              <p:cNvSpPr/>
              <p:nvPr/>
            </p:nvSpPr>
            <p:spPr>
              <a:xfrm>
                <a:off x="3027240" y="5397480"/>
                <a:ext cx="109692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3811680" y="5467320"/>
                <a:ext cx="234720" cy="234720"/>
                <a:chOff x="3811680" y="5467320"/>
                <a:chExt cx="234720" cy="234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811680" y="5584320"/>
                  <a:ext cx="234720" cy="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3928680" y="5467320"/>
                  <a:ext cx="0" cy="23472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816120"/>
            <a:ext cx="4979880" cy="22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85560" indent="0">
              <a:lnSpc>
                <a:spcPct val="14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al ball hangs from the ceiling by an insulating thread.  Th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ttrac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arged rod held near the ball.  The charge of the ball must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4240" y="3890880"/>
            <a:ext cx="2809800" cy="2967120"/>
          </a:xfrm>
          <a:prstGeom prst="rect">
            <a:avLst/>
          </a:prstGeom>
          <a:solidFill>
            <a:srgbClr val="000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5877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97680" y="0"/>
            <a:ext cx="947880" cy="6429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4840" y="3664080"/>
            <a:ext cx="5145120" cy="2319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120" y="3681360"/>
            <a:ext cx="50198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charge +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pels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wards the right.  The charge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repels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upward, but with a stronger force.  Therefore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 force is up and to the right, but mostly up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926960" y="-1080"/>
            <a:ext cx="3905280" cy="3855600"/>
            <a:chOff x="4926960" y="-1080"/>
            <a:chExt cx="3905280" cy="3855600"/>
          </a:xfrm>
        </p:grpSpPr>
        <p:grpSp>
          <p:nvGrpSpPr>
            <p:cNvPr id="290" name=""/>
            <p:cNvGrpSpPr/>
            <p:nvPr/>
          </p:nvGrpSpPr>
          <p:grpSpPr>
            <a:xfrm>
              <a:off x="4926960" y="1631880"/>
              <a:ext cx="765720" cy="693720"/>
              <a:chOff x="4926960" y="1631880"/>
              <a:chExt cx="765720" cy="693720"/>
            </a:xfrm>
          </p:grpSpPr>
          <p:sp>
            <p:nvSpPr>
              <p:cNvPr id="291" name=""/>
              <p:cNvSpPr/>
              <p:nvPr/>
            </p:nvSpPr>
            <p:spPr>
              <a:xfrm>
                <a:off x="4962240" y="1631880"/>
                <a:ext cx="693720" cy="6937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926960" y="176724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6494040" y="3160800"/>
              <a:ext cx="765720" cy="693720"/>
              <a:chOff x="6494040" y="3160800"/>
              <a:chExt cx="765720" cy="693720"/>
            </a:xfrm>
          </p:grpSpPr>
          <p:sp>
            <p:nvSpPr>
              <p:cNvPr id="294" name=""/>
              <p:cNvSpPr/>
              <p:nvPr/>
            </p:nvSpPr>
            <p:spPr>
              <a:xfrm>
                <a:off x="6529320" y="3160800"/>
                <a:ext cx="693720" cy="69372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94040" y="329616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4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6856200" y="568440"/>
              <a:ext cx="0" cy="102384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75600" y="1992240"/>
              <a:ext cx="10238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162560" y="964080"/>
              <a:ext cx="724320" cy="724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008840" y="644040"/>
              <a:ext cx="383760" cy="9489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530760" y="1631880"/>
              <a:ext cx="693720" cy="693720"/>
              <a:chOff x="6530760" y="1631880"/>
              <a:chExt cx="693720" cy="693720"/>
            </a:xfrm>
          </p:grpSpPr>
          <p:sp>
            <p:nvSpPr>
              <p:cNvPr id="301" name=""/>
              <p:cNvSpPr/>
              <p:nvPr/>
            </p:nvSpPr>
            <p:spPr>
              <a:xfrm>
                <a:off x="6530760" y="1631880"/>
                <a:ext cx="693720" cy="693720"/>
              </a:xfrm>
              <a:prstGeom prst="ellipse">
                <a:avLst/>
              </a:prstGeom>
              <a:solidFill>
                <a:srgbClr val="fafd00"/>
              </a:solidFill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579360" y="176724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635880" y="-1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83880" y="1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88400" y="513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12400" y="1180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82320" y="17895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224120" y="1433520"/>
              <a:ext cx="942480" cy="400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49360" y="156384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99160" y="1981080"/>
              <a:ext cx="7858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867360" y="2349000"/>
              <a:ext cx="0" cy="785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33600" y="257328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5825880" y="4951440"/>
            <a:ext cx="765720" cy="519120"/>
            <a:chOff x="5825880" y="4951440"/>
            <a:chExt cx="765720" cy="519120"/>
          </a:xfrm>
        </p:grpSpPr>
        <p:sp>
          <p:nvSpPr>
            <p:cNvPr id="314" name=""/>
            <p:cNvSpPr/>
            <p:nvPr/>
          </p:nvSpPr>
          <p:spPr>
            <a:xfrm>
              <a:off x="5951160" y="4951440"/>
              <a:ext cx="513360" cy="51912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25880" y="5000040"/>
              <a:ext cx="765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986160" y="6095880"/>
            <a:ext cx="765720" cy="519120"/>
            <a:chOff x="6986160" y="6095880"/>
            <a:chExt cx="765720" cy="519120"/>
          </a:xfrm>
        </p:grpSpPr>
        <p:sp>
          <p:nvSpPr>
            <p:cNvPr id="317" name=""/>
            <p:cNvSpPr/>
            <p:nvPr/>
          </p:nvSpPr>
          <p:spPr>
            <a:xfrm>
              <a:off x="7110720" y="6095880"/>
              <a:ext cx="513360" cy="51912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86160" y="6144480"/>
              <a:ext cx="765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4</a:t>
              </a: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V="1">
            <a:off x="7412040" y="4177800"/>
            <a:ext cx="512640" cy="984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112160" y="4951440"/>
            <a:ext cx="514080" cy="519120"/>
            <a:chOff x="7112160" y="4951440"/>
            <a:chExt cx="514080" cy="519120"/>
          </a:xfrm>
        </p:grpSpPr>
        <p:sp>
          <p:nvSpPr>
            <p:cNvPr id="321" name=""/>
            <p:cNvSpPr/>
            <p:nvPr/>
          </p:nvSpPr>
          <p:spPr>
            <a:xfrm>
              <a:off x="7112160" y="4951440"/>
              <a:ext cx="514080" cy="51912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76680" y="5000040"/>
              <a:ext cx="18468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7356600" y="4156200"/>
            <a:ext cx="565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959600" y="4155840"/>
            <a:ext cx="0" cy="106020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353360" y="4154040"/>
            <a:ext cx="0" cy="106524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4400" y="5214960"/>
            <a:ext cx="540000" cy="144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56800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orces in 2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945720"/>
            <a:ext cx="37656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arrows best represents the direction of the net force on charg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other two charg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2560" y="6146640"/>
            <a:ext cx="456588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would happens if the yellow charge were +3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32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33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336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340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343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ie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354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357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414360" y="5027760"/>
            <a:ext cx="5303880" cy="1299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14360" y="4976640"/>
            <a:ext cx="517680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Both charges feel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electric fiel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the green charge because they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point in spa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63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64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367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371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374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415200" y="4883040"/>
            <a:ext cx="1850760" cy="1414080"/>
            <a:chOff x="6415200" y="4883040"/>
            <a:chExt cx="1850760" cy="1414080"/>
          </a:xfrm>
        </p:grpSpPr>
        <p:sp>
          <p:nvSpPr>
            <p:cNvPr id="383" name=""/>
            <p:cNvSpPr/>
            <p:nvPr/>
          </p:nvSpPr>
          <p:spPr>
            <a:xfrm>
              <a:off x="6415200" y="4883040"/>
              <a:ext cx="1850760" cy="1414080"/>
            </a:xfrm>
            <a:prstGeom prst="roundRect">
              <a:avLst>
                <a:gd name="adj" fmla="val 16667"/>
              </a:avLst>
            </a:prstGeom>
            <a:solidFill>
              <a:srgbClr val="00004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"/>
                <p:cNvSpPr txBox="1"/>
                <p:nvPr/>
              </p:nvSpPr>
              <p:spPr>
                <a:xfrm>
                  <a:off x="6711480" y="5061600"/>
                  <a:ext cx="1280880" cy="93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Q</m:t>
                          </m:r>
                        </m:num>
                        <m:den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ie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3440" y="2151000"/>
            <a:ext cx="3697560" cy="5684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389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392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396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397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400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404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407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9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418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421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57040" y="4979880"/>
            <a:ext cx="6242040" cy="1433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7040" y="5002200"/>
            <a:ext cx="61041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ctric field is the 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or both charges, bu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n a given charge also depends o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gnitude of that specific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9144000" cy="2998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60320" y="3129120"/>
            <a:ext cx="7594560" cy="1473120"/>
            <a:chOff x="760320" y="3129120"/>
            <a:chExt cx="7594560" cy="1473120"/>
          </a:xfrm>
        </p:grpSpPr>
        <p:grpSp>
          <p:nvGrpSpPr>
            <p:cNvPr id="427" name=""/>
            <p:cNvGrpSpPr/>
            <p:nvPr/>
          </p:nvGrpSpPr>
          <p:grpSpPr>
            <a:xfrm>
              <a:off x="3127320" y="3623040"/>
              <a:ext cx="528120" cy="485640"/>
              <a:chOff x="3127320" y="3623040"/>
              <a:chExt cx="528120" cy="485640"/>
            </a:xfrm>
          </p:grpSpPr>
          <p:sp>
            <p:nvSpPr>
              <p:cNvPr id="428" name=""/>
              <p:cNvSpPr/>
              <p:nvPr/>
            </p:nvSpPr>
            <p:spPr>
              <a:xfrm>
                <a:off x="3146040" y="362304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127320" y="3653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351920" y="3623040"/>
              <a:ext cx="528120" cy="485640"/>
              <a:chOff x="7351920" y="3623040"/>
              <a:chExt cx="528120" cy="48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7368840" y="3623040"/>
                <a:ext cx="492120" cy="48564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351920" y="36550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76032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1182960" y="3623040"/>
              <a:ext cx="528120" cy="485640"/>
              <a:chOff x="1182960" y="3623040"/>
              <a:chExt cx="528120" cy="485640"/>
            </a:xfrm>
          </p:grpSpPr>
          <p:sp>
            <p:nvSpPr>
              <p:cNvPr id="435" name=""/>
              <p:cNvSpPr/>
              <p:nvPr/>
            </p:nvSpPr>
            <p:spPr>
              <a:xfrm>
                <a:off x="120024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8296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5399280" y="3623040"/>
              <a:ext cx="528120" cy="485640"/>
              <a:chOff x="5399280" y="3623040"/>
              <a:chExt cx="528120" cy="485640"/>
            </a:xfrm>
          </p:grpSpPr>
          <p:sp>
            <p:nvSpPr>
              <p:cNvPr id="438" name=""/>
              <p:cNvSpPr/>
              <p:nvPr/>
            </p:nvSpPr>
            <p:spPr>
              <a:xfrm>
                <a:off x="5416560" y="3623040"/>
                <a:ext cx="492120" cy="48564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399280" y="36547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4786200" y="3129120"/>
              <a:ext cx="3568680" cy="1473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3808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4784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1800" y="3862440"/>
              <a:ext cx="139716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08800" y="391536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970520" y="682560"/>
            <a:ext cx="4173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the same for both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0" y="745920"/>
            <a:ext cx="3813120" cy="20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twe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lu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, which of them experiences the greate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lectric for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969240" y="5372280"/>
            <a:ext cx="1571400" cy="598320"/>
            <a:chOff x="6969240" y="5372280"/>
            <a:chExt cx="1571400" cy="598320"/>
          </a:xfrm>
        </p:grpSpPr>
        <p:sp>
          <p:nvSpPr>
            <p:cNvPr id="448" name=""/>
            <p:cNvSpPr/>
            <p:nvPr/>
          </p:nvSpPr>
          <p:spPr>
            <a:xfrm>
              <a:off x="6969240" y="5372280"/>
              <a:ext cx="1571400" cy="598320"/>
            </a:xfrm>
            <a:prstGeom prst="roundRect">
              <a:avLst>
                <a:gd name="adj" fmla="val 16667"/>
              </a:avLst>
            </a:prstGeom>
            <a:solidFill>
              <a:srgbClr val="000040"/>
            </a:solidFill>
            <a:ln w="93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7162920" y="5423040"/>
                  <a:ext cx="11095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qE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0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8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ield and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462560" y="1455840"/>
            <a:ext cx="2881080" cy="7142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5629320" y="1560600"/>
            <a:ext cx="528120" cy="485640"/>
            <a:chOff x="5629320" y="1560600"/>
            <a:chExt cx="528120" cy="485640"/>
          </a:xfrm>
        </p:grpSpPr>
        <p:sp>
          <p:nvSpPr>
            <p:cNvPr id="453" name=""/>
            <p:cNvSpPr/>
            <p:nvPr/>
          </p:nvSpPr>
          <p:spPr>
            <a:xfrm>
              <a:off x="5648040" y="1560600"/>
              <a:ext cx="492120" cy="48564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9320" y="159084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597640" y="747720"/>
            <a:ext cx="528120" cy="485640"/>
            <a:chOff x="5597640" y="747720"/>
            <a:chExt cx="528120" cy="485640"/>
          </a:xfrm>
        </p:grpSpPr>
        <p:sp>
          <p:nvSpPr>
            <p:cNvPr id="456" name=""/>
            <p:cNvSpPr/>
            <p:nvPr/>
          </p:nvSpPr>
          <p:spPr>
            <a:xfrm>
              <a:off x="5614560" y="747720"/>
              <a:ext cx="492120" cy="485640"/>
            </a:xfrm>
            <a:prstGeom prst="ellipse">
              <a:avLst/>
            </a:prstGeom>
            <a:solidFill>
              <a:srgbClr val="00ffff"/>
            </a:solid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97640" y="779760"/>
              <a:ext cx="528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4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9144000" cy="3333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5867640" y="755640"/>
            <a:ext cx="2800080" cy="2321640"/>
            <a:chOff x="5867640" y="755640"/>
            <a:chExt cx="2800080" cy="2321640"/>
          </a:xfrm>
        </p:grpSpPr>
        <p:sp>
          <p:nvSpPr>
            <p:cNvPr id="461" name=""/>
            <p:cNvSpPr/>
            <p:nvPr/>
          </p:nvSpPr>
          <p:spPr>
            <a:xfrm>
              <a:off x="6748200" y="954360"/>
              <a:ext cx="1919520" cy="191916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731000" y="190692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940080" y="191160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711920" y="1135080"/>
              <a:ext cx="0" cy="771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7163280" y="132984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88160" y="187812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236080" y="19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40800" y="19558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026480" y="970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88600" y="965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30840" y="83988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26160" y="2740320"/>
              <a:ext cx="23796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67640" y="26542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867640" y="75564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3648240" y="258444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0"/>
            <a:ext cx="9144000" cy="3333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65080" y="3543480"/>
            <a:ext cx="6996240" cy="2124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65080" y="3662280"/>
            <a:ext cx="7045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the upper charge,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 at the center of the square points toward that charge.  For the lower charge, the same thing is true.  Then the vector sum of these tw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ints to the lef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867640" y="755640"/>
            <a:ext cx="2800080" cy="2321640"/>
            <a:chOff x="5867640" y="755640"/>
            <a:chExt cx="2800080" cy="2321640"/>
          </a:xfrm>
        </p:grpSpPr>
        <p:sp>
          <p:nvSpPr>
            <p:cNvPr id="482" name=""/>
            <p:cNvSpPr/>
            <p:nvPr/>
          </p:nvSpPr>
          <p:spPr>
            <a:xfrm>
              <a:off x="6748200" y="954360"/>
              <a:ext cx="1919520" cy="191916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731000" y="190692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940080" y="191160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711920" y="1135080"/>
              <a:ext cx="0" cy="7718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7163280" y="132984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88160" y="187812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236080" y="19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40800" y="19558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26480" y="970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788600" y="965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30840" y="83988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26160" y="2740320"/>
              <a:ext cx="23796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7640" y="26542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67640" y="75564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648240" y="258444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16800" y="1712880"/>
            <a:ext cx="1177920" cy="6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378080" y="5894280"/>
            <a:ext cx="603396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the lower charge were +2 C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What if both charges were +2 C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148360" y="760320"/>
            <a:ext cx="3779280" cy="2334240"/>
            <a:chOff x="5148360" y="760320"/>
            <a:chExt cx="3779280" cy="2334240"/>
          </a:xfrm>
        </p:grpSpPr>
        <p:sp>
          <p:nvSpPr>
            <p:cNvPr id="502" name=""/>
            <p:cNvSpPr/>
            <p:nvPr/>
          </p:nvSpPr>
          <p:spPr>
            <a:xfrm>
              <a:off x="6035760" y="971280"/>
              <a:ext cx="1919160" cy="19195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18200" y="192384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6227280" y="192852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6999120" y="1152000"/>
              <a:ext cx="0" cy="771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6450480" y="134676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75360" y="189540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523280" y="19494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8000" y="19731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13680" y="987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75800" y="98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18040" y="857160"/>
              <a:ext cx="23832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13360" y="275724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54840" y="267156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48360" y="76032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131320" y="7696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170920" y="26668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29640" y="85068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835760" y="276192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57640" y="274320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14360" y="3624120"/>
            <a:ext cx="5967360" cy="20559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28840" y="3700440"/>
            <a:ext cx="6083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ur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vectors all point outward   from the center of the square toward their respective charges.  Because they are all equal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field is zero at the cent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148360" y="760320"/>
            <a:ext cx="3779280" cy="2334240"/>
            <a:chOff x="5148360" y="760320"/>
            <a:chExt cx="3779280" cy="2334240"/>
          </a:xfrm>
        </p:grpSpPr>
        <p:sp>
          <p:nvSpPr>
            <p:cNvPr id="527" name=""/>
            <p:cNvSpPr/>
            <p:nvPr/>
          </p:nvSpPr>
          <p:spPr>
            <a:xfrm>
              <a:off x="6035760" y="971280"/>
              <a:ext cx="1919160" cy="19195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18200" y="1923840"/>
              <a:ext cx="7714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227280" y="1928520"/>
              <a:ext cx="77148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99120" y="1152000"/>
              <a:ext cx="0" cy="77148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6450480" y="134676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360" y="1895400"/>
              <a:ext cx="55440" cy="55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23280" y="19494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28000" y="19731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13680" y="987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075800" y="98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918040" y="857160"/>
              <a:ext cx="238320" cy="237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13360" y="275724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54840" y="267156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148360" y="76032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131320" y="7696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170920" y="2666880"/>
              <a:ext cx="75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2 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29640" y="850680"/>
              <a:ext cx="23796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35760" y="2761920"/>
              <a:ext cx="238320" cy="23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973240" y="2641680"/>
            <a:ext cx="2071800" cy="623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-360" y="853560"/>
            <a:ext cx="3846600" cy="178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field at the center of the squ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57640" y="2743200"/>
            <a:ext cx="151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 =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12680" y="5846760"/>
            <a:ext cx="67057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the upper two charges were +2 C?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What if the right-hand charges were +2 C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264600" y="1072800"/>
            <a:ext cx="3699000" cy="20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electric field at the position of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157000" y="571680"/>
            <a:ext cx="3273480" cy="2918520"/>
            <a:chOff x="5157000" y="571680"/>
            <a:chExt cx="3273480" cy="2918520"/>
          </a:xfrm>
        </p:grpSpPr>
        <p:sp>
          <p:nvSpPr>
            <p:cNvPr id="553" name=""/>
            <p:cNvSpPr/>
            <p:nvPr/>
          </p:nvSpPr>
          <p:spPr>
            <a:xfrm>
              <a:off x="6975360" y="1895400"/>
              <a:ext cx="5580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481880" y="2496960"/>
              <a:ext cx="0" cy="77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6906240" y="184248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33040" y="2798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080560" y="1816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48760" y="1784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26440" y="269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88080" y="757080"/>
              <a:ext cx="1687320" cy="16891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84760" y="657360"/>
              <a:ext cx="20808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0080" y="232884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57000" y="225252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12440" y="571680"/>
              <a:ext cx="52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89160" y="59040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65960" y="65088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885360" y="2480400"/>
              <a:ext cx="563400" cy="527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4200" y="1890000"/>
              <a:ext cx="563400" cy="527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33360" y="2494800"/>
              <a:ext cx="527040" cy="56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09280" y="3067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7413480" y="2376360"/>
              <a:ext cx="127080" cy="127080"/>
              <a:chOff x="7413480" y="2376360"/>
              <a:chExt cx="127080" cy="127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416720" y="2376360"/>
                <a:ext cx="121320" cy="1270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7413480" y="2378160"/>
                <a:ext cx="127080" cy="12132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524400"/>
            <a:ext cx="5029200" cy="2774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03600"/>
            <a:ext cx="497196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Clearly, the ball will be attracted if its charge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However, even if the ball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utr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 charges in the ball can be separat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duction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(polarization), leading to a net attraction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920" y="2671920"/>
            <a:ext cx="3609720" cy="541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29360" y="693720"/>
            <a:ext cx="3439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posi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egative or neu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224320" y="3733920"/>
            <a:ext cx="3627720" cy="2220120"/>
            <a:chOff x="5224320" y="3733920"/>
            <a:chExt cx="3627720" cy="2220120"/>
          </a:xfrm>
        </p:grpSpPr>
        <p:sp>
          <p:nvSpPr>
            <p:cNvPr id="73" name=""/>
            <p:cNvSpPr/>
            <p:nvPr/>
          </p:nvSpPr>
          <p:spPr>
            <a:xfrm>
              <a:off x="6188040" y="3733920"/>
              <a:ext cx="2664000" cy="306360"/>
            </a:xfrm>
            <a:prstGeom prst="rect">
              <a:avLst/>
            </a:prstGeom>
            <a:solidFill>
              <a:srgbClr val="8080ff"/>
            </a:solidFill>
            <a:ln w="19080">
              <a:solidFill>
                <a:srgbClr val="8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36440" y="4058640"/>
              <a:ext cx="1077480" cy="1895400"/>
              <a:chOff x="6436440" y="4058640"/>
              <a:chExt cx="1077480" cy="1895400"/>
            </a:xfrm>
          </p:grpSpPr>
          <p:sp>
            <p:nvSpPr>
              <p:cNvPr id="75" name=""/>
              <p:cNvSpPr/>
              <p:nvPr/>
            </p:nvSpPr>
            <p:spPr>
              <a:xfrm rot="1441800">
                <a:off x="6537960" y="5217120"/>
                <a:ext cx="635040" cy="63504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985080" y="4058640"/>
                <a:ext cx="528840" cy="11858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224320" y="5364360"/>
              <a:ext cx="1096920" cy="374400"/>
              <a:chOff x="5224320" y="5364360"/>
              <a:chExt cx="1096920" cy="37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224320" y="5364360"/>
                <a:ext cx="109692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6008760" y="5434200"/>
                <a:ext cx="234720" cy="234720"/>
                <a:chOff x="6008760" y="5434200"/>
                <a:chExt cx="234720" cy="234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08760" y="5551200"/>
                  <a:ext cx="234720" cy="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6125760" y="5434200"/>
                  <a:ext cx="0" cy="234720"/>
                </a:xfrm>
                <a:prstGeom prst="line">
                  <a:avLst/>
                </a:prstGeom>
                <a:ln w="3816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816120"/>
            <a:ext cx="4979880" cy="22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85560" indent="0">
              <a:lnSpc>
                <a:spcPct val="14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metal ball hangs from the ceiling by an insulating thread.  The ball is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ttract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charged rod held near the ball.  The charge of the ball must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915240" y="5533560"/>
            <a:ext cx="150840" cy="150840"/>
            <a:chOff x="6915240" y="5533560"/>
            <a:chExt cx="150840" cy="150840"/>
          </a:xfrm>
        </p:grpSpPr>
        <p:sp>
          <p:nvSpPr>
            <p:cNvPr id="84" name=""/>
            <p:cNvSpPr/>
            <p:nvPr/>
          </p:nvSpPr>
          <p:spPr>
            <a:xfrm>
              <a:off x="6915240" y="5610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989760" y="5533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621480" y="537048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883560" y="5293800"/>
            <a:ext cx="150480" cy="150840"/>
            <a:chOff x="6883560" y="5293800"/>
            <a:chExt cx="150480" cy="150840"/>
          </a:xfrm>
        </p:grpSpPr>
        <p:sp>
          <p:nvSpPr>
            <p:cNvPr id="88" name=""/>
            <p:cNvSpPr/>
            <p:nvPr/>
          </p:nvSpPr>
          <p:spPr>
            <a:xfrm>
              <a:off x="6883560" y="5371200"/>
              <a:ext cx="15048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6957720" y="529380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997680" y="5614560"/>
            <a:ext cx="150840" cy="150840"/>
            <a:chOff x="6997680" y="5614560"/>
            <a:chExt cx="150840" cy="150840"/>
          </a:xfrm>
        </p:grpSpPr>
        <p:sp>
          <p:nvSpPr>
            <p:cNvPr id="91" name=""/>
            <p:cNvSpPr/>
            <p:nvPr/>
          </p:nvSpPr>
          <p:spPr>
            <a:xfrm>
              <a:off x="6997680" y="5691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72200" y="5614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045200" y="5479560"/>
            <a:ext cx="150840" cy="150840"/>
            <a:chOff x="7045200" y="5479560"/>
            <a:chExt cx="150840" cy="150840"/>
          </a:xfrm>
        </p:grpSpPr>
        <p:sp>
          <p:nvSpPr>
            <p:cNvPr id="94" name=""/>
            <p:cNvSpPr/>
            <p:nvPr/>
          </p:nvSpPr>
          <p:spPr>
            <a:xfrm>
              <a:off x="7045200" y="55569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119720" y="54795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989760" y="5358960"/>
            <a:ext cx="150840" cy="150840"/>
            <a:chOff x="6989760" y="5358960"/>
            <a:chExt cx="150840" cy="150840"/>
          </a:xfrm>
        </p:grpSpPr>
        <p:sp>
          <p:nvSpPr>
            <p:cNvPr id="97" name=""/>
            <p:cNvSpPr/>
            <p:nvPr/>
          </p:nvSpPr>
          <p:spPr>
            <a:xfrm>
              <a:off x="6989760" y="5436360"/>
              <a:ext cx="150840" cy="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7064280" y="5358960"/>
              <a:ext cx="0" cy="150840"/>
            </a:xfrm>
            <a:prstGeom prst="line">
              <a:avLst/>
            </a:prstGeom>
            <a:ln w="2844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566040" y="546876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5400" y="557064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88080" y="5748480"/>
            <a:ext cx="150840" cy="288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05640" y="5653080"/>
            <a:ext cx="150840" cy="3240"/>
          </a:xfrm>
          <a:prstGeom prst="line">
            <a:avLst/>
          </a:prstGeom>
          <a:ln w="2844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267680" y="5502240"/>
            <a:ext cx="1876320" cy="833760"/>
            <a:chOff x="7267680" y="5502240"/>
            <a:chExt cx="1876320" cy="833760"/>
          </a:xfrm>
        </p:grpSpPr>
        <p:sp>
          <p:nvSpPr>
            <p:cNvPr id="104" name=""/>
            <p:cNvSpPr/>
            <p:nvPr/>
          </p:nvSpPr>
          <p:spPr>
            <a:xfrm>
              <a:off x="7655040" y="5502240"/>
              <a:ext cx="1488960" cy="833760"/>
            </a:xfrm>
            <a:prstGeom prst="rect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ember the ball is a conductor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7267680" y="5542920"/>
              <a:ext cx="457200" cy="196920"/>
            </a:xfrm>
            <a:prstGeom prst="line">
              <a:avLst/>
            </a:prstGeom>
            <a:ln w="5724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nduc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451560"/>
            <a:ext cx="914400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if the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metal b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replaced by a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plastic b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05080" y="3627360"/>
            <a:ext cx="6195960" cy="23605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85800" y="3652920"/>
            <a:ext cx="60008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two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charges give a resultant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tha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wn and to the righ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 –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charge has 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 and to the lef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bu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 magnitude.  Therefore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electric field is down and to the righ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0080" y="2649600"/>
            <a:ext cx="819360" cy="6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264600" y="1072800"/>
            <a:ext cx="3699000" cy="20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direc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electric field at the position of the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01760" indent="0">
              <a:lnSpc>
                <a:spcPct val="13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5157000" y="571680"/>
            <a:ext cx="3273480" cy="2918520"/>
            <a:chOff x="5157000" y="571680"/>
            <a:chExt cx="3273480" cy="2918520"/>
          </a:xfrm>
        </p:grpSpPr>
        <p:sp>
          <p:nvSpPr>
            <p:cNvPr id="581" name=""/>
            <p:cNvSpPr/>
            <p:nvPr/>
          </p:nvSpPr>
          <p:spPr>
            <a:xfrm>
              <a:off x="6975360" y="1895400"/>
              <a:ext cx="55800" cy="5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81880" y="2496960"/>
              <a:ext cx="0" cy="77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6906240" y="1842480"/>
              <a:ext cx="527040" cy="5637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33040" y="2798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80560" y="1816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48760" y="1784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26440" y="2692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88080" y="757080"/>
              <a:ext cx="1687320" cy="1689120"/>
            </a:xfrm>
            <a:prstGeom prst="rect">
              <a:avLst/>
            </a:prstGeom>
            <a:noFill/>
            <a:ln cap="rnd" w="32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84760" y="657360"/>
              <a:ext cx="20808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680080" y="232884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57000" y="225252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12440" y="571680"/>
              <a:ext cx="520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89160" y="590400"/>
              <a:ext cx="5965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365960" y="650880"/>
              <a:ext cx="209520" cy="20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885360" y="2480400"/>
              <a:ext cx="563400" cy="5270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504200" y="1890000"/>
              <a:ext cx="563400" cy="52704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33360" y="2494800"/>
              <a:ext cx="527040" cy="56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09280" y="306720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7413480" y="2376360"/>
              <a:ext cx="127080" cy="127080"/>
              <a:chOff x="7413480" y="2376360"/>
              <a:chExt cx="127080" cy="127080"/>
            </a:xfrm>
          </p:grpSpPr>
          <p:sp>
            <p:nvSpPr>
              <p:cNvPr id="600" name=""/>
              <p:cNvSpPr/>
              <p:nvPr/>
            </p:nvSpPr>
            <p:spPr>
              <a:xfrm>
                <a:off x="7416720" y="2376360"/>
                <a:ext cx="121320" cy="12708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7413480" y="2378160"/>
                <a:ext cx="127080" cy="121320"/>
              </a:xfrm>
              <a:prstGeom prst="line">
                <a:avLst/>
              </a:prstGeom>
              <a:ln w="5724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Superposition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0640" y="6162840"/>
            <a:ext cx="724212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f all three charges reversed their sign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06600" y="1228680"/>
            <a:ext cx="36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the signs of the charges whose electric fields are shown below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06880" y="8269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 way to t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6529320" y="938160"/>
            <a:ext cx="1487160" cy="1898640"/>
            <a:chOff x="6529320" y="938160"/>
            <a:chExt cx="1487160" cy="1898640"/>
          </a:xfrm>
        </p:grpSpPr>
        <p:grpSp>
          <p:nvGrpSpPr>
            <p:cNvPr id="609" name=""/>
            <p:cNvGrpSpPr/>
            <p:nvPr/>
          </p:nvGrpSpPr>
          <p:grpSpPr>
            <a:xfrm>
              <a:off x="6529320" y="938160"/>
              <a:ext cx="289080" cy="285480"/>
              <a:chOff x="6529320" y="938160"/>
              <a:chExt cx="289080" cy="285480"/>
            </a:xfrm>
          </p:grpSpPr>
          <p:sp>
            <p:nvSpPr>
              <p:cNvPr id="610" name=""/>
              <p:cNvSpPr/>
              <p:nvPr/>
            </p:nvSpPr>
            <p:spPr>
              <a:xfrm>
                <a:off x="6529320" y="9381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566040" y="10807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6674040" y="9727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7727760" y="938160"/>
              <a:ext cx="288720" cy="285840"/>
              <a:chOff x="7727760" y="938160"/>
              <a:chExt cx="288720" cy="285840"/>
            </a:xfrm>
          </p:grpSpPr>
          <p:sp>
            <p:nvSpPr>
              <p:cNvPr id="614" name=""/>
              <p:cNvSpPr/>
              <p:nvPr/>
            </p:nvSpPr>
            <p:spPr>
              <a:xfrm>
                <a:off x="7727760" y="9381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64120" y="10810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6529320" y="1473120"/>
              <a:ext cx="289080" cy="285480"/>
              <a:chOff x="6529320" y="1473120"/>
              <a:chExt cx="289080" cy="285480"/>
            </a:xfrm>
          </p:grpSpPr>
          <p:sp>
            <p:nvSpPr>
              <p:cNvPr id="617" name=""/>
              <p:cNvSpPr/>
              <p:nvPr/>
            </p:nvSpPr>
            <p:spPr>
              <a:xfrm>
                <a:off x="6529320" y="14731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566040" y="16156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727760" y="1474560"/>
              <a:ext cx="288720" cy="285840"/>
              <a:chOff x="7727760" y="1474560"/>
              <a:chExt cx="288720" cy="285840"/>
            </a:xfrm>
          </p:grpSpPr>
          <p:sp>
            <p:nvSpPr>
              <p:cNvPr id="620" name=""/>
              <p:cNvSpPr/>
              <p:nvPr/>
            </p:nvSpPr>
            <p:spPr>
              <a:xfrm>
                <a:off x="7727760" y="14745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64120" y="16174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7872120" y="15094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7727760" y="2012760"/>
              <a:ext cx="288720" cy="285840"/>
              <a:chOff x="7727760" y="2012760"/>
              <a:chExt cx="288720" cy="285840"/>
            </a:xfrm>
          </p:grpSpPr>
          <p:sp>
            <p:nvSpPr>
              <p:cNvPr id="624" name=""/>
              <p:cNvSpPr/>
              <p:nvPr/>
            </p:nvSpPr>
            <p:spPr>
              <a:xfrm>
                <a:off x="7727760" y="20127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764120" y="21556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529320" y="2011320"/>
              <a:ext cx="289080" cy="285480"/>
              <a:chOff x="6529320" y="2011320"/>
              <a:chExt cx="289080" cy="285480"/>
            </a:xfrm>
          </p:grpSpPr>
          <p:sp>
            <p:nvSpPr>
              <p:cNvPr id="627" name=""/>
              <p:cNvSpPr/>
              <p:nvPr/>
            </p:nvSpPr>
            <p:spPr>
              <a:xfrm>
                <a:off x="6529320" y="20113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566040" y="21538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6529320" y="2550960"/>
              <a:ext cx="289080" cy="285480"/>
              <a:chOff x="6529320" y="2550960"/>
              <a:chExt cx="289080" cy="285480"/>
            </a:xfrm>
          </p:grpSpPr>
          <p:sp>
            <p:nvSpPr>
              <p:cNvPr id="630" name=""/>
              <p:cNvSpPr/>
              <p:nvPr/>
            </p:nvSpPr>
            <p:spPr>
              <a:xfrm>
                <a:off x="6529320" y="25509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66040" y="26935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674040" y="25855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7727760" y="2550960"/>
              <a:ext cx="288720" cy="285840"/>
              <a:chOff x="7727760" y="2550960"/>
              <a:chExt cx="288720" cy="285840"/>
            </a:xfrm>
          </p:grpSpPr>
          <p:sp>
            <p:nvSpPr>
              <p:cNvPr id="634" name=""/>
              <p:cNvSpPr/>
              <p:nvPr/>
            </p:nvSpPr>
            <p:spPr>
              <a:xfrm>
                <a:off x="7727760" y="25509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764120" y="26938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7872120" y="25858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2706840" y="3957480"/>
            <a:ext cx="3649680" cy="2509920"/>
            <a:chOff x="2706840" y="3957480"/>
            <a:chExt cx="3649680" cy="2509920"/>
          </a:xfrm>
        </p:grpSpPr>
        <p:grpSp>
          <p:nvGrpSpPr>
            <p:cNvPr id="638" name=""/>
            <p:cNvGrpSpPr/>
            <p:nvPr/>
          </p:nvGrpSpPr>
          <p:grpSpPr>
            <a:xfrm>
              <a:off x="2706840" y="3957480"/>
              <a:ext cx="3649680" cy="2509920"/>
              <a:chOff x="2706840" y="3957480"/>
              <a:chExt cx="3649680" cy="2509920"/>
            </a:xfrm>
          </p:grpSpPr>
          <p:pic>
            <p:nvPicPr>
              <p:cNvPr id="639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2706840" y="395748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>
                <a:off x="5089320" y="498348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5400000">
                <a:off x="3793680" y="498384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534840" y="498348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5400000">
                <a:off x="5568840" y="492372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4070520" y="619416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6600" y="1228680"/>
            <a:ext cx="36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the signs of the charges whose electric fields are shown at below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06880" y="826920"/>
            <a:ext cx="352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no way to t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529320" y="938160"/>
            <a:ext cx="1487160" cy="1898640"/>
            <a:chOff x="6529320" y="938160"/>
            <a:chExt cx="1487160" cy="1898640"/>
          </a:xfrm>
        </p:grpSpPr>
        <p:grpSp>
          <p:nvGrpSpPr>
            <p:cNvPr id="650" name=""/>
            <p:cNvGrpSpPr/>
            <p:nvPr/>
          </p:nvGrpSpPr>
          <p:grpSpPr>
            <a:xfrm>
              <a:off x="6529320" y="938160"/>
              <a:ext cx="289080" cy="285480"/>
              <a:chOff x="6529320" y="938160"/>
              <a:chExt cx="289080" cy="285480"/>
            </a:xfrm>
          </p:grpSpPr>
          <p:sp>
            <p:nvSpPr>
              <p:cNvPr id="651" name=""/>
              <p:cNvSpPr/>
              <p:nvPr/>
            </p:nvSpPr>
            <p:spPr>
              <a:xfrm>
                <a:off x="6529320" y="9381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66040" y="10807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6674040" y="9727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7727760" y="938160"/>
              <a:ext cx="288720" cy="285840"/>
              <a:chOff x="7727760" y="938160"/>
              <a:chExt cx="288720" cy="285840"/>
            </a:xfrm>
          </p:grpSpPr>
          <p:sp>
            <p:nvSpPr>
              <p:cNvPr id="655" name=""/>
              <p:cNvSpPr/>
              <p:nvPr/>
            </p:nvSpPr>
            <p:spPr>
              <a:xfrm>
                <a:off x="7727760" y="9381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64120" y="10810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6529320" y="1473120"/>
              <a:ext cx="289080" cy="285480"/>
              <a:chOff x="6529320" y="1473120"/>
              <a:chExt cx="289080" cy="285480"/>
            </a:xfrm>
          </p:grpSpPr>
          <p:sp>
            <p:nvSpPr>
              <p:cNvPr id="658" name=""/>
              <p:cNvSpPr/>
              <p:nvPr/>
            </p:nvSpPr>
            <p:spPr>
              <a:xfrm>
                <a:off x="6529320" y="14731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566040" y="16156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727760" y="1474560"/>
              <a:ext cx="288720" cy="285840"/>
              <a:chOff x="7727760" y="1474560"/>
              <a:chExt cx="288720" cy="285840"/>
            </a:xfrm>
          </p:grpSpPr>
          <p:sp>
            <p:nvSpPr>
              <p:cNvPr id="661" name=""/>
              <p:cNvSpPr/>
              <p:nvPr/>
            </p:nvSpPr>
            <p:spPr>
              <a:xfrm>
                <a:off x="7727760" y="14745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64120" y="16174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7872120" y="15094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7727760" y="2012760"/>
              <a:ext cx="288720" cy="285840"/>
              <a:chOff x="7727760" y="2012760"/>
              <a:chExt cx="288720" cy="285840"/>
            </a:xfrm>
          </p:grpSpPr>
          <p:sp>
            <p:nvSpPr>
              <p:cNvPr id="665" name=""/>
              <p:cNvSpPr/>
              <p:nvPr/>
            </p:nvSpPr>
            <p:spPr>
              <a:xfrm>
                <a:off x="7727760" y="20127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764120" y="21556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6529320" y="2011320"/>
              <a:ext cx="289080" cy="285480"/>
              <a:chOff x="6529320" y="2011320"/>
              <a:chExt cx="289080" cy="285480"/>
            </a:xfrm>
          </p:grpSpPr>
          <p:sp>
            <p:nvSpPr>
              <p:cNvPr id="668" name=""/>
              <p:cNvSpPr/>
              <p:nvPr/>
            </p:nvSpPr>
            <p:spPr>
              <a:xfrm>
                <a:off x="6529320" y="201132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566040" y="215388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6529320" y="2550960"/>
              <a:ext cx="289080" cy="285480"/>
              <a:chOff x="6529320" y="2550960"/>
              <a:chExt cx="289080" cy="285480"/>
            </a:xfrm>
          </p:grpSpPr>
          <p:sp>
            <p:nvSpPr>
              <p:cNvPr id="671" name=""/>
              <p:cNvSpPr/>
              <p:nvPr/>
            </p:nvSpPr>
            <p:spPr>
              <a:xfrm>
                <a:off x="6529320" y="2550960"/>
                <a:ext cx="289080" cy="2854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566040" y="2693520"/>
                <a:ext cx="21564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674040" y="2585520"/>
                <a:ext cx="0" cy="21564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7727760" y="2550960"/>
              <a:ext cx="288720" cy="285840"/>
              <a:chOff x="7727760" y="2550960"/>
              <a:chExt cx="288720" cy="285840"/>
            </a:xfrm>
          </p:grpSpPr>
          <p:sp>
            <p:nvSpPr>
              <p:cNvPr id="675" name=""/>
              <p:cNvSpPr/>
              <p:nvPr/>
            </p:nvSpPr>
            <p:spPr>
              <a:xfrm>
                <a:off x="7727760" y="2550960"/>
                <a:ext cx="288720" cy="2858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764120" y="2693880"/>
                <a:ext cx="216000" cy="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7872120" y="2585880"/>
                <a:ext cx="0" cy="216000"/>
              </a:xfrm>
              <a:prstGeom prst="line">
                <a:avLst/>
              </a:prstGeom>
              <a:ln w="3816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"/>
          <p:cNvSpPr/>
          <p:nvPr/>
        </p:nvSpPr>
        <p:spPr>
          <a:xfrm>
            <a:off x="5510160" y="1279440"/>
            <a:ext cx="3224160" cy="596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5040" y="4255920"/>
            <a:ext cx="4305240" cy="1803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440" y="4424400"/>
            <a:ext cx="446076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Electric field lin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riginate on positive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e on negative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5084640" y="4006800"/>
            <a:ext cx="3649680" cy="2509920"/>
            <a:chOff x="5084640" y="4006800"/>
            <a:chExt cx="3649680" cy="2509920"/>
          </a:xfrm>
        </p:grpSpPr>
        <p:grpSp>
          <p:nvGrpSpPr>
            <p:cNvPr id="682" name=""/>
            <p:cNvGrpSpPr/>
            <p:nvPr/>
          </p:nvGrpSpPr>
          <p:grpSpPr>
            <a:xfrm>
              <a:off x="5084640" y="4006800"/>
              <a:ext cx="3649680" cy="2509920"/>
              <a:chOff x="5084640" y="4006800"/>
              <a:chExt cx="3649680" cy="2509920"/>
            </a:xfrm>
          </p:grpSpPr>
          <p:pic>
            <p:nvPicPr>
              <p:cNvPr id="683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5084640" y="400680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"/>
              <p:cNvSpPr/>
              <p:nvPr/>
            </p:nvSpPr>
            <p:spPr>
              <a:xfrm>
                <a:off x="7467120" y="503280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5400000">
                <a:off x="6171480" y="503316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12640" y="503280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5400000">
                <a:off x="7946640" y="497304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6448320" y="624348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15840" y="137952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charges has the greater magnitu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796080" y="1384200"/>
            <a:ext cx="289080" cy="285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10480" y="1941480"/>
            <a:ext cx="288720" cy="285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9120" y="1096920"/>
            <a:ext cx="23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2732040" y="3922560"/>
            <a:ext cx="3649680" cy="2509920"/>
            <a:chOff x="2732040" y="3922560"/>
            <a:chExt cx="3649680" cy="2509920"/>
          </a:xfrm>
        </p:grpSpPr>
        <p:grpSp>
          <p:nvGrpSpPr>
            <p:cNvPr id="696" name=""/>
            <p:cNvGrpSpPr/>
            <p:nvPr/>
          </p:nvGrpSpPr>
          <p:grpSpPr>
            <a:xfrm>
              <a:off x="2732040" y="3922560"/>
              <a:ext cx="3649680" cy="2509920"/>
              <a:chOff x="2732040" y="3922560"/>
              <a:chExt cx="3649680" cy="2509920"/>
            </a:xfrm>
          </p:grpSpPr>
          <p:pic>
            <p:nvPicPr>
              <p:cNvPr id="697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2732040" y="392256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"/>
              <p:cNvSpPr/>
              <p:nvPr/>
            </p:nvSpPr>
            <p:spPr>
              <a:xfrm>
                <a:off x="5114520" y="494856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5400000">
                <a:off x="3818880" y="494892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560040" y="494856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5400000">
                <a:off x="5594040" y="488880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095720" y="615924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0"/>
            <a:ext cx="9142560" cy="3568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12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ield Line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5840" y="137952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charges has the greater magnitu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96080" y="1384200"/>
            <a:ext cx="289080" cy="285840"/>
          </a:xfrm>
          <a:prstGeom prst="ellipse">
            <a:avLst/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810480" y="1941480"/>
            <a:ext cx="288720" cy="2858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099120" y="1096920"/>
            <a:ext cx="230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the s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22920" y="1792440"/>
            <a:ext cx="2301840" cy="576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31840" y="3828960"/>
            <a:ext cx="4437000" cy="1803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3943440"/>
            <a:ext cx="46245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1760" indent="-40176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ield lin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nser around the red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d one has the greater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084640" y="4006800"/>
            <a:ext cx="3649680" cy="2509920"/>
            <a:chOff x="5084640" y="4006800"/>
            <a:chExt cx="3649680" cy="2509920"/>
          </a:xfrm>
        </p:grpSpPr>
        <p:grpSp>
          <p:nvGrpSpPr>
            <p:cNvPr id="713" name=""/>
            <p:cNvGrpSpPr/>
            <p:nvPr/>
          </p:nvGrpSpPr>
          <p:grpSpPr>
            <a:xfrm>
              <a:off x="5084640" y="4006800"/>
              <a:ext cx="3649680" cy="2509920"/>
              <a:chOff x="5084640" y="4006800"/>
              <a:chExt cx="3649680" cy="2509920"/>
            </a:xfrm>
          </p:grpSpPr>
          <p:pic>
            <p:nvPicPr>
              <p:cNvPr id="714" name="" descr=""/>
              <p:cNvPicPr/>
              <p:nvPr/>
            </p:nvPicPr>
            <p:blipFill>
              <a:blip r:embed="rId1"/>
              <a:srcRect l="7748" t="24246" r="38557" b="20372"/>
              <a:stretch/>
            </p:blipFill>
            <p:spPr>
              <a:xfrm>
                <a:off x="5084640" y="4006800"/>
                <a:ext cx="3649680" cy="250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>
                <a:off x="7467120" y="5032800"/>
                <a:ext cx="288720" cy="28440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5400000">
                <a:off x="6171480" y="5033160"/>
                <a:ext cx="381960" cy="288360"/>
              </a:xfrm>
              <a:custGeom>
                <a:avLst/>
                <a:gdLst>
                  <a:gd name="textAreaLeft" fmla="*/ 83880 w 381960"/>
                  <a:gd name="textAreaRight" fmla="*/ 298080 w 381960"/>
                  <a:gd name="textAreaTop" fmla="*/ 63360 h 288360"/>
                  <a:gd name="textAreaBottom" fmla="*/ 225000 h 28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912640" y="5032800"/>
                <a:ext cx="288720" cy="28440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5400000">
                <a:off x="7946640" y="4973040"/>
                <a:ext cx="237600" cy="390600"/>
              </a:xfrm>
              <a:custGeom>
                <a:avLst/>
                <a:gdLst>
                  <a:gd name="textAreaLeft" fmla="*/ 72000 w 237600"/>
                  <a:gd name="textAreaRight" fmla="*/ 165600 w 237600"/>
                  <a:gd name="textAreaTop" fmla="*/ 118080 h 390600"/>
                  <a:gd name="textAreaBottom" fmla="*/ 272520 h 39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2986" y="21600"/>
                    </a:lnTo>
                    <a:lnTo>
                      <a:pt x="8614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448320" y="6243480"/>
              <a:ext cx="10620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0" y="5884920"/>
            <a:ext cx="486576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red/green ratio of magnitudes for the two charg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ulomb’s Law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30800" y="749160"/>
            <a:ext cx="2084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/4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.0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12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16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8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3400" y="1646280"/>
            <a:ext cx="4460760" cy="10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744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increase one charge to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at is the magnitude of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07760" y="2671920"/>
            <a:ext cx="3670560" cy="674640"/>
            <a:chOff x="707760" y="2671920"/>
            <a:chExt cx="3670560" cy="674640"/>
          </a:xfrm>
        </p:grpSpPr>
        <p:sp>
          <p:nvSpPr>
            <p:cNvPr id="115" name=""/>
            <p:cNvSpPr/>
            <p:nvPr/>
          </p:nvSpPr>
          <p:spPr>
            <a:xfrm>
              <a:off x="1722600" y="288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68960" y="2871720"/>
              <a:ext cx="552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94200" y="28893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40240" y="31226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883800" y="313380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05720" y="29098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760" y="2682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1840" y="26719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18560" y="828720"/>
            <a:ext cx="3670920" cy="678240"/>
            <a:chOff x="718560" y="828720"/>
            <a:chExt cx="3670920" cy="678240"/>
          </a:xfrm>
        </p:grpSpPr>
        <p:sp>
          <p:nvSpPr>
            <p:cNvPr id="124" name=""/>
            <p:cNvSpPr/>
            <p:nvPr/>
          </p:nvSpPr>
          <p:spPr>
            <a:xfrm>
              <a:off x="17334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050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51400" y="12794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895320" y="12906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67600" y="107784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6880" y="10666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8560" y="839520"/>
              <a:ext cx="103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3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82640" y="828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oulomb’s Law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57840" y="1773360"/>
            <a:ext cx="2116080" cy="4809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03400" y="3537000"/>
            <a:ext cx="4845240" cy="25923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1880" y="3538440"/>
            <a:ext cx="4671720" cy="26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riginally we h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3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Now we hav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4Q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times bigg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bef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30800" y="749160"/>
            <a:ext cx="2084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/4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 3.0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 12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16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3480" indent="-393480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48 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3400" y="1646280"/>
            <a:ext cx="4460760" cy="101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9744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increase one charge to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at is the magnitud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07760" y="2671920"/>
            <a:ext cx="3670560" cy="674640"/>
            <a:chOff x="707760" y="2671920"/>
            <a:chExt cx="3670560" cy="674640"/>
          </a:xfrm>
        </p:grpSpPr>
        <p:sp>
          <p:nvSpPr>
            <p:cNvPr id="142" name=""/>
            <p:cNvSpPr/>
            <p:nvPr/>
          </p:nvSpPr>
          <p:spPr>
            <a:xfrm>
              <a:off x="1722600" y="2889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8960" y="2871720"/>
              <a:ext cx="552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i="1" lang="en-US" sz="22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94200" y="28893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40240" y="31226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883800" y="313380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5720" y="29098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7760" y="2682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71840" y="26719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18560" y="828720"/>
            <a:ext cx="3670920" cy="678240"/>
            <a:chOff x="718560" y="828720"/>
            <a:chExt cx="3670920" cy="678240"/>
          </a:xfrm>
        </p:grpSpPr>
        <p:sp>
          <p:nvSpPr>
            <p:cNvPr id="151" name=""/>
            <p:cNvSpPr/>
            <p:nvPr/>
          </p:nvSpPr>
          <p:spPr>
            <a:xfrm>
              <a:off x="17334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05000" y="1045800"/>
              <a:ext cx="457200" cy="45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51400" y="127944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95320" y="12906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67600" y="107784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16880" y="1066680"/>
              <a:ext cx="397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8560" y="839520"/>
              <a:ext cx="103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3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82640" y="828720"/>
              <a:ext cx="863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744560" y="6237360"/>
            <a:ext cx="5742000" cy="44064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Now what is the magnitude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43600" y="725400"/>
            <a:ext cx="4100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yes, independent of the sign (or value)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o, the net force can never b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766440"/>
            <a:ext cx="4905360" cy="24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fixed at a separation distance of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s it possible to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95600" y="4237200"/>
            <a:ext cx="4219560" cy="1542960"/>
            <a:chOff x="2595600" y="4237200"/>
            <a:chExt cx="4219560" cy="1542960"/>
          </a:xfrm>
        </p:grpSpPr>
        <p:sp>
          <p:nvSpPr>
            <p:cNvPr id="167" name=""/>
            <p:cNvSpPr/>
            <p:nvPr/>
          </p:nvSpPr>
          <p:spPr>
            <a:xfrm>
              <a:off x="2595600" y="4237200"/>
              <a:ext cx="4219560" cy="15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2795400" y="4334040"/>
              <a:ext cx="3774960" cy="1078920"/>
              <a:chOff x="2795400" y="4334040"/>
              <a:chExt cx="3774960" cy="1078920"/>
            </a:xfrm>
          </p:grpSpPr>
          <p:sp>
            <p:nvSpPr>
              <p:cNvPr id="169" name=""/>
              <p:cNvSpPr/>
              <p:nvPr/>
            </p:nvSpPr>
            <p:spPr>
              <a:xfrm>
                <a:off x="5865480" y="4735800"/>
                <a:ext cx="528840" cy="5324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81880" y="4761000"/>
                <a:ext cx="528840" cy="53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12440" y="503172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78560" y="435204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659560" y="433404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95400" y="4986000"/>
                <a:ext cx="377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67360" y="5412960"/>
                <a:ext cx="28785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43600" y="725400"/>
            <a:ext cx="41004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yes, but only i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s 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yes, independent of the sign (or value) of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3520" indent="-35352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o, the net force can never b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766440"/>
            <a:ext cx="4905360" cy="241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fixed at a separation distance of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s it possible to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24440" y="4286160"/>
            <a:ext cx="4219560" cy="1542960"/>
            <a:chOff x="4924440" y="4286160"/>
            <a:chExt cx="4219560" cy="1542960"/>
          </a:xfrm>
        </p:grpSpPr>
        <p:sp>
          <p:nvSpPr>
            <p:cNvPr id="183" name=""/>
            <p:cNvSpPr/>
            <p:nvPr/>
          </p:nvSpPr>
          <p:spPr>
            <a:xfrm>
              <a:off x="4924440" y="4286160"/>
              <a:ext cx="4219560" cy="15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5124240" y="4383000"/>
              <a:ext cx="3774960" cy="1078920"/>
              <a:chOff x="5124240" y="4383000"/>
              <a:chExt cx="3774960" cy="1078920"/>
            </a:xfrm>
          </p:grpSpPr>
          <p:sp>
            <p:nvSpPr>
              <p:cNvPr id="185" name=""/>
              <p:cNvSpPr/>
              <p:nvPr/>
            </p:nvSpPr>
            <p:spPr>
              <a:xfrm>
                <a:off x="8194320" y="4784760"/>
                <a:ext cx="528840" cy="5324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310720" y="4809960"/>
                <a:ext cx="528840" cy="5324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641280" y="508068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7400" y="440100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988400" y="438300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124240" y="5034960"/>
                <a:ext cx="3774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596200" y="5461920"/>
                <a:ext cx="28785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0" y="3486240"/>
            <a:ext cx="4943520" cy="2644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473280"/>
            <a:ext cx="48942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 positive charge would be repelled by both charges, so a point where these two repulsive forces cancel can be found.  A negative charge would be attracted by both, and the same argument hol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24360" y="1554120"/>
            <a:ext cx="4319640" cy="10080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146640"/>
            <a:ext cx="63295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happens if both charges ar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Where would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 point be in this cas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45600" y="771120"/>
            <a:ext cx="845532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348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eparated by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Where should you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46320" y="3632040"/>
            <a:ext cx="6845040" cy="2298600"/>
            <a:chOff x="1246320" y="3632040"/>
            <a:chExt cx="6845040" cy="2298600"/>
          </a:xfrm>
        </p:grpSpPr>
        <p:sp>
          <p:nvSpPr>
            <p:cNvPr id="201" name=""/>
            <p:cNvSpPr/>
            <p:nvPr/>
          </p:nvSpPr>
          <p:spPr>
            <a:xfrm>
              <a:off x="1246320" y="3632040"/>
              <a:ext cx="6845040" cy="229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290600" y="3647880"/>
              <a:ext cx="6800400" cy="2266200"/>
              <a:chOff x="1290600" y="3647880"/>
              <a:chExt cx="6800400" cy="2266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820920" y="4140000"/>
                <a:ext cx="953640" cy="955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642680" y="4151160"/>
                <a:ext cx="953640" cy="9572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15760" y="557496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68400" y="376380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59880" y="364788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0600" y="4638600"/>
                <a:ext cx="6800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140920" y="5405040"/>
                <a:ext cx="518616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654000" y="452268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769840" y="45259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70200" y="451476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552560" y="45367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93960" y="45259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8200" y="4792320"/>
                <a:ext cx="349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57160" y="479088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699640" y="41241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07560" y="414468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482360" y="41493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434920" y="416700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88840" y="416520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45600" y="771120"/>
            <a:ext cx="845532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93480" indent="0">
              <a:lnSpc>
                <a:spcPct val="11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balls with charges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+4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separated by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 Where should you place another charged bal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line between the two charges such that the net force on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ill be zer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4640" y="4403880"/>
            <a:ext cx="7818480" cy="2454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43120" y="4514760"/>
            <a:ext cx="7746840" cy="24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rce o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:    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)(Q)/R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force o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due to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:  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= 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k(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)(4Q)/(2R)</a:t>
            </a:r>
            <a:r>
              <a:rPr b="1" i="1" lang="en-US" sz="2000" spc="-1" strike="noStrike" baseline="30000">
                <a:solidFill>
                  <a:srgbClr val="00004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4 times bigger than +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needs to be farther from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In fact,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 baseline="-25000">
                <a:solidFill>
                  <a:srgbClr val="000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must be twice as far from +4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ince the distance is squared in Coulomb’s La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95280" y="1936800"/>
            <a:ext cx="6845400" cy="2298600"/>
            <a:chOff x="1295280" y="1936800"/>
            <a:chExt cx="6845400" cy="2298600"/>
          </a:xfrm>
        </p:grpSpPr>
        <p:sp>
          <p:nvSpPr>
            <p:cNvPr id="230" name=""/>
            <p:cNvSpPr/>
            <p:nvPr/>
          </p:nvSpPr>
          <p:spPr>
            <a:xfrm>
              <a:off x="1295280" y="1936800"/>
              <a:ext cx="6845400" cy="229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339920" y="1952640"/>
              <a:ext cx="6800760" cy="2266200"/>
              <a:chOff x="1339920" y="1952640"/>
              <a:chExt cx="6800760" cy="2266200"/>
            </a:xfrm>
          </p:grpSpPr>
          <p:sp>
            <p:nvSpPr>
              <p:cNvPr id="232" name=""/>
              <p:cNvSpPr/>
              <p:nvPr/>
            </p:nvSpPr>
            <p:spPr>
              <a:xfrm>
                <a:off x="6870600" y="2444760"/>
                <a:ext cx="954000" cy="955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92360" y="2455920"/>
                <a:ext cx="954000" cy="957240"/>
              </a:xfrm>
              <a:prstGeom prst="ellipse">
                <a:avLst/>
              </a:prstGeom>
              <a:solidFill>
                <a:srgbClr val="00ff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5440" y="387972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ff"/>
                    </a:solidFill>
                    <a:latin typeface="Arial"/>
                  </a:rPr>
                  <a:t>3</a:t>
                </a:r>
                <a:r>
                  <a:rPr b="1" i="1" lang="en-US" sz="1800" spc="-1" strike="noStrike">
                    <a:solidFill>
                      <a:srgbClr val="ff00ff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918080" y="2068560"/>
                <a:ext cx="4975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009560" y="1952640"/>
                <a:ext cx="62388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+4</a:t>
                </a: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39920" y="2943360"/>
                <a:ext cx="6800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90600" y="3709800"/>
                <a:ext cx="5186520" cy="0"/>
              </a:xfrm>
              <a:prstGeom prst="line">
                <a:avLst/>
              </a:prstGeom>
              <a:ln w="12600">
                <a:solidFill>
                  <a:srgbClr val="ff00ff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03680" y="28274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9520" y="2830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19880" y="2819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602240" y="28414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43640" y="28306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47880" y="3097080"/>
                <a:ext cx="34956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06840" y="3095640"/>
                <a:ext cx="47592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r>
                  <a:rPr b="1" i="1" lang="en-US" sz="1800" spc="-1" strike="noStrike">
                    <a:solidFill>
                      <a:srgbClr val="fafd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49320" y="242892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657600" y="244944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32400" y="245412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84600" y="24717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38880" y="2469960"/>
                <a:ext cx="3114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afd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3384720" y="2308320"/>
            <a:ext cx="834840" cy="12668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33120" y="0"/>
            <a:ext cx="729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4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For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945720"/>
            <a:ext cx="376560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of the arrows best represents the direction of the net force on charge +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ue to the other two charg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4926960" y="-1080"/>
            <a:ext cx="3905280" cy="3855600"/>
            <a:chOff x="4926960" y="-1080"/>
            <a:chExt cx="3905280" cy="3855600"/>
          </a:xfrm>
        </p:grpSpPr>
        <p:grpSp>
          <p:nvGrpSpPr>
            <p:cNvPr id="258" name=""/>
            <p:cNvGrpSpPr/>
            <p:nvPr/>
          </p:nvGrpSpPr>
          <p:grpSpPr>
            <a:xfrm>
              <a:off x="4926960" y="1631880"/>
              <a:ext cx="765720" cy="693720"/>
              <a:chOff x="4926960" y="1631880"/>
              <a:chExt cx="765720" cy="693720"/>
            </a:xfrm>
          </p:grpSpPr>
          <p:sp>
            <p:nvSpPr>
              <p:cNvPr id="259" name=""/>
              <p:cNvSpPr/>
              <p:nvPr/>
            </p:nvSpPr>
            <p:spPr>
              <a:xfrm>
                <a:off x="4962240" y="1631880"/>
                <a:ext cx="693720" cy="6937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26960" y="176724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6494040" y="3160800"/>
              <a:ext cx="765720" cy="693720"/>
              <a:chOff x="6494040" y="3160800"/>
              <a:chExt cx="765720" cy="693720"/>
            </a:xfrm>
          </p:grpSpPr>
          <p:sp>
            <p:nvSpPr>
              <p:cNvPr id="262" name=""/>
              <p:cNvSpPr/>
              <p:nvPr/>
            </p:nvSpPr>
            <p:spPr>
              <a:xfrm>
                <a:off x="6529320" y="3160800"/>
                <a:ext cx="693720" cy="693720"/>
              </a:xfrm>
              <a:prstGeom prst="ellipse">
                <a:avLst/>
              </a:prstGeom>
              <a:solidFill>
                <a:srgbClr val="00ffff"/>
              </a:solidFill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94040" y="3296160"/>
                <a:ext cx="765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4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 flipV="1">
              <a:off x="6856200" y="568440"/>
              <a:ext cx="0" cy="102384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75600" y="1992240"/>
              <a:ext cx="102384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162560" y="964080"/>
              <a:ext cx="724320" cy="724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7008840" y="644040"/>
              <a:ext cx="383760" cy="9489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6530760" y="1631880"/>
              <a:ext cx="693720" cy="693720"/>
              <a:chOff x="6530760" y="1631880"/>
              <a:chExt cx="693720" cy="693720"/>
            </a:xfrm>
          </p:grpSpPr>
          <p:sp>
            <p:nvSpPr>
              <p:cNvPr id="269" name=""/>
              <p:cNvSpPr/>
              <p:nvPr/>
            </p:nvSpPr>
            <p:spPr>
              <a:xfrm>
                <a:off x="6530760" y="1631880"/>
                <a:ext cx="693720" cy="693720"/>
              </a:xfrm>
              <a:prstGeom prst="ellipse">
                <a:avLst/>
              </a:prstGeom>
              <a:solidFill>
                <a:srgbClr val="fafd00"/>
              </a:solidFill>
              <a:ln w="381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579360" y="176724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635880" y="-1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283880" y="132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88400" y="513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12400" y="118008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82320" y="17895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224120" y="1433520"/>
              <a:ext cx="942480" cy="4003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9360" y="156384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99160" y="1981080"/>
              <a:ext cx="7858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867360" y="2349000"/>
              <a:ext cx="0" cy="785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933600" y="2573280"/>
              <a:ext cx="3250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ff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291960" y="-360"/>
            <a:ext cx="5680080" cy="9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5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Forces in 2D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dc:language>en-US</dc:language>
  <cp:lastModifiedBy>The Evergreen State College</cp:lastModifiedBy>
  <cp:lastPrinted>2003-01-17T20:19:10Z</cp:lastPrinted>
  <dcterms:modified xsi:type="dcterms:W3CDTF">2008-07-14T15:47:55Z</dcterms:modified>
  <cp:revision>21525</cp:revision>
  <dc:subject/>
  <dc:title>Chap. 16 Conceptual Modules Giancoli</dc:title>
</cp:coreProperties>
</file>