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0F2-DFF6-4BCF-B78E-10CC833F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264-C347-4688-8D1B-63E69B0F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9C2-2D69-4BDC-91CA-9967F6B2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44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520" y="17524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7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44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520" y="3902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958-3FA9-45B9-9CAA-9307AC739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999-AF41-4954-88E9-2CF42A4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F43-7A10-40E6-A466-58B18AE4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F5D-FDF2-4A79-BF31-810C0432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90E-2FA2-4F66-871B-133C87D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1EAA-8276-4CDB-AE3D-80EE5B9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983-C4F5-4D47-8298-C0AC091E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3902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ADC-2090-488F-B70B-E1F6750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17524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720" y="39020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45F-63E7-4165-9BDD-2F9D56C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2070-04B9-4027-AB66-C857DB77B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00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751"/>
              </a:spcBef>
              <a:buClr>
                <a:srgbClr val="ff00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311640" y="3633840"/>
            <a:ext cx="2739600" cy="2937960"/>
            <a:chOff x="3311640" y="3633840"/>
            <a:chExt cx="2739600" cy="2937960"/>
          </a:xfrm>
        </p:grpSpPr>
        <p:grpSp>
          <p:nvGrpSpPr>
            <p:cNvPr id="47" name=""/>
            <p:cNvGrpSpPr/>
            <p:nvPr/>
          </p:nvGrpSpPr>
          <p:grpSpPr>
            <a:xfrm>
              <a:off x="3311640" y="3633840"/>
              <a:ext cx="2739600" cy="2925360"/>
              <a:chOff x="3311640" y="3633840"/>
              <a:chExt cx="2739600" cy="2925360"/>
            </a:xfrm>
          </p:grpSpPr>
          <p:pic>
            <p:nvPicPr>
              <p:cNvPr id="48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311640" y="36338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" name=""/>
              <p:cNvGrpSpPr/>
              <p:nvPr/>
            </p:nvGrpSpPr>
            <p:grpSpPr>
              <a:xfrm>
                <a:off x="3917160" y="3761280"/>
                <a:ext cx="1464480" cy="2561040"/>
                <a:chOff x="3917160" y="3761280"/>
                <a:chExt cx="1464480" cy="25610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917160" y="37612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917160" y="41882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3917160" y="4615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917160" y="5895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917160" y="63223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917160" y="50418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3917160" y="54687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4283280" y="58654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8" name=""/>
            <p:cNvSpPr/>
            <p:nvPr/>
          </p:nvSpPr>
          <p:spPr>
            <a:xfrm>
              <a:off x="3627360" y="44607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20520" y="56404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311640" y="3646440"/>
              <a:ext cx="2739600" cy="2925360"/>
              <a:chOff x="3311640" y="3646440"/>
              <a:chExt cx="2739600" cy="2925360"/>
            </a:xfrm>
          </p:grpSpPr>
          <p:grpSp>
            <p:nvGrpSpPr>
              <p:cNvPr id="61" name=""/>
              <p:cNvGrpSpPr/>
              <p:nvPr/>
            </p:nvGrpSpPr>
            <p:grpSpPr>
              <a:xfrm>
                <a:off x="3311640" y="3646440"/>
                <a:ext cx="2739600" cy="2925360"/>
                <a:chOff x="3311640" y="3646440"/>
                <a:chExt cx="2739600" cy="2925360"/>
              </a:xfrm>
            </p:grpSpPr>
            <p:pic>
              <p:nvPicPr>
                <p:cNvPr id="62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311640" y="36464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3" name=""/>
                <p:cNvGrpSpPr/>
                <p:nvPr/>
              </p:nvGrpSpPr>
              <p:grpSpPr>
                <a:xfrm>
                  <a:off x="3917160" y="3773880"/>
                  <a:ext cx="1464480" cy="2561040"/>
                  <a:chOff x="3917160" y="3773880"/>
                  <a:chExt cx="1464480" cy="25610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3917160" y="37738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917160" y="42008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917160" y="4627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917160" y="5908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917160" y="63349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917160" y="50544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3917160" y="54813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71" name=""/>
                    <p:cNvSpPr txBox="1"/>
                    <p:nvPr/>
                  </p:nvSpPr>
                  <p:spPr>
                    <a:xfrm>
                      <a:off x="4283280" y="58780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72" name=""/>
              <p:cNvSpPr/>
              <p:nvPr/>
            </p:nvSpPr>
            <p:spPr>
              <a:xfrm>
                <a:off x="3787920" y="43495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781080" y="55292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4505400" y="54151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59320" y="46404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84680" y="53402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774960" y="46627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41680" y="5284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31960" y="44989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feels the larger electric fo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92680" y="690480"/>
            <a:ext cx="4351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force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524400"/>
            <a:ext cx="4896000" cy="2108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71280" y="3624120"/>
            <a:ext cx="497196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oser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point A th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(which is negative), and since the total potential is equal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+ 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n the total potential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19720" y="874800"/>
            <a:ext cx="2219400" cy="5443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940280" y="3309840"/>
            <a:ext cx="4189320" cy="3103560"/>
            <a:chOff x="4940280" y="3309840"/>
            <a:chExt cx="4189320" cy="3103560"/>
          </a:xfrm>
        </p:grpSpPr>
        <p:pic>
          <p:nvPicPr>
            <p:cNvPr id="397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4940280" y="33098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359320" y="39783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886440" y="39956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48720" y="35812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1440" y="35971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514600" y="3297240"/>
            <a:ext cx="4189320" cy="3103560"/>
            <a:chOff x="2514600" y="3297240"/>
            <a:chExt cx="4189320" cy="310356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2514600" y="32972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933640" y="39657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60760" y="39830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23040" y="35686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35760" y="35845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680" y="3513240"/>
            <a:ext cx="4541760" cy="1790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9400" y="3613320"/>
            <a:ext cx="4581360" cy="16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re equidistant from point B, and since they have equal and opposite charges, then the total potential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2320" y="1338120"/>
            <a:ext cx="2219400" cy="544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940280" y="3309840"/>
            <a:ext cx="4189320" cy="3103560"/>
            <a:chOff x="4940280" y="3309840"/>
            <a:chExt cx="4189320" cy="3103560"/>
          </a:xfrm>
        </p:grpSpPr>
        <p:pic>
          <p:nvPicPr>
            <p:cNvPr id="424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4940280" y="330984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5359320" y="397836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86440" y="399564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48720" y="358128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61440" y="359712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B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6960" y="5659560"/>
            <a:ext cx="411804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potential at the origi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x-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x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9144000" cy="3168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0" y="816120"/>
            <a:ext cx="400680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point charges are arranged at the corners of a square.   Fi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ic fiel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tenti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enter of the squ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51480" y="722160"/>
            <a:ext cx="4592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regardless of the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760840" y="3478320"/>
            <a:ext cx="3848040" cy="2660400"/>
            <a:chOff x="2760840" y="3478320"/>
            <a:chExt cx="3848040" cy="2660400"/>
          </a:xfrm>
        </p:grpSpPr>
        <p:sp>
          <p:nvSpPr>
            <p:cNvPr id="438" name=""/>
            <p:cNvSpPr/>
            <p:nvPr/>
          </p:nvSpPr>
          <p:spPr>
            <a:xfrm>
              <a:off x="2760840" y="3478320"/>
              <a:ext cx="3848040" cy="2660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980800" y="3533760"/>
              <a:ext cx="3437640" cy="2383560"/>
              <a:chOff x="2980800" y="3533760"/>
              <a:chExt cx="3437640" cy="2383560"/>
            </a:xfrm>
          </p:grpSpPr>
          <p:sp>
            <p:nvSpPr>
              <p:cNvPr id="440" name=""/>
              <p:cNvSpPr/>
              <p:nvPr/>
            </p:nvSpPr>
            <p:spPr>
              <a:xfrm>
                <a:off x="3687840" y="3760560"/>
                <a:ext cx="1918800" cy="1919520"/>
              </a:xfrm>
              <a:prstGeom prst="rect">
                <a:avLst/>
              </a:prstGeom>
              <a:noFill/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27440" y="468468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570120" y="3646440"/>
                <a:ext cx="23796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565440" y="5546520"/>
                <a:ext cx="237600" cy="2383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20040" y="549432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80800" y="353376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82320" y="35589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821920" y="54561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81720" y="3639960"/>
                <a:ext cx="23760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487840" y="5551200"/>
                <a:ext cx="23796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586040" y="4663800"/>
                <a:ext cx="145800" cy="14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llywood Squa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168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2050920"/>
            <a:ext cx="3048120" cy="517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0" y="816120"/>
            <a:ext cx="4006800" cy="20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 point charges are arranged at the corners of a square.   Fi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ic field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tential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center of the squ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551480" y="722160"/>
            <a:ext cx="4592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  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regardless of the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295960" y="3490920"/>
            <a:ext cx="3848040" cy="2660400"/>
            <a:chOff x="5295960" y="3490920"/>
            <a:chExt cx="3848040" cy="2660400"/>
          </a:xfrm>
        </p:grpSpPr>
        <p:sp>
          <p:nvSpPr>
            <p:cNvPr id="459" name=""/>
            <p:cNvSpPr/>
            <p:nvPr/>
          </p:nvSpPr>
          <p:spPr>
            <a:xfrm>
              <a:off x="5295960" y="3490920"/>
              <a:ext cx="3848040" cy="266040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515920" y="3546360"/>
              <a:ext cx="3437640" cy="2383560"/>
              <a:chOff x="5515920" y="3546360"/>
              <a:chExt cx="3437640" cy="2383560"/>
            </a:xfrm>
          </p:grpSpPr>
          <p:sp>
            <p:nvSpPr>
              <p:cNvPr id="461" name=""/>
              <p:cNvSpPr/>
              <p:nvPr/>
            </p:nvSpPr>
            <p:spPr>
              <a:xfrm>
                <a:off x="6222960" y="3773160"/>
                <a:ext cx="1918800" cy="1919520"/>
              </a:xfrm>
              <a:prstGeom prst="rect">
                <a:avLst/>
              </a:prstGeom>
              <a:noFill/>
              <a:ln cap="rnd" w="324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162560" y="4697280"/>
                <a:ext cx="55080" cy="55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05240" y="3659040"/>
                <a:ext cx="237960" cy="23796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00560" y="5559120"/>
                <a:ext cx="237600" cy="23832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555160" y="550692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515920" y="3546360"/>
                <a:ext cx="520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ff"/>
                    </a:solidFill>
                    <a:latin typeface="Arial"/>
                  </a:rPr>
                  <a:t>-</a:t>
                </a:r>
                <a:r>
                  <a:rPr b="1" i="1" lang="en-US" sz="2400" spc="-1" strike="noStrike">
                    <a:solidFill>
                      <a:srgbClr val="00ffff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17440" y="35715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357040" y="546876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fc0128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016840" y="3652560"/>
                <a:ext cx="23760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22960" y="5563800"/>
                <a:ext cx="237960" cy="23832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21160" y="4676400"/>
                <a:ext cx="145800" cy="146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>
            <a:off x="0" y="3271680"/>
            <a:ext cx="5195880" cy="25974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05160"/>
            <a:ext cx="524664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tential is 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:   the scalar contributions from the two positive charges cancel the two minus charge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However, the contributions from the electric field add up as vectors, and they do not cancel (s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non-zer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4597560"/>
            <a:ext cx="499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4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llywood Squar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6280" y="6000840"/>
            <a:ext cx="417024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direction of the electric field at the cente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52240" y="972720"/>
            <a:ext cx="2903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which point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530520" y="723960"/>
            <a:ext cx="3925800" cy="3579840"/>
            <a:chOff x="3530520" y="723960"/>
            <a:chExt cx="3925800" cy="3579840"/>
          </a:xfrm>
        </p:grpSpPr>
        <p:sp>
          <p:nvSpPr>
            <p:cNvPr id="482" name=""/>
            <p:cNvSpPr/>
            <p:nvPr/>
          </p:nvSpPr>
          <p:spPr>
            <a:xfrm>
              <a:off x="3530520" y="723960"/>
              <a:ext cx="3925800" cy="357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3650400" y="854280"/>
              <a:ext cx="3696480" cy="3326040"/>
              <a:chOff x="3650400" y="854280"/>
              <a:chExt cx="3696480" cy="3326040"/>
            </a:xfrm>
          </p:grpSpPr>
          <p:sp>
            <p:nvSpPr>
              <p:cNvPr id="484" name=""/>
              <p:cNvSpPr/>
              <p:nvPr/>
            </p:nvSpPr>
            <p:spPr>
              <a:xfrm>
                <a:off x="3997080" y="2656080"/>
                <a:ext cx="2787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705120" y="2379960"/>
                <a:ext cx="485640" cy="4888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16480" y="256428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08560" y="10767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06760" y="367524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11800" y="18115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10080" y="8542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89920" y="2237040"/>
                <a:ext cx="349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12960" y="157212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8280" y="3812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650400" y="241488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804000" y="2383200"/>
                <a:ext cx="484200" cy="484200"/>
              </a:xfrm>
              <a:prstGeom prst="ellipse">
                <a:avLst/>
              </a:prstGeom>
              <a:solidFill>
                <a:srgbClr val="8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59360" y="2414880"/>
                <a:ext cx="58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–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06840" y="938520"/>
                <a:ext cx="0" cy="31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"/>
          <p:cNvSpPr/>
          <p:nvPr/>
        </p:nvSpPr>
        <p:spPr>
          <a:xfrm>
            <a:off x="6512040" y="1096920"/>
            <a:ext cx="22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of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552240" y="972720"/>
            <a:ext cx="2903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which point doe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530520" y="723960"/>
            <a:ext cx="3925800" cy="3579840"/>
            <a:chOff x="3530520" y="723960"/>
            <a:chExt cx="3925800" cy="3579840"/>
          </a:xfrm>
        </p:grpSpPr>
        <p:sp>
          <p:nvSpPr>
            <p:cNvPr id="505" name=""/>
            <p:cNvSpPr/>
            <p:nvPr/>
          </p:nvSpPr>
          <p:spPr>
            <a:xfrm>
              <a:off x="3530520" y="723960"/>
              <a:ext cx="3925800" cy="3579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650400" y="854280"/>
              <a:ext cx="3696480" cy="3326040"/>
              <a:chOff x="3650400" y="854280"/>
              <a:chExt cx="3696480" cy="332604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7080" y="2656080"/>
                <a:ext cx="2787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05120" y="2379960"/>
                <a:ext cx="485640" cy="4888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316480" y="256428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08560" y="10767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306760" y="367524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11800" y="18115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410080" y="85428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389920" y="2237040"/>
                <a:ext cx="349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afd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412960" y="157212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408280" y="3812040"/>
                <a:ext cx="322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afd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650400" y="2414880"/>
                <a:ext cx="596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04000" y="2383200"/>
                <a:ext cx="484200" cy="484200"/>
              </a:xfrm>
              <a:prstGeom prst="ellipse">
                <a:avLst/>
              </a:prstGeom>
              <a:solidFill>
                <a:srgbClr val="808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59360" y="2414880"/>
                <a:ext cx="5875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–</a:t>
                </a:r>
                <a:r>
                  <a:rPr b="1" i="1" lang="en-US" sz="2400" spc="-1" strike="noStrike">
                    <a:solidFill>
                      <a:srgbClr val="000040"/>
                    </a:solidFill>
                    <a:latin typeface="Arial"/>
                  </a:rPr>
                  <a:t>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406840" y="938520"/>
                <a:ext cx="0" cy="318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6512040" y="1096920"/>
            <a:ext cx="227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of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64200" y="1006560"/>
            <a:ext cx="3079800" cy="542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17560" y="4446720"/>
            <a:ext cx="7591320" cy="1739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11080" y="4433760"/>
            <a:ext cx="7497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l of the points are equidistant from both charg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the charges are equal and opposite, their contributions to the potentia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ncel ou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verywher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long the mid-plane between the char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5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Surface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0720" y="6294600"/>
            <a:ext cx="827892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at is the direction of the electric field at all 4 poin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42800" y="1209240"/>
            <a:ext cx="3640320" cy="14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wo points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t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02360" y="790560"/>
            <a:ext cx="27302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and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C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o p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2880360" y="3414600"/>
            <a:ext cx="3494160" cy="3001320"/>
            <a:chOff x="2880360" y="3414600"/>
            <a:chExt cx="3494160" cy="3001320"/>
          </a:xfrm>
        </p:grpSpPr>
        <p:grpSp>
          <p:nvGrpSpPr>
            <p:cNvPr id="533" name=""/>
            <p:cNvGrpSpPr/>
            <p:nvPr/>
          </p:nvGrpSpPr>
          <p:grpSpPr>
            <a:xfrm>
              <a:off x="3238560" y="3525840"/>
              <a:ext cx="2872440" cy="2890080"/>
              <a:chOff x="3238560" y="3525840"/>
              <a:chExt cx="2872440" cy="2890080"/>
            </a:xfrm>
          </p:grpSpPr>
          <p:sp>
            <p:nvSpPr>
              <p:cNvPr id="534" name=""/>
              <p:cNvSpPr/>
              <p:nvPr/>
            </p:nvSpPr>
            <p:spPr>
              <a:xfrm>
                <a:off x="4478400" y="4749120"/>
                <a:ext cx="399240" cy="4024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005360" y="4276800"/>
                <a:ext cx="1352160" cy="1360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238560" y="3525840"/>
                <a:ext cx="2872440" cy="289008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618360" y="3891600"/>
                <a:ext cx="2112480" cy="2125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5850000" y="34146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44600" y="473220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41920" y="470988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45040" y="436392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936960" y="476100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74200" y="34462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158440" y="40910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0360" y="483372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06000" y="48448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8840" y="4924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66520" y="4735440"/>
              <a:ext cx="41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3960" y="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of Point Char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92840" y="4309920"/>
            <a:ext cx="1346400" cy="13636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191040"/>
            <a:ext cx="5491080" cy="3103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265560"/>
            <a:ext cx="552276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the potential of a point charge i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only points that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dis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rom charg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potentia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is is true for points C and 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y lie on an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Equipotential Surfa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37040" y="2098800"/>
            <a:ext cx="2378160" cy="5191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442800" y="1209240"/>
            <a:ext cx="3640320" cy="14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two points have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ot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202360" y="790560"/>
            <a:ext cx="273024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 and 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 and 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C and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no p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47320" y="3438360"/>
            <a:ext cx="3494160" cy="3001320"/>
            <a:chOff x="5647320" y="3438360"/>
            <a:chExt cx="3494160" cy="3001320"/>
          </a:xfrm>
        </p:grpSpPr>
        <p:grpSp>
          <p:nvGrpSpPr>
            <p:cNvPr id="560" name=""/>
            <p:cNvGrpSpPr/>
            <p:nvPr/>
          </p:nvGrpSpPr>
          <p:grpSpPr>
            <a:xfrm>
              <a:off x="6005520" y="3549600"/>
              <a:ext cx="2872440" cy="2890080"/>
              <a:chOff x="6005520" y="3549600"/>
              <a:chExt cx="2872440" cy="2890080"/>
            </a:xfrm>
          </p:grpSpPr>
          <p:sp>
            <p:nvSpPr>
              <p:cNvPr id="561" name=""/>
              <p:cNvSpPr/>
              <p:nvPr/>
            </p:nvSpPr>
            <p:spPr>
              <a:xfrm>
                <a:off x="7245360" y="4772880"/>
                <a:ext cx="399240" cy="402480"/>
              </a:xfrm>
              <a:prstGeom prst="ellipse">
                <a:avLst/>
              </a:prstGeom>
              <a:solidFill>
                <a:srgbClr val="fc012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72320" y="4300560"/>
                <a:ext cx="1352160" cy="1360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005520" y="3549600"/>
                <a:ext cx="2872440" cy="289008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385320" y="3915360"/>
                <a:ext cx="2112480" cy="2125440"/>
              </a:xfrm>
              <a:prstGeom prst="ellipse">
                <a:avLst/>
              </a:prstGeom>
              <a:noFill/>
              <a:ln w="12600">
                <a:solidFill>
                  <a:srgbClr val="99cc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8616960" y="34383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11560" y="4755960"/>
              <a:ext cx="18288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408880" y="4733640"/>
              <a:ext cx="182520" cy="18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812000" y="438768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03920" y="47847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741160" y="34700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925400" y="411480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47320" y="485748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472960" y="4868640"/>
              <a:ext cx="4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05800" y="494820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233480" y="4759200"/>
              <a:ext cx="418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4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2060640" y="3713040"/>
                <a:ext cx="13050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453960" y="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6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quipotential of Point Charge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0" y="6451560"/>
            <a:ext cx="64040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point has the smallest potential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530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th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st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905200" y="3551400"/>
            <a:ext cx="3530520" cy="2840040"/>
            <a:chOff x="2905200" y="3551400"/>
            <a:chExt cx="3530520" cy="2840040"/>
          </a:xfrm>
        </p:grpSpPr>
        <p:sp>
          <p:nvSpPr>
            <p:cNvPr id="585" name=""/>
            <p:cNvSpPr/>
            <p:nvPr/>
          </p:nvSpPr>
          <p:spPr>
            <a:xfrm>
              <a:off x="2905200" y="35514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3097080" y="3827520"/>
              <a:ext cx="2438280" cy="1765080"/>
              <a:chOff x="3097080" y="3827520"/>
              <a:chExt cx="2438280" cy="1765080"/>
            </a:xfrm>
          </p:grpSpPr>
          <p:sp>
            <p:nvSpPr>
              <p:cNvPr id="587" name=""/>
              <p:cNvSpPr/>
              <p:nvPr/>
            </p:nvSpPr>
            <p:spPr>
              <a:xfrm>
                <a:off x="3097080" y="38275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097080" y="44157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97080" y="5004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097080" y="55926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>
              <a:off x="3693960" y="53136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4017600" y="45324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799160" y="42084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21320" y="52808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29280" y="50900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84960" y="44553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72280" y="39218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4711680" y="57294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599" name=""/>
            <p:cNvSpPr/>
            <p:nvPr/>
          </p:nvSpPr>
          <p:spPr>
            <a:xfrm>
              <a:off x="4817880" y="53136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66280" y="50965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92680" y="690480"/>
            <a:ext cx="435132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force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51680" y="3646440"/>
            <a:ext cx="2739600" cy="2937960"/>
            <a:chOff x="6151680" y="3646440"/>
            <a:chExt cx="2739600" cy="2937960"/>
          </a:xfrm>
        </p:grpSpPr>
        <p:grpSp>
          <p:nvGrpSpPr>
            <p:cNvPr id="89" name=""/>
            <p:cNvGrpSpPr/>
            <p:nvPr/>
          </p:nvGrpSpPr>
          <p:grpSpPr>
            <a:xfrm>
              <a:off x="6151680" y="3646440"/>
              <a:ext cx="2739600" cy="2925360"/>
              <a:chOff x="6151680" y="3646440"/>
              <a:chExt cx="2739600" cy="2925360"/>
            </a:xfrm>
          </p:grpSpPr>
          <p:pic>
            <p:nvPicPr>
              <p:cNvPr id="90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51680" y="36464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1" name=""/>
              <p:cNvGrpSpPr/>
              <p:nvPr/>
            </p:nvGrpSpPr>
            <p:grpSpPr>
              <a:xfrm>
                <a:off x="6757200" y="3773880"/>
                <a:ext cx="1464480" cy="2561040"/>
                <a:chOff x="6757200" y="3773880"/>
                <a:chExt cx="1464480" cy="2561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757200" y="37738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757200" y="42008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57200" y="46278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757200" y="59083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757200" y="63349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57200" y="50544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757200" y="54813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7123320" y="58780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0" name=""/>
            <p:cNvSpPr/>
            <p:nvPr/>
          </p:nvSpPr>
          <p:spPr>
            <a:xfrm>
              <a:off x="6467400" y="44733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0560" y="56530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6151680" y="3659040"/>
              <a:ext cx="2739600" cy="2925360"/>
              <a:chOff x="6151680" y="3659040"/>
              <a:chExt cx="2739600" cy="29253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6151680" y="3659040"/>
                <a:ext cx="2739600" cy="2925360"/>
                <a:chOff x="6151680" y="3659040"/>
                <a:chExt cx="2739600" cy="2925360"/>
              </a:xfrm>
            </p:grpSpPr>
            <p:pic>
              <p:nvPicPr>
                <p:cNvPr id="104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51680" y="36590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5" name=""/>
                <p:cNvGrpSpPr/>
                <p:nvPr/>
              </p:nvGrpSpPr>
              <p:grpSpPr>
                <a:xfrm>
                  <a:off x="6757200" y="3786480"/>
                  <a:ext cx="1464480" cy="2561040"/>
                  <a:chOff x="6757200" y="3786480"/>
                  <a:chExt cx="1464480" cy="25610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>
                    <a:off x="6757200" y="37864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7200" y="42134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757200" y="46404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57200" y="59209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6757200" y="63475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6757200" y="50670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6757200" y="54939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13" name=""/>
                    <p:cNvSpPr txBox="1"/>
                    <p:nvPr/>
                  </p:nvSpPr>
                  <p:spPr>
                    <a:xfrm>
                      <a:off x="7123320" y="58906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14" name=""/>
              <p:cNvSpPr/>
              <p:nvPr/>
            </p:nvSpPr>
            <p:spPr>
              <a:xfrm>
                <a:off x="6627960" y="43621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621120" y="55418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7345440" y="54277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99360" y="46530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24720" y="53528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15000" y="46753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81720" y="5297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72000" y="4511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670280" y="2290680"/>
            <a:ext cx="4473720" cy="8812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27280"/>
            <a:ext cx="5753160" cy="2691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514680"/>
            <a:ext cx="574056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 = qE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the proton and electron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harge in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y both experienc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for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However, the forces point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posite direction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because the proton and electron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positely charge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feels the larger electric fo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31920" y="3973680"/>
            <a:ext cx="4754520" cy="21524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040" y="4097160"/>
            <a:ext cx="47786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h 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you have to push the positive charg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gains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ield, which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rd to do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By contrast, path #4 is the easiest, since the field does all the 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99040" y="731880"/>
            <a:ext cx="247968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5306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the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st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403960" y="3564000"/>
            <a:ext cx="3530520" cy="2840040"/>
            <a:chOff x="5403960" y="3564000"/>
            <a:chExt cx="3530520" cy="2840040"/>
          </a:xfrm>
        </p:grpSpPr>
        <p:sp>
          <p:nvSpPr>
            <p:cNvPr id="611" name=""/>
            <p:cNvSpPr/>
            <p:nvPr/>
          </p:nvSpPr>
          <p:spPr>
            <a:xfrm>
              <a:off x="540396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5595840" y="3840120"/>
              <a:ext cx="2438280" cy="1765080"/>
              <a:chOff x="5595840" y="3840120"/>
              <a:chExt cx="2438280" cy="1765080"/>
            </a:xfrm>
          </p:grpSpPr>
          <p:sp>
            <p:nvSpPr>
              <p:cNvPr id="613" name=""/>
              <p:cNvSpPr/>
              <p:nvPr/>
            </p:nvSpPr>
            <p:spPr>
              <a:xfrm>
                <a:off x="559584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59584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59584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59584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7" name=""/>
            <p:cNvSpPr/>
            <p:nvPr/>
          </p:nvSpPr>
          <p:spPr>
            <a:xfrm flipH="1">
              <a:off x="61927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651636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29792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2008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2804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8372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7104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721044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25" name=""/>
            <p:cNvSpPr/>
            <p:nvPr/>
          </p:nvSpPr>
          <p:spPr>
            <a:xfrm>
              <a:off x="731664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6504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2498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zero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746440" y="3564000"/>
            <a:ext cx="3530520" cy="2840040"/>
            <a:chOff x="2746440" y="3564000"/>
            <a:chExt cx="3530520" cy="2840040"/>
          </a:xfrm>
        </p:grpSpPr>
        <p:sp>
          <p:nvSpPr>
            <p:cNvPr id="634" name=""/>
            <p:cNvSpPr/>
            <p:nvPr/>
          </p:nvSpPr>
          <p:spPr>
            <a:xfrm>
              <a:off x="274644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2938320" y="3840120"/>
              <a:ext cx="2438280" cy="1765080"/>
              <a:chOff x="2938320" y="3840120"/>
              <a:chExt cx="2438280" cy="1765080"/>
            </a:xfrm>
          </p:grpSpPr>
          <p:sp>
            <p:nvSpPr>
              <p:cNvPr id="636" name=""/>
              <p:cNvSpPr/>
              <p:nvPr/>
            </p:nvSpPr>
            <p:spPr>
              <a:xfrm>
                <a:off x="293832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93832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93832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3832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353520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385884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64040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6256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17052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2620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1352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7" name=""/>
                <p:cNvSpPr txBox="1"/>
                <p:nvPr/>
              </p:nvSpPr>
              <p:spPr>
                <a:xfrm>
                  <a:off x="455292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48" name=""/>
            <p:cNvSpPr/>
            <p:nvPr/>
          </p:nvSpPr>
          <p:spPr>
            <a:xfrm>
              <a:off x="46591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0752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06440" y="3608280"/>
            <a:ext cx="4632120" cy="20797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0680" y="3622680"/>
            <a:ext cx="481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ath 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you are moving in a direction perpendicular to the field lines.  This means you are moving along an equipotential, which requires no work (by definitio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0"/>
            <a:ext cx="9144000" cy="33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13360" y="1525680"/>
            <a:ext cx="2479680" cy="4348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-360" y="858600"/>
            <a:ext cx="4249800" cy="22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requires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zero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o move a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harge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oint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?    All points are the same distance from 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440320" y="781200"/>
            <a:ext cx="370368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all require the same amount of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403960" y="3564000"/>
            <a:ext cx="3530520" cy="2840040"/>
            <a:chOff x="5403960" y="3564000"/>
            <a:chExt cx="3530520" cy="2840040"/>
          </a:xfrm>
        </p:grpSpPr>
        <p:sp>
          <p:nvSpPr>
            <p:cNvPr id="660" name=""/>
            <p:cNvSpPr/>
            <p:nvPr/>
          </p:nvSpPr>
          <p:spPr>
            <a:xfrm>
              <a:off x="5403960" y="3564000"/>
              <a:ext cx="3530520" cy="28400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595840" y="3840120"/>
              <a:ext cx="2438280" cy="1765080"/>
              <a:chOff x="5595840" y="3840120"/>
              <a:chExt cx="2438280" cy="1765080"/>
            </a:xfrm>
          </p:grpSpPr>
          <p:sp>
            <p:nvSpPr>
              <p:cNvPr id="662" name=""/>
              <p:cNvSpPr/>
              <p:nvPr/>
            </p:nvSpPr>
            <p:spPr>
              <a:xfrm>
                <a:off x="5595840" y="384012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595840" y="44283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595840" y="501696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95840" y="5605200"/>
                <a:ext cx="24382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 flipH="1">
              <a:off x="619272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6516360" y="4545000"/>
              <a:ext cx="781200" cy="781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297920" y="4221000"/>
              <a:ext cx="0" cy="1104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120080" y="5293440"/>
              <a:ext cx="383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828040" y="51026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83720" y="446796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71040" y="393444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3" name=""/>
                <p:cNvSpPr txBox="1"/>
                <p:nvPr/>
              </p:nvSpPr>
              <p:spPr>
                <a:xfrm>
                  <a:off x="7210440" y="5742000"/>
                  <a:ext cx="65088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E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74" name=""/>
            <p:cNvSpPr/>
            <p:nvPr/>
          </p:nvSpPr>
          <p:spPr>
            <a:xfrm>
              <a:off x="7316640" y="5326200"/>
              <a:ext cx="110520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65040" y="5109120"/>
              <a:ext cx="349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7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Electric Potential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6178680"/>
            <a:ext cx="602604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Which path requires the least work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0" y="752040"/>
            <a:ext cx="4618080" cy="23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o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n identical capacit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most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219640" y="858960"/>
            <a:ext cx="3929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have the sam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228600" y="3811680"/>
            <a:ext cx="5230800" cy="1909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7240" y="3902040"/>
            <a:ext cx="55036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 two capacitors are identical, the one that is connected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ater volta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ha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 charg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which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 this c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0" y="752040"/>
            <a:ext cx="4618080" cy="23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or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An identical capacitor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connected across a battery of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Which one has the most char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219640" y="858960"/>
            <a:ext cx="39290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both have the same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it depends on other fa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894200" y="1319040"/>
            <a:ext cx="1660680" cy="438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8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705120" y="635040"/>
            <a:ext cx="54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 the area of the plate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 separation between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decrease the area of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either (1) or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ither (2) or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0" y="731880"/>
            <a:ext cx="3432240" cy="21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must be done to a capacitor in order to increase the amount of charge it can hold (for a constant voltag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201840" y="3108240"/>
            <a:ext cx="3016440" cy="3749400"/>
            <a:chOff x="3201840" y="3108240"/>
            <a:chExt cx="3016440" cy="3749400"/>
          </a:xfrm>
        </p:grpSpPr>
        <p:sp>
          <p:nvSpPr>
            <p:cNvPr id="693" name=""/>
            <p:cNvSpPr/>
            <p:nvPr/>
          </p:nvSpPr>
          <p:spPr>
            <a:xfrm>
              <a:off x="391464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8464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20364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20364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342432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02928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0184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013640" y="3323160"/>
              <a:ext cx="59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19160" y="3316680"/>
              <a:ext cx="5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3664080"/>
            <a:ext cx="6093000" cy="24447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691080"/>
            <a:ext cx="611172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 = 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in order to increase the charge that a capacitor can hold at constant voltage, one ha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crease its capacitanc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Since the capacitance is given by                 , that can be done by eithe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creasing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05240" y="2089080"/>
            <a:ext cx="3002040" cy="49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05120" y="635040"/>
            <a:ext cx="54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increase the area of the plates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ecrease separation between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decrease the area of the pl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either (1) or (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either (2) or (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3371760" y="4994280"/>
                <a:ext cx="1019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0" y="731880"/>
            <a:ext cx="3432240" cy="21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must be done to a capacitor in order to increase the amount of charge it can hold (for a constant voltag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6127920" y="3108240"/>
            <a:ext cx="3015720" cy="3749400"/>
            <a:chOff x="6127920" y="3108240"/>
            <a:chExt cx="3015720" cy="3749400"/>
          </a:xfrm>
        </p:grpSpPr>
        <p:sp>
          <p:nvSpPr>
            <p:cNvPr id="711" name=""/>
            <p:cNvSpPr/>
            <p:nvPr/>
          </p:nvSpPr>
          <p:spPr>
            <a:xfrm>
              <a:off x="6840360" y="5403600"/>
              <a:ext cx="139356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10360" y="4950360"/>
              <a:ext cx="265068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3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6129360" y="3108240"/>
              <a:ext cx="301428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6129360" y="5582160"/>
              <a:ext cx="30063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6350040" y="4242240"/>
              <a:ext cx="252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955000" y="4230720"/>
              <a:ext cx="288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27920" y="5183280"/>
              <a:ext cx="1983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939360" y="3323160"/>
              <a:ext cx="596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44880" y="3316680"/>
              <a:ext cx="575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3124080" y="3108240"/>
            <a:ext cx="3016440" cy="3749400"/>
            <a:chOff x="3124080" y="3108240"/>
            <a:chExt cx="3016440" cy="3749400"/>
          </a:xfrm>
        </p:grpSpPr>
        <p:sp>
          <p:nvSpPr>
            <p:cNvPr id="723" name=""/>
            <p:cNvSpPr/>
            <p:nvPr/>
          </p:nvSpPr>
          <p:spPr>
            <a:xfrm>
              <a:off x="383688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0688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5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12588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12588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34656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5152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2408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94596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55148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0" y="658800"/>
            <a:ext cx="4394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volt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tays connected to the bat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638600" y="581040"/>
            <a:ext cx="450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voltage and charge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3133800"/>
            <a:ext cx="5722920" cy="27572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35000" y="3144960"/>
            <a:ext cx="541008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the battery stays connected, the voltage must remain constant !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Since                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  , when the spacing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doubled the capacita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alved.   And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at mean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ge must decreas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5880240" y="3108240"/>
            <a:ext cx="3015720" cy="3749400"/>
            <a:chOff x="5880240" y="3108240"/>
            <a:chExt cx="3015720" cy="3749400"/>
          </a:xfrm>
        </p:grpSpPr>
        <p:sp>
          <p:nvSpPr>
            <p:cNvPr id="739" name=""/>
            <p:cNvSpPr/>
            <p:nvPr/>
          </p:nvSpPr>
          <p:spPr>
            <a:xfrm>
              <a:off x="6592680" y="5403600"/>
              <a:ext cx="139356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962680" y="4950360"/>
              <a:ext cx="265068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5881680" y="3108240"/>
              <a:ext cx="301428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5881680" y="5582160"/>
              <a:ext cx="300636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6102360" y="4242240"/>
              <a:ext cx="252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707320" y="4230720"/>
              <a:ext cx="288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80240" y="5183280"/>
              <a:ext cx="19836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0140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692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66560" y="4041720"/>
                <a:ext cx="10195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0" y="658800"/>
            <a:ext cx="4394160" cy="23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volta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stays connected to the bat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at happe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638600" y="581040"/>
            <a:ext cx="45054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volta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de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charge incre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voltage and charge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89400" y="1577880"/>
            <a:ext cx="3884760" cy="49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6178680"/>
            <a:ext cx="5684760" cy="39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How do you increase the charg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-360" y="684000"/>
            <a:ext cx="5119560" cy="23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potential differenc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is then disconnected from the charging battery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without chang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what is the new value of the volt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40440" y="593640"/>
            <a:ext cx="249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V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4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8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16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3112920" y="3108240"/>
            <a:ext cx="3016440" cy="3749400"/>
            <a:chOff x="3112920" y="3108240"/>
            <a:chExt cx="3016440" cy="3749400"/>
          </a:xfrm>
        </p:grpSpPr>
        <p:sp>
          <p:nvSpPr>
            <p:cNvPr id="758" name=""/>
            <p:cNvSpPr/>
            <p:nvPr/>
          </p:nvSpPr>
          <p:spPr>
            <a:xfrm>
              <a:off x="382572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9572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311472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311472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333540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4036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292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93480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54032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49720" y="3638520"/>
            <a:ext cx="2739600" cy="2937960"/>
            <a:chOff x="3249720" y="3638520"/>
            <a:chExt cx="2739600" cy="2937960"/>
          </a:xfrm>
        </p:grpSpPr>
        <p:grpSp>
          <p:nvGrpSpPr>
            <p:cNvPr id="131" name=""/>
            <p:cNvGrpSpPr/>
            <p:nvPr/>
          </p:nvGrpSpPr>
          <p:grpSpPr>
            <a:xfrm>
              <a:off x="3249720" y="3638520"/>
              <a:ext cx="2739600" cy="2925360"/>
              <a:chOff x="3249720" y="3638520"/>
              <a:chExt cx="2739600" cy="29253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249720" y="363852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" name=""/>
              <p:cNvGrpSpPr/>
              <p:nvPr/>
            </p:nvGrpSpPr>
            <p:grpSpPr>
              <a:xfrm>
                <a:off x="3855240" y="3765960"/>
                <a:ext cx="1464480" cy="2561040"/>
                <a:chOff x="3855240" y="3765960"/>
                <a:chExt cx="1464480" cy="25610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855240" y="37659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855240" y="41929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55240" y="46198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55240" y="59004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55240" y="63270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855240" y="50464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855240" y="54734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41" name=""/>
                  <p:cNvSpPr txBox="1"/>
                  <p:nvPr/>
                </p:nvSpPr>
                <p:spPr>
                  <a:xfrm>
                    <a:off x="4221360" y="587016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42" name=""/>
            <p:cNvSpPr/>
            <p:nvPr/>
          </p:nvSpPr>
          <p:spPr>
            <a:xfrm>
              <a:off x="3565440" y="446544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58600" y="564516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249720" y="3651120"/>
              <a:ext cx="2739600" cy="2925360"/>
              <a:chOff x="3249720" y="3651120"/>
              <a:chExt cx="2739600" cy="292536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3249720" y="3651120"/>
                <a:ext cx="2739600" cy="2925360"/>
                <a:chOff x="3249720" y="3651120"/>
                <a:chExt cx="2739600" cy="2925360"/>
              </a:xfrm>
            </p:grpSpPr>
            <p:pic>
              <p:nvPicPr>
                <p:cNvPr id="146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249720" y="365112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47" name=""/>
                <p:cNvGrpSpPr/>
                <p:nvPr/>
              </p:nvGrpSpPr>
              <p:grpSpPr>
                <a:xfrm>
                  <a:off x="3855240" y="3778560"/>
                  <a:ext cx="1464480" cy="2561040"/>
                  <a:chOff x="3855240" y="3778560"/>
                  <a:chExt cx="1464480" cy="256104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>
                    <a:off x="3855240" y="37785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855240" y="42055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855240" y="46324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855240" y="59130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55240" y="63396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855240" y="50590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855240" y="54860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55" name=""/>
                    <p:cNvSpPr txBox="1"/>
                    <p:nvPr/>
                  </p:nvSpPr>
                  <p:spPr>
                    <a:xfrm>
                      <a:off x="4221360" y="588276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56" name=""/>
              <p:cNvSpPr/>
              <p:nvPr/>
            </p:nvSpPr>
            <p:spPr>
              <a:xfrm>
                <a:off x="3726000" y="435420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719160" y="553392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443480" y="541980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97400" y="464508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2760" y="534492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13040" y="466740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79760" y="5289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70040" y="450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405320" y="766800"/>
            <a:ext cx="4738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acceleration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has the larger accele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1280" y="3290760"/>
            <a:ext cx="5823000" cy="3102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335400"/>
            <a:ext cx="58435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nce the battery is disconnected,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as to remain constant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since no charge can flow either to or from the battery.  Since                   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 , when the spacing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doubled the capacita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halved.  And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 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at mean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oltage must doubl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0"/>
            <a:ext cx="9144000" cy="30574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2840" y="2033640"/>
            <a:ext cx="2228760" cy="493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-360" y="684000"/>
            <a:ext cx="5119560" cy="23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parallel-plate capacitor initially has a potential differenc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00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is then disconnected from the charging battery.  If the plate spacing is now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doubl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without changing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, what is the new value of the volta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40440" y="593640"/>
            <a:ext cx="2495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 V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4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8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1600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6013440" y="3108240"/>
            <a:ext cx="3016440" cy="3749400"/>
            <a:chOff x="6013440" y="3108240"/>
            <a:chExt cx="3016440" cy="3749400"/>
          </a:xfrm>
        </p:grpSpPr>
        <p:sp>
          <p:nvSpPr>
            <p:cNvPr id="775" name=""/>
            <p:cNvSpPr/>
            <p:nvPr/>
          </p:nvSpPr>
          <p:spPr>
            <a:xfrm>
              <a:off x="6726240" y="5403600"/>
              <a:ext cx="1393920" cy="10036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96240" y="4950360"/>
              <a:ext cx="2651040" cy="19072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77" name="" descr=""/>
            <p:cNvPicPr/>
            <p:nvPr/>
          </p:nvPicPr>
          <p:blipFill>
            <a:blip r:embed="rId1"/>
            <a:srcRect l="13858" t="11934" r="48265" b="7096"/>
            <a:stretch/>
          </p:blipFill>
          <p:spPr>
            <a:xfrm>
              <a:off x="6015240" y="3108240"/>
              <a:ext cx="3014640" cy="250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2"/>
            <a:srcRect l="26494" t="55580" r="28258" b="16498"/>
            <a:stretch/>
          </p:blipFill>
          <p:spPr>
            <a:xfrm>
              <a:off x="6015240" y="5582160"/>
              <a:ext cx="3006720" cy="10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6235920" y="4242240"/>
              <a:ext cx="2880" cy="22550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840880" y="4230720"/>
              <a:ext cx="3240" cy="22611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013440" y="5183280"/>
              <a:ext cx="198720" cy="22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835320" y="3323160"/>
              <a:ext cx="577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 Black"/>
                </a:rPr>
                <a:t>+</a:t>
              </a:r>
              <a:r>
                <a:rPr b="1" i="1" lang="en-US" sz="2400" spc="-1" strike="noStrike">
                  <a:solidFill>
                    <a:srgbClr val="fc0128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440840" y="3316680"/>
              <a:ext cx="555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 Black"/>
                </a:rPr>
                <a:t>–</a:t>
              </a:r>
              <a:r>
                <a:rPr b="1" i="1" lang="en-US" sz="2400" spc="-1" strike="noStrike">
                  <a:solidFill>
                    <a:srgbClr val="000099"/>
                  </a:solidFill>
                  <a:latin typeface="Arial Black"/>
                </a:rPr>
                <a:t>Q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81160" y="4727520"/>
                <a:ext cx="1019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9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Varying Capacitance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805280" y="3349800"/>
            <a:ext cx="4338720" cy="2560320"/>
            <a:chOff x="4805280" y="3349800"/>
            <a:chExt cx="4338720" cy="2560320"/>
          </a:xfrm>
        </p:grpSpPr>
        <p:sp>
          <p:nvSpPr>
            <p:cNvPr id="789" name=""/>
            <p:cNvSpPr/>
            <p:nvPr/>
          </p:nvSpPr>
          <p:spPr>
            <a:xfrm>
              <a:off x="4805280" y="3349800"/>
              <a:ext cx="4338720" cy="256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822560" y="3540240"/>
              <a:ext cx="4303440" cy="1966680"/>
              <a:chOff x="4822560" y="3540240"/>
              <a:chExt cx="4303440" cy="1966680"/>
            </a:xfrm>
          </p:grpSpPr>
          <p:sp>
            <p:nvSpPr>
              <p:cNvPr id="791" name=""/>
              <p:cNvSpPr/>
              <p:nvPr/>
            </p:nvSpPr>
            <p:spPr>
              <a:xfrm>
                <a:off x="5337720" y="3966120"/>
                <a:ext cx="2012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5384880" y="5392440"/>
                <a:ext cx="314100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625800" y="395964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302160" y="457956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02160" y="499464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512200" y="392940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512200" y="496440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188560" y="454932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188560" y="496440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72480" y="379368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207400" y="522252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964840" y="4527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16080" y="501804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721360" y="449316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643880" y="354024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371000" y="354456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57560" y="3935880"/>
                <a:ext cx="8679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276680" y="4230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822560" y="4419720"/>
                <a:ext cx="612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0" name=""/>
          <p:cNvSpPr/>
          <p:nvPr/>
        </p:nvSpPr>
        <p:spPr>
          <a:xfrm>
            <a:off x="5329080" y="666720"/>
            <a:ext cx="23115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2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2080" y="958680"/>
            <a:ext cx="4900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quivalent capacitance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, of the combination below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0" y="3333600"/>
            <a:ext cx="4759200" cy="25308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3454560"/>
            <a:ext cx="4862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2 equal capacitors in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ri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dd up a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verses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giving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/2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se are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arallel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o the first one, which add up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directl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us, the total equivalent capacitance is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3/2 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8400" y="692280"/>
            <a:ext cx="2514600" cy="5094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805280" y="3349800"/>
            <a:ext cx="4338720" cy="2560320"/>
            <a:chOff x="4805280" y="3349800"/>
            <a:chExt cx="4338720" cy="2560320"/>
          </a:xfrm>
        </p:grpSpPr>
        <p:sp>
          <p:nvSpPr>
            <p:cNvPr id="818" name=""/>
            <p:cNvSpPr/>
            <p:nvPr/>
          </p:nvSpPr>
          <p:spPr>
            <a:xfrm>
              <a:off x="4805280" y="3349800"/>
              <a:ext cx="4338720" cy="256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9" name=""/>
            <p:cNvGrpSpPr/>
            <p:nvPr/>
          </p:nvGrpSpPr>
          <p:grpSpPr>
            <a:xfrm>
              <a:off x="4822560" y="3540240"/>
              <a:ext cx="4303440" cy="1966680"/>
              <a:chOff x="4822560" y="3540240"/>
              <a:chExt cx="4303440" cy="1966680"/>
            </a:xfrm>
          </p:grpSpPr>
          <p:sp>
            <p:nvSpPr>
              <p:cNvPr id="820" name=""/>
              <p:cNvSpPr/>
              <p:nvPr/>
            </p:nvSpPr>
            <p:spPr>
              <a:xfrm>
                <a:off x="5337720" y="3966120"/>
                <a:ext cx="20127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5384880" y="5392440"/>
                <a:ext cx="3141000" cy="17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625800" y="395964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302160" y="457956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302160" y="4994640"/>
                <a:ext cx="6472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12200" y="3929400"/>
                <a:ext cx="0" cy="619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512200" y="496440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188560" y="454932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188560" y="4964400"/>
                <a:ext cx="6469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172480" y="379368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07400" y="5222520"/>
                <a:ext cx="267480" cy="2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3360" rIns="63360" tIns="25560" bIns="2556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964840" y="4527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616080" y="5018040"/>
                <a:ext cx="0" cy="413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721360" y="449316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7643880" y="354024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7371000" y="3544560"/>
                <a:ext cx="0" cy="8258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657560" y="3935880"/>
                <a:ext cx="8679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76680" y="4230720"/>
                <a:ext cx="404640" cy="4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822560" y="4419720"/>
                <a:ext cx="612000" cy="4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afd00"/>
                    </a:solidFill>
                    <a:latin typeface="Arial"/>
                  </a:rPr>
                  <a:t>C</a:t>
                </a:r>
                <a:r>
                  <a:rPr b="1" i="1" lang="en-US" sz="2400" spc="-1" strike="noStrike" baseline="-25000">
                    <a:solidFill>
                      <a:srgbClr val="fafd00"/>
                    </a:solidFill>
                    <a:latin typeface="Arial"/>
                  </a:rPr>
                  <a:t>eq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9" name=""/>
          <p:cNvSpPr/>
          <p:nvPr/>
        </p:nvSpPr>
        <p:spPr>
          <a:xfrm>
            <a:off x="5329080" y="666720"/>
            <a:ext cx="23115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2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3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  1/2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62080" y="958680"/>
            <a:ext cx="49003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4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quivalent capacitance,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e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, of the combination below?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049720" y="631800"/>
            <a:ext cx="389736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volta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122720" y="3602160"/>
            <a:ext cx="5021280" cy="2347920"/>
            <a:chOff x="4122720" y="3602160"/>
            <a:chExt cx="5021280" cy="2347920"/>
          </a:xfrm>
        </p:grpSpPr>
        <p:sp>
          <p:nvSpPr>
            <p:cNvPr id="845" name=""/>
            <p:cNvSpPr/>
            <p:nvPr/>
          </p:nvSpPr>
          <p:spPr>
            <a:xfrm>
              <a:off x="4122720" y="3602160"/>
              <a:ext cx="502128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636440" y="4285080"/>
              <a:ext cx="18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43640" y="5561280"/>
              <a:ext cx="28555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93840" y="4280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02600" y="483408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02600" y="520560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487640" y="4253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487640" y="517860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96400" y="480708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96400" y="517860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54040" y="48009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84840" y="522612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71800" y="478188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707880" y="39034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463080" y="390672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19760" y="4258080"/>
              <a:ext cx="779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802560" y="376740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189680" y="500724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89560" y="4786560"/>
              <a:ext cx="3121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4640760" y="501012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4637880" y="428004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353840" y="4962600"/>
              <a:ext cx="567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458316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b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821120" y="1189080"/>
            <a:ext cx="2322720" cy="5205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049720" y="631800"/>
            <a:ext cx="3897360" cy="22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volta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122720" y="3602160"/>
            <a:ext cx="5021280" cy="2347920"/>
            <a:chOff x="4122720" y="3602160"/>
            <a:chExt cx="5021280" cy="2347920"/>
          </a:xfrm>
        </p:grpSpPr>
        <p:sp>
          <p:nvSpPr>
            <p:cNvPr id="873" name=""/>
            <p:cNvSpPr/>
            <p:nvPr/>
          </p:nvSpPr>
          <p:spPr>
            <a:xfrm>
              <a:off x="4122720" y="3602160"/>
              <a:ext cx="502128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36440" y="4285080"/>
              <a:ext cx="1806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4643640" y="5561280"/>
              <a:ext cx="285552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93840" y="4280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02600" y="483408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502600" y="5205600"/>
              <a:ext cx="581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87640" y="425304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87640" y="517860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96400" y="480708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196400" y="5178600"/>
              <a:ext cx="5806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54040" y="48009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84840" y="522612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71800" y="478188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6707880" y="39034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6463080" y="390672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19760" y="4258080"/>
              <a:ext cx="779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802560" y="376740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89680" y="500724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89560" y="4786560"/>
              <a:ext cx="31212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640760" y="501012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4637880" y="428004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353840" y="4962600"/>
              <a:ext cx="567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0" y="3067200"/>
            <a:ext cx="4083120" cy="3563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-79200" y="3156120"/>
            <a:ext cx="4159080" cy="37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10 V.  The combined capacitor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+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parallel to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 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+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also 10 V.  Since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re in series, their voltages add.  Thus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each has to be 5 V, which is less than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4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-360" y="725040"/>
            <a:ext cx="4583160" cy="19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8160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volta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172040" y="6146640"/>
            <a:ext cx="4659120" cy="703800"/>
          </a:xfrm>
          <a:prstGeom prst="rect">
            <a:avLst/>
          </a:prstGeom>
          <a:solidFill>
            <a:srgbClr val="3366ff"/>
          </a:solidFill>
          <a:ln w="93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-up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current in this circui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3927600" y="3559320"/>
            <a:ext cx="5216400" cy="2347920"/>
            <a:chOff x="3927600" y="3559320"/>
            <a:chExt cx="5216400" cy="2347920"/>
          </a:xfrm>
        </p:grpSpPr>
        <p:sp>
          <p:nvSpPr>
            <p:cNvPr id="902" name=""/>
            <p:cNvSpPr/>
            <p:nvPr/>
          </p:nvSpPr>
          <p:spPr>
            <a:xfrm>
              <a:off x="3927600" y="3559320"/>
              <a:ext cx="521640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61120" y="4242240"/>
              <a:ext cx="1877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469040" y="5518440"/>
              <a:ext cx="296640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663520" y="4237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360760" y="479124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360760" y="516276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423200" y="4210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423200" y="513576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120440" y="476424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120440" y="513576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96000" y="475812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654520" y="518328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407000" y="473904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6613200" y="386064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358680" y="38638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625440" y="4215240"/>
              <a:ext cx="80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711120" y="37245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97080" y="496440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308840" y="4743720"/>
              <a:ext cx="324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4465800" y="496728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4462560" y="423720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167720" y="4919760"/>
              <a:ext cx="58968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5049720" y="585720"/>
            <a:ext cx="389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char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-95400" y="879120"/>
            <a:ext cx="502128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9144000" cy="2859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0c</a:t>
            </a: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apacitors II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4897440" y="1233360"/>
            <a:ext cx="2155680" cy="520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3927600" y="3559320"/>
            <a:ext cx="5216400" cy="2347920"/>
            <a:chOff x="3927600" y="3559320"/>
            <a:chExt cx="5216400" cy="2347920"/>
          </a:xfrm>
        </p:grpSpPr>
        <p:sp>
          <p:nvSpPr>
            <p:cNvPr id="930" name=""/>
            <p:cNvSpPr/>
            <p:nvPr/>
          </p:nvSpPr>
          <p:spPr>
            <a:xfrm>
              <a:off x="3927600" y="3559320"/>
              <a:ext cx="5216400" cy="234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61120" y="4242240"/>
              <a:ext cx="1877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4469040" y="5518440"/>
              <a:ext cx="2966400" cy="1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663520" y="4237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60760" y="479124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0760" y="5162760"/>
              <a:ext cx="603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23200" y="421020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23200" y="513576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20440" y="476424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20440" y="5135760"/>
              <a:ext cx="6033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96000" y="475812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654520" y="5183280"/>
              <a:ext cx="0" cy="370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07000" y="473904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6613200" y="386064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6358680" y="3863880"/>
              <a:ext cx="0" cy="739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25440" y="4215240"/>
              <a:ext cx="80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11120" y="3724560"/>
              <a:ext cx="1620720" cy="4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ff00"/>
                  </a:solidFill>
                  <a:latin typeface="Times New Roman"/>
                </a:rPr>
                <a:t>C</a:t>
              </a:r>
              <a:r>
                <a:rPr b="1" i="1" lang="en-US" sz="2400" spc="-1" strike="noStrike" baseline="-25000">
                  <a:solidFill>
                    <a:srgbClr val="00ff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 = 1.0 </a:t>
              </a:r>
              <a:r>
                <a:rPr b="1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997080" y="4964400"/>
              <a:ext cx="81144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10 V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308840" y="4743720"/>
              <a:ext cx="32436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4465800" y="4967280"/>
              <a:ext cx="0" cy="554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462560" y="4237200"/>
              <a:ext cx="0" cy="5176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167720" y="4919760"/>
              <a:ext cx="589680" cy="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0" y="3112920"/>
            <a:ext cx="3887640" cy="3230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79200" y="3213000"/>
            <a:ext cx="398592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We already know that the voltage across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10 V and the voltage across both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4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5 V each.  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for all the capacitors, the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&gt; 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eref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 &gt; Q</a:t>
            </a:r>
            <a:r>
              <a:rPr b="1" i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049720" y="585720"/>
            <a:ext cx="3897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g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&lt;</a:t>
            </a:r>
            <a:r>
              <a:rPr b="1" lang="en-US" sz="2000" spc="-1" strike="noStrike" baseline="-25000">
                <a:solidFill>
                  <a:srgbClr val="fafd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all charges are 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-95400" y="879120"/>
            <a:ext cx="5021280" cy="19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8952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does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first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compare to the charg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n the second capacitor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429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219320"/>
            <a:ext cx="4191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76880" y="3675240"/>
            <a:ext cx="2739600" cy="2937960"/>
            <a:chOff x="6176880" y="3675240"/>
            <a:chExt cx="2739600" cy="2937960"/>
          </a:xfrm>
        </p:grpSpPr>
        <p:grpSp>
          <p:nvGrpSpPr>
            <p:cNvPr id="172" name=""/>
            <p:cNvGrpSpPr/>
            <p:nvPr/>
          </p:nvGrpSpPr>
          <p:grpSpPr>
            <a:xfrm>
              <a:off x="6176880" y="3675240"/>
              <a:ext cx="2739600" cy="2925360"/>
              <a:chOff x="6176880" y="3675240"/>
              <a:chExt cx="2739600" cy="2925360"/>
            </a:xfrm>
          </p:grpSpPr>
          <p:pic>
            <p:nvPicPr>
              <p:cNvPr id="173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7688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4" name=""/>
              <p:cNvGrpSpPr/>
              <p:nvPr/>
            </p:nvGrpSpPr>
            <p:grpSpPr>
              <a:xfrm>
                <a:off x="6782400" y="3802680"/>
                <a:ext cx="1464480" cy="2561040"/>
                <a:chOff x="6782400" y="3802680"/>
                <a:chExt cx="1464480" cy="2561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78240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78240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78240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78240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78240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40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78240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182" name=""/>
                  <p:cNvSpPr txBox="1"/>
                  <p:nvPr/>
                </p:nvSpPr>
                <p:spPr>
                  <a:xfrm>
                    <a:off x="714852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3" name=""/>
            <p:cNvSpPr/>
            <p:nvPr/>
          </p:nvSpPr>
          <p:spPr>
            <a:xfrm>
              <a:off x="649260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8576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176880" y="3687840"/>
              <a:ext cx="2739600" cy="2925360"/>
              <a:chOff x="6176880" y="3687840"/>
              <a:chExt cx="2739600" cy="292536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6176880" y="3687840"/>
                <a:ext cx="2739600" cy="2925360"/>
                <a:chOff x="6176880" y="3687840"/>
                <a:chExt cx="2739600" cy="2925360"/>
              </a:xfrm>
            </p:grpSpPr>
            <p:pic>
              <p:nvPicPr>
                <p:cNvPr id="187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7688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88" name=""/>
                <p:cNvGrpSpPr/>
                <p:nvPr/>
              </p:nvGrpSpPr>
              <p:grpSpPr>
                <a:xfrm>
                  <a:off x="6782400" y="3815280"/>
                  <a:ext cx="1464480" cy="2561040"/>
                  <a:chOff x="6782400" y="3815280"/>
                  <a:chExt cx="1464480" cy="256104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678240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78240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78240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78240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78240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78240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78240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196" name=""/>
                    <p:cNvSpPr txBox="1"/>
                    <p:nvPr/>
                  </p:nvSpPr>
                  <p:spPr>
                    <a:xfrm>
                      <a:off x="714852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197" name=""/>
              <p:cNvSpPr/>
              <p:nvPr/>
            </p:nvSpPr>
            <p:spPr>
              <a:xfrm>
                <a:off x="665316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4632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37064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456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992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4020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0692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9720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243320" y="1109520"/>
            <a:ext cx="2141640" cy="5288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680" y="4354560"/>
            <a:ext cx="5919840" cy="1609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441680"/>
            <a:ext cx="618156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F = ma</a:t>
            </a:r>
            <a:r>
              <a:rPr b="1" i="1" lang="en-US" sz="2000" spc="-1" strike="noStrike">
                <a:solidFill>
                  <a:srgbClr val="00004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and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lectron is much less massiv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than the proton, the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experiences the larger acceleration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Which has the larger acceler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b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05320" y="766800"/>
            <a:ext cx="47386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feel the same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neither–there is no accel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they feel the same magnitude acceleration but in opposite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51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174840" y="3675240"/>
            <a:ext cx="2739600" cy="2937960"/>
            <a:chOff x="3174840" y="3675240"/>
            <a:chExt cx="2739600" cy="2937960"/>
          </a:xfrm>
        </p:grpSpPr>
        <p:grpSp>
          <p:nvGrpSpPr>
            <p:cNvPr id="215" name=""/>
            <p:cNvGrpSpPr/>
            <p:nvPr/>
          </p:nvGrpSpPr>
          <p:grpSpPr>
            <a:xfrm>
              <a:off x="3174840" y="3675240"/>
              <a:ext cx="2739600" cy="2925360"/>
              <a:chOff x="3174840" y="3675240"/>
              <a:chExt cx="2739600" cy="292536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317484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7" name=""/>
              <p:cNvGrpSpPr/>
              <p:nvPr/>
            </p:nvGrpSpPr>
            <p:grpSpPr>
              <a:xfrm>
                <a:off x="3780360" y="3802680"/>
                <a:ext cx="1464480" cy="2561040"/>
                <a:chOff x="3780360" y="3802680"/>
                <a:chExt cx="1464480" cy="2561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378036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8036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8036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8036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78036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8036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78036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25" name=""/>
                  <p:cNvSpPr txBox="1"/>
                  <p:nvPr/>
                </p:nvSpPr>
                <p:spPr>
                  <a:xfrm>
                    <a:off x="414648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26" name=""/>
            <p:cNvSpPr/>
            <p:nvPr/>
          </p:nvSpPr>
          <p:spPr>
            <a:xfrm>
              <a:off x="349056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8372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3174840" y="3687840"/>
              <a:ext cx="2739600" cy="2925360"/>
              <a:chOff x="3174840" y="3687840"/>
              <a:chExt cx="2739600" cy="29253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174840" y="3687840"/>
                <a:ext cx="2739600" cy="2925360"/>
                <a:chOff x="3174840" y="3687840"/>
                <a:chExt cx="2739600" cy="292536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317484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31" name=""/>
                <p:cNvGrpSpPr/>
                <p:nvPr/>
              </p:nvGrpSpPr>
              <p:grpSpPr>
                <a:xfrm>
                  <a:off x="3780360" y="3815280"/>
                  <a:ext cx="1464480" cy="2561040"/>
                  <a:chOff x="3780360" y="3815280"/>
                  <a:chExt cx="1464480" cy="25610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378036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78036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78036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78036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78036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78036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378036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414648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0" name=""/>
              <p:cNvSpPr/>
              <p:nvPr/>
            </p:nvSpPr>
            <p:spPr>
              <a:xfrm>
                <a:off x="365112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4428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36860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52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4788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3816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0488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9516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668840" y="695160"/>
            <a:ext cx="451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acquire the same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neither – there is no chan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they both acquire the same K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  with opposite s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 When it strikes the opposite plate, which one has more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784680"/>
            <a:ext cx="6070680" cy="27511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9144000" cy="35146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148440" y="3675240"/>
            <a:ext cx="2739600" cy="2937960"/>
            <a:chOff x="6148440" y="3675240"/>
            <a:chExt cx="2739600" cy="2937960"/>
          </a:xfrm>
        </p:grpSpPr>
        <p:grpSp>
          <p:nvGrpSpPr>
            <p:cNvPr id="256" name=""/>
            <p:cNvGrpSpPr/>
            <p:nvPr/>
          </p:nvGrpSpPr>
          <p:grpSpPr>
            <a:xfrm>
              <a:off x="6148440" y="3675240"/>
              <a:ext cx="2739600" cy="2925360"/>
              <a:chOff x="6148440" y="3675240"/>
              <a:chExt cx="2739600" cy="29253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1"/>
              <a:srcRect l="58595" t="26835" r="15521" b="25210"/>
              <a:stretch/>
            </p:blipFill>
            <p:spPr>
              <a:xfrm>
                <a:off x="6148440" y="3675240"/>
                <a:ext cx="2739600" cy="2925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8" name=""/>
              <p:cNvGrpSpPr/>
              <p:nvPr/>
            </p:nvGrpSpPr>
            <p:grpSpPr>
              <a:xfrm>
                <a:off x="6753960" y="3802680"/>
                <a:ext cx="1464480" cy="2561040"/>
                <a:chOff x="6753960" y="3802680"/>
                <a:chExt cx="1464480" cy="2561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753960" y="380268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53960" y="422964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753960" y="46566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753960" y="59371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753960" y="636372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753960" y="508320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753960" y="5510160"/>
                  <a:ext cx="1464480" cy="0"/>
                </a:xfrm>
                <a:prstGeom prst="line">
                  <a:avLst/>
                </a:prstGeom>
                <a:ln w="9360">
                  <a:solidFill>
                    <a:srgbClr val="ff99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266" name=""/>
                  <p:cNvSpPr txBox="1"/>
                  <p:nvPr/>
                </p:nvSpPr>
                <p:spPr>
                  <a:xfrm>
                    <a:off x="7120080" y="5906880"/>
                    <a:ext cx="650880" cy="54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7" name=""/>
            <p:cNvSpPr/>
            <p:nvPr/>
          </p:nvSpPr>
          <p:spPr>
            <a:xfrm>
              <a:off x="6464160" y="4502160"/>
              <a:ext cx="1171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electr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7320" y="5681880"/>
              <a:ext cx="98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Arial"/>
                </a:rPr>
                <a:t>prot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148440" y="3687840"/>
              <a:ext cx="2739600" cy="2925360"/>
              <a:chOff x="6148440" y="3687840"/>
              <a:chExt cx="2739600" cy="292536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48440" y="3687840"/>
                <a:ext cx="2739600" cy="2925360"/>
                <a:chOff x="6148440" y="3687840"/>
                <a:chExt cx="2739600" cy="2925360"/>
              </a:xfrm>
            </p:grpSpPr>
            <p:pic>
              <p:nvPicPr>
                <p:cNvPr id="271" name="" descr=""/>
                <p:cNvPicPr/>
                <p:nvPr/>
              </p:nvPicPr>
              <p:blipFill>
                <a:blip r:embed="rId2"/>
                <a:srcRect l="58595" t="26835" r="15521" b="25210"/>
                <a:stretch/>
              </p:blipFill>
              <p:spPr>
                <a:xfrm>
                  <a:off x="6148440" y="3687840"/>
                  <a:ext cx="2739600" cy="29253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72" name=""/>
                <p:cNvGrpSpPr/>
                <p:nvPr/>
              </p:nvGrpSpPr>
              <p:grpSpPr>
                <a:xfrm>
                  <a:off x="6753960" y="3815280"/>
                  <a:ext cx="1464480" cy="2561040"/>
                  <a:chOff x="6753960" y="3815280"/>
                  <a:chExt cx="1464480" cy="256104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753960" y="381528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753960" y="424224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753960" y="46692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753960" y="59497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753960" y="637632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753960" y="509580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753960" y="5522760"/>
                    <a:ext cx="1464480" cy="0"/>
                  </a:xfrm>
                  <a:prstGeom prst="line">
                    <a:avLst/>
                  </a:prstGeom>
                  <a:ln w="9360">
                    <a:solidFill>
                      <a:srgbClr val="ff99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mc:AlternateContent>
              <mc:Choice xmlns:a14="http://schemas.microsoft.com/office/drawing/2010/main" Requires="a14">
                <p:sp>
                  <p:nvSpPr>
                    <p:cNvPr id="280" name=""/>
                    <p:cNvSpPr txBox="1"/>
                    <p:nvPr/>
                  </p:nvSpPr>
                  <p:spPr>
                    <a:xfrm>
                      <a:off x="7120080" y="5919480"/>
                      <a:ext cx="650880" cy="5486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E</m:t>
                              </m:r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81" name=""/>
              <p:cNvSpPr/>
              <p:nvPr/>
            </p:nvSpPr>
            <p:spPr>
              <a:xfrm>
                <a:off x="6624720" y="4390920"/>
                <a:ext cx="1171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electr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17880" y="5570640"/>
                <a:ext cx="986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990000"/>
                    </a:solidFill>
                    <a:latin typeface="Arial"/>
                  </a:rPr>
                  <a:t>prot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7342200" y="5456520"/>
              <a:ext cx="20952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96120" y="4681800"/>
              <a:ext cx="235080" cy="196920"/>
            </a:xfrm>
            <a:prstGeom prst="ellipse">
              <a:avLst/>
            </a:prstGeom>
            <a:solidFill>
              <a:srgbClr val="000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21480" y="5381640"/>
              <a:ext cx="245880" cy="2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11760" y="4704120"/>
              <a:ext cx="284400" cy="295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78480" y="53262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68760" y="45403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459320" y="1460520"/>
            <a:ext cx="4400640" cy="5284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828960"/>
            <a:ext cx="59547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Sinc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 =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qV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nd the proton and electron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charge in magnitude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, they both hav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ame electric potential energ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initially.   Because energy is conserved, they both must hav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me kinetic energy</a:t>
            </a:r>
            <a:r>
              <a:rPr b="1" lang="en-US" sz="2000" spc="-1" strike="noStrike">
                <a:solidFill>
                  <a:srgbClr val="000040"/>
                </a:solidFill>
                <a:latin typeface="Arial"/>
              </a:rPr>
              <a:t> after they reach the opposite pla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27040" y="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1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Energy III 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360" y="704520"/>
            <a:ext cx="4419720" cy="281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re in a constant electric field created by oppositely charged plates.  You release the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prot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i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 and the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electr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the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ide.   When it strikes the opposite plate, which one has more K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68840" y="695160"/>
            <a:ext cx="451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oth acquire the same 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4)   neither – there is no change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5)   they both acquire the same K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but  with opposite sig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144000" cy="3762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6360" y="652320"/>
            <a:ext cx="8058240" cy="92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group of charges too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re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bring together from a very large initial distance ap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16080" y="1778040"/>
            <a:ext cx="3520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6411600" y="1367280"/>
            <a:ext cx="2282400" cy="2004120"/>
            <a:chOff x="6411600" y="1367280"/>
            <a:chExt cx="2282400" cy="2004120"/>
          </a:xfrm>
        </p:grpSpPr>
        <p:grpSp>
          <p:nvGrpSpPr>
            <p:cNvPr id="300" name=""/>
            <p:cNvGrpSpPr/>
            <p:nvPr/>
          </p:nvGrpSpPr>
          <p:grpSpPr>
            <a:xfrm>
              <a:off x="6411600" y="2732040"/>
              <a:ext cx="528120" cy="423000"/>
              <a:chOff x="6411600" y="2732040"/>
              <a:chExt cx="528120" cy="423000"/>
            </a:xfrm>
          </p:grpSpPr>
          <p:sp>
            <p:nvSpPr>
              <p:cNvPr id="301" name=""/>
              <p:cNvSpPr/>
              <p:nvPr/>
            </p:nvSpPr>
            <p:spPr>
              <a:xfrm>
                <a:off x="6453000" y="274680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11600" y="27320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6925680" y="2940480"/>
              <a:ext cx="1257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09040" y="1739160"/>
              <a:ext cx="56268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6785640" y="1752840"/>
              <a:ext cx="56304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7277760" y="1367280"/>
              <a:ext cx="528120" cy="423000"/>
              <a:chOff x="7277760" y="1367280"/>
              <a:chExt cx="528120" cy="423000"/>
            </a:xfrm>
          </p:grpSpPr>
          <p:sp>
            <p:nvSpPr>
              <p:cNvPr id="307" name=""/>
              <p:cNvSpPr/>
              <p:nvPr/>
            </p:nvSpPr>
            <p:spPr>
              <a:xfrm>
                <a:off x="7317360" y="1382040"/>
                <a:ext cx="44316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277760" y="1367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8165880" y="2688120"/>
              <a:ext cx="528120" cy="423000"/>
              <a:chOff x="8165880" y="2688120"/>
              <a:chExt cx="528120" cy="423000"/>
            </a:xfrm>
          </p:grpSpPr>
          <p:sp>
            <p:nvSpPr>
              <p:cNvPr id="310" name=""/>
              <p:cNvSpPr/>
              <p:nvPr/>
            </p:nvSpPr>
            <p:spPr>
              <a:xfrm>
                <a:off x="8207280" y="270252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65880" y="26881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664272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4024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33920" y="29484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 txBox="1"/>
          <p:nvPr/>
        </p:nvSpPr>
        <p:spPr>
          <a:xfrm>
            <a:off x="6180120" y="14241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897120" y="1672200"/>
            <a:ext cx="2442240" cy="773640"/>
            <a:chOff x="897120" y="1672200"/>
            <a:chExt cx="2442240" cy="773640"/>
          </a:xfrm>
        </p:grpSpPr>
        <p:grpSp>
          <p:nvGrpSpPr>
            <p:cNvPr id="317" name=""/>
            <p:cNvGrpSpPr/>
            <p:nvPr/>
          </p:nvGrpSpPr>
          <p:grpSpPr>
            <a:xfrm>
              <a:off x="2811240" y="1958760"/>
              <a:ext cx="528120" cy="485280"/>
              <a:chOff x="2811240" y="1958760"/>
              <a:chExt cx="528120" cy="485280"/>
            </a:xfrm>
          </p:grpSpPr>
          <p:sp>
            <p:nvSpPr>
              <p:cNvPr id="318" name=""/>
              <p:cNvSpPr/>
              <p:nvPr/>
            </p:nvSpPr>
            <p:spPr>
              <a:xfrm>
                <a:off x="2828520" y="1958760"/>
                <a:ext cx="491760" cy="4852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81124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1433160" y="2203200"/>
              <a:ext cx="13968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897120" y="1960200"/>
              <a:ext cx="528120" cy="485640"/>
              <a:chOff x="897120" y="1960200"/>
              <a:chExt cx="528120" cy="485640"/>
            </a:xfrm>
          </p:grpSpPr>
          <p:sp>
            <p:nvSpPr>
              <p:cNvPr id="322" name=""/>
              <p:cNvSpPr/>
              <p:nvPr/>
            </p:nvSpPr>
            <p:spPr>
              <a:xfrm>
                <a:off x="915840" y="196020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9712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003040" y="16722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47800" y="2943360"/>
            <a:ext cx="6111720" cy="647640"/>
            <a:chOff x="847800" y="2943360"/>
            <a:chExt cx="6111720" cy="647640"/>
          </a:xfrm>
        </p:grpSpPr>
        <p:sp>
          <p:nvSpPr>
            <p:cNvPr id="326" name=""/>
            <p:cNvSpPr txBox="1"/>
            <p:nvPr/>
          </p:nvSpPr>
          <p:spPr>
            <a:xfrm>
              <a:off x="847800" y="29433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3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38200" y="3137760"/>
              <a:ext cx="55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oth took the same amount of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Potential Energ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4071960"/>
            <a:ext cx="4324320" cy="25970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4167360"/>
            <a:ext cx="42102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needed to assemble a collection of charges is the same as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otal 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ose char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89080" y="5743440"/>
                <a:ext cx="1852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0" y="0"/>
            <a:ext cx="9144000" cy="3762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06360" y="652320"/>
            <a:ext cx="8058240" cy="92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ich group of charges took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more wor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bring together from a very large initial distance ap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16080" y="1778040"/>
            <a:ext cx="3520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6411600" y="1367280"/>
            <a:ext cx="2282400" cy="2004120"/>
            <a:chOff x="6411600" y="1367280"/>
            <a:chExt cx="2282400" cy="2004120"/>
          </a:xfrm>
        </p:grpSpPr>
        <p:grpSp>
          <p:nvGrpSpPr>
            <p:cNvPr id="338" name=""/>
            <p:cNvGrpSpPr/>
            <p:nvPr/>
          </p:nvGrpSpPr>
          <p:grpSpPr>
            <a:xfrm>
              <a:off x="6411600" y="2732040"/>
              <a:ext cx="528120" cy="423000"/>
              <a:chOff x="6411600" y="2732040"/>
              <a:chExt cx="528120" cy="423000"/>
            </a:xfrm>
          </p:grpSpPr>
          <p:sp>
            <p:nvSpPr>
              <p:cNvPr id="339" name=""/>
              <p:cNvSpPr/>
              <p:nvPr/>
            </p:nvSpPr>
            <p:spPr>
              <a:xfrm>
                <a:off x="6453000" y="274680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411600" y="27320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6925680" y="2940480"/>
              <a:ext cx="125712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09040" y="1739160"/>
              <a:ext cx="56268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85640" y="1752840"/>
              <a:ext cx="563040" cy="97488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277760" y="1367280"/>
              <a:ext cx="528120" cy="423000"/>
              <a:chOff x="7277760" y="1367280"/>
              <a:chExt cx="528120" cy="423000"/>
            </a:xfrm>
          </p:grpSpPr>
          <p:sp>
            <p:nvSpPr>
              <p:cNvPr id="345" name=""/>
              <p:cNvSpPr/>
              <p:nvPr/>
            </p:nvSpPr>
            <p:spPr>
              <a:xfrm>
                <a:off x="7317360" y="1382040"/>
                <a:ext cx="44316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277760" y="136728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165880" y="2688120"/>
              <a:ext cx="528120" cy="423000"/>
              <a:chOff x="8165880" y="2688120"/>
              <a:chExt cx="528120" cy="423000"/>
            </a:xfrm>
          </p:grpSpPr>
          <p:sp>
            <p:nvSpPr>
              <p:cNvPr id="348" name=""/>
              <p:cNvSpPr/>
              <p:nvPr/>
            </p:nvSpPr>
            <p:spPr>
              <a:xfrm>
                <a:off x="8207280" y="2702520"/>
                <a:ext cx="442440" cy="39132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165880" y="268812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664272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040240" y="198108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33920" y="29484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 txBox="1"/>
          <p:nvPr/>
        </p:nvSpPr>
        <p:spPr>
          <a:xfrm>
            <a:off x="6180120" y="1424160"/>
            <a:ext cx="35244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897120" y="1672200"/>
            <a:ext cx="2442240" cy="773640"/>
            <a:chOff x="897120" y="1672200"/>
            <a:chExt cx="2442240" cy="773640"/>
          </a:xfrm>
        </p:grpSpPr>
        <p:grpSp>
          <p:nvGrpSpPr>
            <p:cNvPr id="355" name=""/>
            <p:cNvGrpSpPr/>
            <p:nvPr/>
          </p:nvGrpSpPr>
          <p:grpSpPr>
            <a:xfrm>
              <a:off x="2811240" y="1958760"/>
              <a:ext cx="528120" cy="485280"/>
              <a:chOff x="2811240" y="1958760"/>
              <a:chExt cx="528120" cy="485280"/>
            </a:xfrm>
          </p:grpSpPr>
          <p:sp>
            <p:nvSpPr>
              <p:cNvPr id="356" name=""/>
              <p:cNvSpPr/>
              <p:nvPr/>
            </p:nvSpPr>
            <p:spPr>
              <a:xfrm>
                <a:off x="2828520" y="1958760"/>
                <a:ext cx="491760" cy="485280"/>
              </a:xfrm>
              <a:prstGeom prst="ellipse">
                <a:avLst/>
              </a:prstGeom>
              <a:solidFill>
                <a:srgbClr val="00ff00"/>
              </a:solidFill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1124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433160" y="2203200"/>
              <a:ext cx="1396800" cy="0"/>
            </a:xfrm>
            <a:prstGeom prst="line">
              <a:avLst/>
            </a:prstGeom>
            <a:ln w="3816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9" name=""/>
            <p:cNvGrpSpPr/>
            <p:nvPr/>
          </p:nvGrpSpPr>
          <p:grpSpPr>
            <a:xfrm>
              <a:off x="897120" y="1960200"/>
              <a:ext cx="528120" cy="485640"/>
              <a:chOff x="897120" y="1960200"/>
              <a:chExt cx="528120" cy="485640"/>
            </a:xfrm>
          </p:grpSpPr>
          <p:sp>
            <p:nvSpPr>
              <p:cNvPr id="360" name=""/>
              <p:cNvSpPr/>
              <p:nvPr/>
            </p:nvSpPr>
            <p:spPr>
              <a:xfrm>
                <a:off x="915840" y="1960200"/>
                <a:ext cx="492120" cy="48564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97120" y="1990440"/>
                <a:ext cx="528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40"/>
                    </a:solidFill>
                    <a:latin typeface="Arial"/>
                  </a:rPr>
                  <a:t>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2003040" y="1672200"/>
              <a:ext cx="366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847800" y="2943360"/>
            <a:ext cx="6111720" cy="647640"/>
            <a:chOff x="847800" y="2943360"/>
            <a:chExt cx="6111720" cy="647640"/>
          </a:xfrm>
        </p:grpSpPr>
        <p:sp>
          <p:nvSpPr>
            <p:cNvPr id="364" name=""/>
            <p:cNvSpPr txBox="1"/>
            <p:nvPr/>
          </p:nvSpPr>
          <p:spPr>
            <a:xfrm>
              <a:off x="847800" y="2943360"/>
              <a:ext cx="352440" cy="6476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3</a:t>
              </a:r>
              <a:endPara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38200" y="3137760"/>
              <a:ext cx="552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oth took the same amount of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11840" y="1306440"/>
            <a:ext cx="1106640" cy="9399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619520" y="3840120"/>
            <a:ext cx="4524480" cy="1481040"/>
            <a:chOff x="4619520" y="3840120"/>
            <a:chExt cx="4524480" cy="1481040"/>
          </a:xfrm>
        </p:grpSpPr>
        <p:sp>
          <p:nvSpPr>
            <p:cNvPr id="368" name=""/>
            <p:cNvSpPr/>
            <p:nvPr/>
          </p:nvSpPr>
          <p:spPr>
            <a:xfrm>
              <a:off x="4619520" y="3840120"/>
              <a:ext cx="4524480" cy="14810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49840" y="3902040"/>
              <a:ext cx="43941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or case 1:</a:t>
              </a: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only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pai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0" name=""/>
                <p:cNvSpPr txBox="1"/>
                <p:nvPr/>
              </p:nvSpPr>
              <p:spPr>
                <a:xfrm>
                  <a:off x="5229360" y="4398840"/>
                  <a:ext cx="31176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E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71" name=""/>
          <p:cNvGrpSpPr/>
          <p:nvPr/>
        </p:nvGrpSpPr>
        <p:grpSpPr>
          <a:xfrm>
            <a:off x="4619520" y="5376960"/>
            <a:ext cx="4524480" cy="1481040"/>
            <a:chOff x="4619520" y="5376960"/>
            <a:chExt cx="4524480" cy="1481040"/>
          </a:xfrm>
        </p:grpSpPr>
        <p:sp>
          <p:nvSpPr>
            <p:cNvPr id="372" name=""/>
            <p:cNvSpPr/>
            <p:nvPr/>
          </p:nvSpPr>
          <p:spPr>
            <a:xfrm>
              <a:off x="4619520" y="5376960"/>
              <a:ext cx="4524480" cy="148104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49840" y="5438880"/>
              <a:ext cx="439416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285840" indent="-285840"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or case 2:</a:t>
              </a:r>
              <a:r>
                <a:rPr b="1" lang="en-US" sz="2400" spc="-1" strike="noStrike">
                  <a:solidFill>
                    <a:srgbClr val="0066ff"/>
                  </a:solidFill>
                  <a:latin typeface="Arial"/>
                </a:rPr>
                <a:t>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here are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pair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5072040" y="5935680"/>
                  <a:ext cx="34336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E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5" name=""/>
          <p:cNvSpPr/>
          <p:nvPr/>
        </p:nvSpPr>
        <p:spPr>
          <a:xfrm>
            <a:off x="2462040" y="5676840"/>
            <a:ext cx="16225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dded over all pai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Work and Potential Energy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9144000" cy="30830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fcfe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84840" y="961920"/>
            <a:ext cx="16016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fafd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&lt;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733840" y="3260880"/>
            <a:ext cx="4189320" cy="3103560"/>
            <a:chOff x="2733840" y="3260880"/>
            <a:chExt cx="4189320" cy="3103560"/>
          </a:xfrm>
        </p:grpSpPr>
        <p:pic>
          <p:nvPicPr>
            <p:cNvPr id="382" name="" descr=""/>
            <p:cNvPicPr/>
            <p:nvPr/>
          </p:nvPicPr>
          <p:blipFill>
            <a:blip r:embed="rId1"/>
            <a:srcRect l="7773" t="3874" r="5606" b="5499"/>
            <a:stretch/>
          </p:blipFill>
          <p:spPr>
            <a:xfrm>
              <a:off x="2733840" y="3260880"/>
              <a:ext cx="4189320" cy="31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3152880" y="3929400"/>
              <a:ext cx="141480" cy="152280"/>
            </a:xfrm>
            <a:prstGeom prst="ellipse">
              <a:avLst/>
            </a:prstGeom>
            <a:solidFill>
              <a:srgbClr val="00ff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80000" y="3946680"/>
              <a:ext cx="142920" cy="152640"/>
            </a:xfrm>
            <a:prstGeom prst="ellipse">
              <a:avLst/>
            </a:prstGeom>
            <a:solidFill>
              <a:srgbClr val="fafd00"/>
            </a:solidFill>
            <a:ln w="381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42280" y="3532320"/>
              <a:ext cx="40032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55000" y="3548160"/>
              <a:ext cx="383400" cy="423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787320" y="1044720"/>
            <a:ext cx="32148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electric potential at point 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0240" y="0"/>
            <a:ext cx="8050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fd00"/>
                </a:solidFill>
                <a:latin typeface="Arial"/>
              </a:rPr>
              <a:t>ConcepTest 16.3a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lectric Potential I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2-12T15:55:06Z</dcterms:created>
  <dc:creator>C. Bennhold and J. Feldman</dc:creator>
  <dc:description/>
  <dc:language>en-US</dc:language>
  <cp:lastModifiedBy>The Evergreen State College</cp:lastModifiedBy>
  <cp:lastPrinted>2002-01-23T16:08:46Z</cp:lastPrinted>
  <dcterms:modified xsi:type="dcterms:W3CDTF">2009-07-14T15:49:10Z</dcterms:modified>
  <cp:revision>21559</cp:revision>
  <dc:subject/>
  <dc:title>Chap. 17 Conceptual Modules Giancoli</dc:title>
</cp:coreProperties>
</file>