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8BF-5D1B-4B88-AFE0-D64148F11D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09932C1E-32C4-4F22-89DB-60DD00B5E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06D6-6BDA-4B65-ADCC-6C74DADDA7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0FA-FAF1-4B07-A778-36670A7AE3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projectile with a given initial speed, the maximum range is ideally attained with a projection of 45° (no air resistance). For projection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and below 45°, the range is shorter, and it is equal for angles equally different from 45° (for example, 30° and 60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6255-8080-4469-93CB-BCE3C89D48A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locity components of the ball are shown for various times. (Directions are indicated by signs, with the + sign being omitted as conventionally understood.) Not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0 at the top of the arc, or 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The ran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maximum horizontal distance,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Notice that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 Why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685-08FF-4DD3-8F7F-58B029EA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5FE-C109-44CC-8BC8-EFC89B9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AD5-3137-4E52-B25C-216DC35B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F11-26C4-4477-9842-4C9E2E35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42C5-13FA-480B-9F40-6882095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A6C-810A-49FC-B24C-0A15AD3A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405-C911-45DA-BA95-DB72599A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34B-8F2F-488E-B54C-9C49B7E9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CC5-9BD6-4D4D-B9C2-1A47E7F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2BF-BCB8-476D-8ECF-FE298CA7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328-514F-420D-84C8-3846ED09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AB9-6F6F-4835-817C-5F6DE844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C2A6-8203-4E8B-B362-71421004A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9800" y="0"/>
            <a:ext cx="5857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62440" y="483840"/>
            <a:ext cx="2214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Figure 3-10</a:t>
            </a:r>
            <a:br>
              <a:rPr sz="1600"/>
            </a:b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Horizontal projection</a:t>
            </a:r>
            <a:endParaRPr b="1" lang="en-US" sz="1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480" y="3506760"/>
            <a:ext cx="5837040" cy="2606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1640" y="1246320"/>
            <a:ext cx="4289400" cy="54288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46360"/>
            <a:ext cx="5742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marL="373320" indent="-3733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balls have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am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they hit the ground (since they are both acted on by gravity for the same time).   However, the “fired” ball also h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locity.  When you add the two components vectorially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fired” ball has a larger net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it hits the grou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22841" t="0" r="12101" b="0"/>
          <a:stretch/>
        </p:blipFill>
        <p:spPr>
          <a:xfrm>
            <a:off x="6045120" y="3560760"/>
            <a:ext cx="3098880" cy="246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1080" y="6053040"/>
            <a:ext cx="6743880" cy="8049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you have to do to have them both reach the same final velocity at ground leve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693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6520" y="851040"/>
            <a:ext cx="378468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jectile is launched from the ground at an angle of 3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 At what point in its trajectory does this projectile have the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leas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peed?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9800" y="733320"/>
            <a:ext cx="48942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just after it is laun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at the highest point in its fl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just before it hits the grou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halfway between the ground and the highest poi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speed is always const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0" y="1150920"/>
            <a:ext cx="5172120" cy="6253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360" y="3862440"/>
            <a:ext cx="3952800" cy="2509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160" y="3860640"/>
            <a:ext cx="390528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341280" indent="-3412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ed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mall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highest po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its flight path because the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-component of the velocity is 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2396" t="17485" r="3180" b="9625"/>
          <a:stretch/>
        </p:blipFill>
        <p:spPr>
          <a:xfrm>
            <a:off x="4572000" y="3875040"/>
            <a:ext cx="4286160" cy="254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33480" y="0"/>
            <a:ext cx="7513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56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7040" y="826920"/>
            <a:ext cx="22813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3 punts has the longest hang ti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474640" y="1131840"/>
            <a:ext cx="6269400" cy="5188680"/>
            <a:chOff x="2474640" y="1131840"/>
            <a:chExt cx="6269400" cy="5188680"/>
          </a:xfrm>
        </p:grpSpPr>
        <p:sp>
          <p:nvSpPr>
            <p:cNvPr id="172" name=""/>
            <p:cNvSpPr/>
            <p:nvPr/>
          </p:nvSpPr>
          <p:spPr>
            <a:xfrm>
              <a:off x="3389040" y="2951280"/>
              <a:ext cx="392508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4)  all have the same hang ti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474640" y="1131840"/>
              <a:ext cx="6269400" cy="5188680"/>
              <a:chOff x="2474640" y="1131840"/>
              <a:chExt cx="6269400" cy="5188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55720" y="1971720"/>
                <a:ext cx="395280" cy="44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2587320" y="1157400"/>
                <a:ext cx="5989320" cy="380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5" y="5404"/>
                    </a:moveTo>
                    <a:arcTo wR="10800" hR="10800" stAng="-9001454" swAng="78559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5" y="5404"/>
                    </a:moveTo>
                    <a:arcTo wR="10800" hR="10800" stAng="-9001454" swAng="7855945"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5504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2352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217360" y="2498760"/>
                <a:ext cx="354600" cy="45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ff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85880" y="2430360"/>
                <a:ext cx="6158160" cy="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209680" y="1889640"/>
                <a:ext cx="2714040" cy="124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342" y="597"/>
                    </a:moveTo>
                    <a:arcTo wR="10800" hR="10800" stAng="-4251294" swAng="94229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342" y="597"/>
                    </a:moveTo>
                    <a:arcTo wR="10800" hR="10800" stAng="-4251294" swAng="9422955"/>
                  </a:path>
                </a:pathLst>
              </a:custGeom>
              <a:noFill/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1905840" y="1734120"/>
                <a:ext cx="5155200" cy="4017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904" y="2665"/>
                    </a:moveTo>
                    <a:arcTo wR="10800" hR="10800" stAng="-2932339" swAng="65078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904" y="2665"/>
                    </a:moveTo>
                    <a:arcTo wR="10800" hR="10800" stAng="-2932339" swAng="6507847"/>
                  </a:path>
                </a:pathLst>
              </a:custGeom>
              <a:noFill/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16080" y="1131840"/>
                <a:ext cx="5715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670960" y="1150920"/>
                <a:ext cx="0" cy="12304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3200" y="1503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3035160" y="2828880"/>
            <a:ext cx="4938840" cy="61452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6760" y="3670200"/>
            <a:ext cx="7162920" cy="1773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3960" y="3675240"/>
            <a:ext cx="7334280" cy="21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in the air is determined by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rtical mo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  Since all of the punts reach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h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y all stay in the air for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5480" y="586440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one had the greater initial veloci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7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unt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191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195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259280" y="3552840"/>
            <a:ext cx="7884720" cy="4005000"/>
            <a:chOff x="1259280" y="3552840"/>
            <a:chExt cx="7884720" cy="4005000"/>
          </a:xfrm>
        </p:grpSpPr>
        <p:sp>
          <p:nvSpPr>
            <p:cNvPr id="213" name=""/>
            <p:cNvSpPr/>
            <p:nvPr/>
          </p:nvSpPr>
          <p:spPr>
            <a:xfrm>
              <a:off x="3478320" y="3552840"/>
              <a:ext cx="5665680" cy="23097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75800" y="5665680"/>
              <a:ext cx="3718440" cy="0"/>
            </a:xfrm>
            <a:prstGeom prst="line">
              <a:avLst/>
            </a:prstGeom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638160" y="3717720"/>
              <a:ext cx="580680" cy="339480"/>
              <a:chOff x="3638160" y="3717720"/>
              <a:chExt cx="580680" cy="3394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3638160" y="3717720"/>
                <a:ext cx="580680" cy="132480"/>
                <a:chOff x="3638160" y="3717720"/>
                <a:chExt cx="580680" cy="132480"/>
              </a:xfrm>
            </p:grpSpPr>
            <p:sp>
              <p:nvSpPr>
                <p:cNvPr id="217" name=""/>
                <p:cNvSpPr/>
                <p:nvPr/>
              </p:nvSpPr>
              <p:spPr>
                <a:xfrm rot="16203600">
                  <a:off x="3894840" y="3525840"/>
                  <a:ext cx="131760" cy="51588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13400 h 515880"/>
                    <a:gd name="textAreaBottom" fmla="*/ 402480 h 515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 rot="16203600">
                  <a:off x="3604320" y="3751200"/>
                  <a:ext cx="131760" cy="64440"/>
                </a:xfrm>
                <a:custGeom>
                  <a:avLst/>
                  <a:gdLst>
                    <a:gd name="textAreaLeft" fmla="*/ 28800 w 131760"/>
                    <a:gd name="textAreaRight" fmla="*/ 102960 w 131760"/>
                    <a:gd name="textAreaTop" fmla="*/ 14040 h 64440"/>
                    <a:gd name="textAreaBottom" fmla="*/ 50400 h 64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28440">
                  <a:solidFill>
                    <a:srgbClr val="80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 flipV="1">
                <a:off x="3767760" y="3785760"/>
                <a:ext cx="291240" cy="271440"/>
              </a:xfrm>
              <a:custGeom>
                <a:avLst/>
                <a:gdLst>
                  <a:gd name="textAreaLeft" fmla="*/ 64080 w 291240"/>
                  <a:gd name="textAreaRight" fmla="*/ 227160 w 291240"/>
                  <a:gd name="textAreaTop" fmla="*/ 59760 h 271440"/>
                  <a:gd name="textAreaBottom" fmla="*/ 211680 h 2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28440">
                <a:solidFill>
                  <a:srgbClr val="80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3758400" y="4072320"/>
              <a:ext cx="1545120" cy="1600920"/>
            </a:xfrm>
            <a:custGeom>
              <a:avLst/>
              <a:gdLst/>
              <a:ahLst/>
              <a:rect l="l" t="t" r="r" b="b"/>
              <a:pathLst>
                <a:path w="1147" h="1202">
                  <a:moveTo>
                    <a:pt x="1127" y="1200"/>
                  </a:moveTo>
                  <a:cubicBezTo>
                    <a:pt x="751" y="1200"/>
                    <a:pt x="376" y="1200"/>
                    <a:pt x="0" y="1200"/>
                  </a:cubicBezTo>
                  <a:lnTo>
                    <a:pt x="0" y="0"/>
                  </a:lnTo>
                  <a:cubicBezTo>
                    <a:pt x="97" y="9"/>
                    <a:pt x="161" y="1"/>
                    <a:pt x="293" y="5"/>
                  </a:cubicBezTo>
                  <a:cubicBezTo>
                    <a:pt x="305" y="8"/>
                    <a:pt x="295" y="53"/>
                    <a:pt x="300" y="64"/>
                  </a:cubicBezTo>
                  <a:cubicBezTo>
                    <a:pt x="312" y="92"/>
                    <a:pt x="321" y="93"/>
                    <a:pt x="345" y="109"/>
                  </a:cubicBezTo>
                  <a:cubicBezTo>
                    <a:pt x="395" y="187"/>
                    <a:pt x="334" y="96"/>
                    <a:pt x="382" y="155"/>
                  </a:cubicBezTo>
                  <a:cubicBezTo>
                    <a:pt x="451" y="239"/>
                    <a:pt x="356" y="129"/>
                    <a:pt x="409" y="209"/>
                  </a:cubicBezTo>
                  <a:cubicBezTo>
                    <a:pt x="430" y="242"/>
                    <a:pt x="465" y="253"/>
                    <a:pt x="500" y="264"/>
                  </a:cubicBezTo>
                  <a:cubicBezTo>
                    <a:pt x="527" y="305"/>
                    <a:pt x="560" y="340"/>
                    <a:pt x="582" y="382"/>
                  </a:cubicBezTo>
                  <a:cubicBezTo>
                    <a:pt x="602" y="464"/>
                    <a:pt x="592" y="462"/>
                    <a:pt x="663" y="509"/>
                  </a:cubicBezTo>
                  <a:cubicBezTo>
                    <a:pt x="692" y="627"/>
                    <a:pt x="642" y="721"/>
                    <a:pt x="782" y="755"/>
                  </a:cubicBezTo>
                  <a:cubicBezTo>
                    <a:pt x="794" y="761"/>
                    <a:pt x="805" y="768"/>
                    <a:pt x="818" y="773"/>
                  </a:cubicBezTo>
                  <a:cubicBezTo>
                    <a:pt x="830" y="777"/>
                    <a:pt x="844" y="775"/>
                    <a:pt x="854" y="782"/>
                  </a:cubicBezTo>
                  <a:cubicBezTo>
                    <a:pt x="875" y="797"/>
                    <a:pt x="909" y="837"/>
                    <a:pt x="909" y="837"/>
                  </a:cubicBezTo>
                  <a:cubicBezTo>
                    <a:pt x="934" y="911"/>
                    <a:pt x="952" y="929"/>
                    <a:pt x="1018" y="973"/>
                  </a:cubicBezTo>
                  <a:cubicBezTo>
                    <a:pt x="1033" y="994"/>
                    <a:pt x="1048" y="1016"/>
                    <a:pt x="1063" y="1037"/>
                  </a:cubicBezTo>
                  <a:cubicBezTo>
                    <a:pt x="1075" y="1054"/>
                    <a:pt x="1067" y="1079"/>
                    <a:pt x="1072" y="1100"/>
                  </a:cubicBezTo>
                  <a:cubicBezTo>
                    <a:pt x="1086" y="1160"/>
                    <a:pt x="1080" y="1147"/>
                    <a:pt x="1118" y="1173"/>
                  </a:cubicBezTo>
                  <a:cubicBezTo>
                    <a:pt x="1138" y="1202"/>
                    <a:pt x="1147" y="1200"/>
                    <a:pt x="1127" y="1200"/>
                  </a:cubicBezTo>
                  <a:close/>
                </a:path>
              </a:pathLst>
            </a:custGeom>
            <a:solidFill>
              <a:srgbClr val="cc9900"/>
            </a:solidFill>
            <a:ln w="3816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33960" y="3780360"/>
              <a:ext cx="1298520" cy="1864800"/>
            </a:xfrm>
            <a:custGeom>
              <a:avLst/>
              <a:gdLst/>
              <a:ahLst/>
              <a:rect l="l" t="t" r="r" b="b"/>
              <a:pathLst>
                <a:path w="964" h="1400">
                  <a:moveTo>
                    <a:pt x="0" y="0"/>
                  </a:moveTo>
                  <a:cubicBezTo>
                    <a:pt x="26" y="4"/>
                    <a:pt x="52" y="8"/>
                    <a:pt x="84" y="20"/>
                  </a:cubicBezTo>
                  <a:cubicBezTo>
                    <a:pt x="116" y="32"/>
                    <a:pt x="158" y="52"/>
                    <a:pt x="192" y="72"/>
                  </a:cubicBezTo>
                  <a:cubicBezTo>
                    <a:pt x="226" y="92"/>
                    <a:pt x="251" y="109"/>
                    <a:pt x="288" y="140"/>
                  </a:cubicBezTo>
                  <a:cubicBezTo>
                    <a:pt x="325" y="171"/>
                    <a:pt x="369" y="209"/>
                    <a:pt x="412" y="256"/>
                  </a:cubicBezTo>
                  <a:cubicBezTo>
                    <a:pt x="455" y="303"/>
                    <a:pt x="510" y="370"/>
                    <a:pt x="548" y="424"/>
                  </a:cubicBezTo>
                  <a:cubicBezTo>
                    <a:pt x="586" y="478"/>
                    <a:pt x="605" y="515"/>
                    <a:pt x="640" y="580"/>
                  </a:cubicBezTo>
                  <a:cubicBezTo>
                    <a:pt x="675" y="645"/>
                    <a:pt x="723" y="741"/>
                    <a:pt x="756" y="812"/>
                  </a:cubicBezTo>
                  <a:cubicBezTo>
                    <a:pt x="789" y="883"/>
                    <a:pt x="811" y="941"/>
                    <a:pt x="836" y="1008"/>
                  </a:cubicBezTo>
                  <a:cubicBezTo>
                    <a:pt x="861" y="1075"/>
                    <a:pt x="887" y="1151"/>
                    <a:pt x="908" y="1216"/>
                  </a:cubicBezTo>
                  <a:cubicBezTo>
                    <a:pt x="929" y="1281"/>
                    <a:pt x="946" y="1340"/>
                    <a:pt x="964" y="1400"/>
                  </a:cubicBezTo>
                </a:path>
              </a:pathLst>
            </a:custGeom>
            <a:noFill/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33960" y="3780360"/>
              <a:ext cx="2980080" cy="1843560"/>
            </a:xfrm>
            <a:custGeom>
              <a:avLst/>
              <a:gdLst/>
              <a:ahLst/>
              <a:rect l="l" t="t" r="r" b="b"/>
              <a:pathLst>
                <a:path w="2212" h="1384">
                  <a:moveTo>
                    <a:pt x="0" y="0"/>
                  </a:moveTo>
                  <a:cubicBezTo>
                    <a:pt x="53" y="1"/>
                    <a:pt x="106" y="3"/>
                    <a:pt x="176" y="12"/>
                  </a:cubicBezTo>
                  <a:cubicBezTo>
                    <a:pt x="246" y="21"/>
                    <a:pt x="319" y="32"/>
                    <a:pt x="420" y="56"/>
                  </a:cubicBezTo>
                  <a:cubicBezTo>
                    <a:pt x="521" y="80"/>
                    <a:pt x="666" y="112"/>
                    <a:pt x="784" y="156"/>
                  </a:cubicBezTo>
                  <a:cubicBezTo>
                    <a:pt x="902" y="200"/>
                    <a:pt x="1021" y="260"/>
                    <a:pt x="1128" y="320"/>
                  </a:cubicBezTo>
                  <a:cubicBezTo>
                    <a:pt x="1235" y="380"/>
                    <a:pt x="1366" y="474"/>
                    <a:pt x="1428" y="516"/>
                  </a:cubicBezTo>
                  <a:cubicBezTo>
                    <a:pt x="1490" y="558"/>
                    <a:pt x="1435" y="514"/>
                    <a:pt x="1500" y="572"/>
                  </a:cubicBezTo>
                  <a:cubicBezTo>
                    <a:pt x="1565" y="630"/>
                    <a:pt x="1735" y="777"/>
                    <a:pt x="1820" y="864"/>
                  </a:cubicBezTo>
                  <a:cubicBezTo>
                    <a:pt x="1905" y="951"/>
                    <a:pt x="1957" y="1032"/>
                    <a:pt x="2008" y="1096"/>
                  </a:cubicBezTo>
                  <a:cubicBezTo>
                    <a:pt x="2059" y="1160"/>
                    <a:pt x="2094" y="1200"/>
                    <a:pt x="2128" y="1248"/>
                  </a:cubicBezTo>
                  <a:cubicBezTo>
                    <a:pt x="2162" y="1296"/>
                    <a:pt x="2187" y="1340"/>
                    <a:pt x="2212" y="1384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33960" y="3780360"/>
              <a:ext cx="4634640" cy="1848960"/>
            </a:xfrm>
            <a:custGeom>
              <a:avLst/>
              <a:gdLst/>
              <a:ahLst/>
              <a:rect l="l" t="t" r="r" b="b"/>
              <a:pathLst>
                <a:path w="3440" h="1388">
                  <a:moveTo>
                    <a:pt x="0" y="0"/>
                  </a:moveTo>
                  <a:cubicBezTo>
                    <a:pt x="174" y="3"/>
                    <a:pt x="349" y="6"/>
                    <a:pt x="540" y="28"/>
                  </a:cubicBezTo>
                  <a:cubicBezTo>
                    <a:pt x="731" y="50"/>
                    <a:pt x="950" y="86"/>
                    <a:pt x="1148" y="132"/>
                  </a:cubicBezTo>
                  <a:cubicBezTo>
                    <a:pt x="1346" y="178"/>
                    <a:pt x="1536" y="235"/>
                    <a:pt x="1728" y="304"/>
                  </a:cubicBezTo>
                  <a:cubicBezTo>
                    <a:pt x="1920" y="373"/>
                    <a:pt x="2129" y="463"/>
                    <a:pt x="2300" y="548"/>
                  </a:cubicBezTo>
                  <a:cubicBezTo>
                    <a:pt x="2471" y="633"/>
                    <a:pt x="2611" y="722"/>
                    <a:pt x="2752" y="816"/>
                  </a:cubicBezTo>
                  <a:cubicBezTo>
                    <a:pt x="2893" y="910"/>
                    <a:pt x="3029" y="1017"/>
                    <a:pt x="3144" y="1112"/>
                  </a:cubicBezTo>
                  <a:cubicBezTo>
                    <a:pt x="3259" y="1207"/>
                    <a:pt x="3349" y="1297"/>
                    <a:pt x="3440" y="1388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153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9148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5052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9280" y="3780360"/>
              <a:ext cx="5949360" cy="37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15600" y="4502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0" y="3321000"/>
            <a:ext cx="3336840" cy="2882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228600" y="3400560"/>
            <a:ext cx="3610080" cy="25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81600" indent="-38160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ll will spend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ore 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flight becaus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 With more time, it can travel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r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horizontal dir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1212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04880" y="863280"/>
            <a:ext cx="7972560" cy="19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a cannon on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rt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he cannonball would follow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path 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nstead, if the same cannon were on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Mo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 = 1.6 m/s</a:t>
            </a:r>
            <a:r>
              <a:rPr b="1" lang="en-US" sz="20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ich path would the cannonball take in the same situ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4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12120" y="4432320"/>
            <a:ext cx="1123920" cy="64116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3880" y="6357960"/>
            <a:ext cx="707724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ich path would it take in outer spa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3480" y="0"/>
            <a:ext cx="774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8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nnon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5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2138400"/>
            <a:ext cx="9144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Figure 3-11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rojection at an angle</a:t>
            </a:r>
            <a:endParaRPr b="1" lang="en-US" sz="1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693880"/>
            <a:ext cx="914400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3519360"/>
            <a:ext cx="3691080" cy="3281040"/>
            <a:chOff x="0" y="3519360"/>
            <a:chExt cx="3691080" cy="3281040"/>
          </a:xfrm>
        </p:grpSpPr>
        <p:sp>
          <p:nvSpPr>
            <p:cNvPr id="59" name=""/>
            <p:cNvSpPr/>
            <p:nvPr/>
          </p:nvSpPr>
          <p:spPr>
            <a:xfrm>
              <a:off x="0" y="3524040"/>
              <a:ext cx="3691080" cy="32763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200" y="3519360"/>
              <a:ext cx="3477960" cy="25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401760" indent="-40176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4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ring Balls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7160" y="764640"/>
            <a:ext cx="41781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mall cart is rolling a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velocity on a flat track.  It fires a ball straight up into the air as it moves.   After it is fired, what happens to the ba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4560" y="800280"/>
            <a:ext cx="478944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it depends on how fast the cart is mov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it falls behind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it falls in front of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it falls right back into the 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it remains at r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795840" y="4308480"/>
            <a:ext cx="5348160" cy="1836360"/>
            <a:chOff x="3795840" y="4308480"/>
            <a:chExt cx="5348160" cy="1836360"/>
          </a:xfrm>
        </p:grpSpPr>
        <p:grpSp>
          <p:nvGrpSpPr>
            <p:cNvPr id="66" name=""/>
            <p:cNvGrpSpPr/>
            <p:nvPr/>
          </p:nvGrpSpPr>
          <p:grpSpPr>
            <a:xfrm>
              <a:off x="3795840" y="4308480"/>
              <a:ext cx="5348160" cy="1836360"/>
              <a:chOff x="3795840" y="4308480"/>
              <a:chExt cx="5348160" cy="1836360"/>
            </a:xfrm>
          </p:grpSpPr>
          <p:grpSp>
            <p:nvGrpSpPr>
              <p:cNvPr id="67" name=""/>
              <p:cNvGrpSpPr/>
              <p:nvPr/>
            </p:nvGrpSpPr>
            <p:grpSpPr>
              <a:xfrm>
                <a:off x="3795840" y="4308480"/>
                <a:ext cx="2155320" cy="1834200"/>
                <a:chOff x="3795840" y="4308480"/>
                <a:chExt cx="2155320" cy="18342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3795840" y="4308480"/>
                  <a:ext cx="2155320" cy="17881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" name=""/>
                <p:cNvGrpSpPr/>
                <p:nvPr/>
              </p:nvGrpSpPr>
              <p:grpSpPr>
                <a:xfrm>
                  <a:off x="3996360" y="4488480"/>
                  <a:ext cx="1234800" cy="1654200"/>
                  <a:chOff x="3996360" y="4488480"/>
                  <a:chExt cx="1234800" cy="1654200"/>
                </a:xfrm>
              </p:grpSpPr>
              <p:grpSp>
                <p:nvGrpSpPr>
                  <p:cNvPr id="70" name=""/>
                  <p:cNvGrpSpPr/>
                  <p:nvPr/>
                </p:nvGrpSpPr>
                <p:grpSpPr>
                  <a:xfrm>
                    <a:off x="4304880" y="4488480"/>
                    <a:ext cx="637560" cy="865800"/>
                    <a:chOff x="4304880" y="4488480"/>
                    <a:chExt cx="637560" cy="865800"/>
                  </a:xfrm>
                </p:grpSpPr>
                <p:grpSp>
                  <p:nvGrpSpPr>
                    <p:cNvPr id="71" name=""/>
                    <p:cNvGrpSpPr/>
                    <p:nvPr/>
                  </p:nvGrpSpPr>
                  <p:grpSpPr>
                    <a:xfrm>
                      <a:off x="4587480" y="4488480"/>
                      <a:ext cx="100440" cy="605880"/>
                      <a:chOff x="4587480" y="4488480"/>
                      <a:chExt cx="100440" cy="605880"/>
                    </a:xfrm>
                  </p:grpSpPr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589640" y="4589640"/>
                        <a:ext cx="98280" cy="504720"/>
                        <a:chOff x="4589640" y="4589640"/>
                        <a:chExt cx="98280" cy="50472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 flipV="1">
                          <a:off x="458964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 flipV="1">
                          <a:off x="4687920" y="4589640"/>
                          <a:ext cx="0" cy="504720"/>
                        </a:xfrm>
                        <a:prstGeom prst="line">
                          <a:avLst/>
                        </a:prstGeom>
                        <a:ln w="28440">
                          <a:solidFill>
                            <a:srgbClr val="00ffff"/>
                          </a:solidFill>
                          <a:prstDash val="sysDot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" name=""/>
                      <p:cNvSpPr/>
                      <p:nvPr/>
                    </p:nvSpPr>
                    <p:spPr>
                      <a:xfrm>
                        <a:off x="4587480" y="4488480"/>
                        <a:ext cx="97920" cy="235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stroke="0" w="21600" h="21600">
                            <a:moveTo>
                              <a:pt x="0" y="10800"/>
                            </a:moveTo>
                            <a:arcTo wR="10800" hR="10800" stAng="10800000" swAng="10773457"/>
                            <a:lnTo>
                              <a:pt x="10800" y="10800"/>
                            </a:lnTo>
                            <a:close/>
                          </a:path>
                          <a:path fill="none" w="21600" h="21600">
                            <a:moveTo>
                              <a:pt x="0" y="10800"/>
                            </a:moveTo>
                            <a:arcTo wR="10800" hR="10800" stAng="10800000" swAng="10773457"/>
                          </a:path>
                        </a:pathLst>
                      </a:custGeom>
                      <a:noFill/>
                      <a:ln w="28440">
                        <a:solidFill>
                          <a:srgbClr val="00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4304880" y="5097240"/>
                      <a:ext cx="637560" cy="174600"/>
                    </a:xfrm>
                    <a:prstGeom prst="rect">
                      <a:avLst/>
                    </a:prstGeom>
                    <a:solidFill>
                      <a:srgbClr val="fc0128"/>
                    </a:solidFill>
                    <a:ln w="12600">
                      <a:solidFill>
                        <a:srgbClr val="000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4394520" y="5200200"/>
                      <a:ext cx="457920" cy="154080"/>
                      <a:chOff x="4394520" y="5200200"/>
                      <a:chExt cx="457920" cy="15408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439452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4717800" y="5200200"/>
                        <a:ext cx="134640" cy="154080"/>
                      </a:xfrm>
                      <a:prstGeom prst="ellipse">
                        <a:avLst/>
                      </a:prstGeom>
                      <a:solidFill>
                        <a:srgbClr val="b2b2b2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0" name=""/>
                  <p:cNvSpPr/>
                  <p:nvPr/>
                </p:nvSpPr>
                <p:spPr>
                  <a:xfrm>
                    <a:off x="3996360" y="5409360"/>
                    <a:ext cx="123480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trai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" name=""/>
              <p:cNvGrpSpPr/>
              <p:nvPr/>
            </p:nvGrpSpPr>
            <p:grpSpPr>
              <a:xfrm>
                <a:off x="5817600" y="4308480"/>
                <a:ext cx="3326400" cy="1836360"/>
                <a:chOff x="5817600" y="4308480"/>
                <a:chExt cx="3326400" cy="18363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817600" y="4308480"/>
                  <a:ext cx="3326400" cy="17920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" name=""/>
                <p:cNvGrpSpPr/>
                <p:nvPr/>
              </p:nvGrpSpPr>
              <p:grpSpPr>
                <a:xfrm>
                  <a:off x="6215040" y="4488840"/>
                  <a:ext cx="2658240" cy="1656000"/>
                  <a:chOff x="6215040" y="4488840"/>
                  <a:chExt cx="2658240" cy="1656000"/>
                </a:xfrm>
              </p:grpSpPr>
              <p:grpSp>
                <p:nvGrpSpPr>
                  <p:cNvPr id="84" name=""/>
                  <p:cNvGrpSpPr/>
                  <p:nvPr/>
                </p:nvGrpSpPr>
                <p:grpSpPr>
                  <a:xfrm>
                    <a:off x="6215040" y="4488840"/>
                    <a:ext cx="2658240" cy="887760"/>
                    <a:chOff x="6215040" y="4488840"/>
                    <a:chExt cx="2658240" cy="887760"/>
                  </a:xfrm>
                </p:grpSpPr>
                <p:grpSp>
                  <p:nvGrpSpPr>
                    <p:cNvPr id="85" name=""/>
                    <p:cNvGrpSpPr/>
                    <p:nvPr/>
                  </p:nvGrpSpPr>
                  <p:grpSpPr>
                    <a:xfrm>
                      <a:off x="6215040" y="5119560"/>
                      <a:ext cx="1026360" cy="257040"/>
                      <a:chOff x="6215040" y="5119560"/>
                      <a:chExt cx="1026360" cy="257040"/>
                    </a:xfrm>
                  </p:grpSpPr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6215040" y="5119560"/>
                        <a:ext cx="64476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" name=""/>
                      <p:cNvGrpSpPr/>
                      <p:nvPr/>
                    </p:nvGrpSpPr>
                    <p:grpSpPr>
                      <a:xfrm>
                        <a:off x="6305400" y="5222520"/>
                        <a:ext cx="463320" cy="154080"/>
                        <a:chOff x="6305400" y="5222520"/>
                        <a:chExt cx="463320" cy="154080"/>
                      </a:xfrm>
                    </p:grpSpPr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>
                          <a:off x="63054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663264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6870240" y="5207040"/>
                        <a:ext cx="3711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1" name=""/>
                    <p:cNvGrpSpPr/>
                    <p:nvPr/>
                  </p:nvGrpSpPr>
                  <p:grpSpPr>
                    <a:xfrm>
                      <a:off x="7846200" y="5119560"/>
                      <a:ext cx="1027080" cy="257040"/>
                      <a:chOff x="7846200" y="5119560"/>
                      <a:chExt cx="1027080" cy="257040"/>
                    </a:xfrm>
                  </p:grpSpPr>
                  <p:sp>
                    <p:nvSpPr>
                      <p:cNvPr id="92" name=""/>
                      <p:cNvSpPr/>
                      <p:nvPr/>
                    </p:nvSpPr>
                    <p:spPr>
                      <a:xfrm>
                        <a:off x="7846200" y="5119560"/>
                        <a:ext cx="645120" cy="174960"/>
                      </a:xfrm>
                      <a:prstGeom prst="rect">
                        <a:avLst/>
                      </a:prstGeom>
                      <a:solidFill>
                        <a:srgbClr val="fc0128"/>
                      </a:solidFill>
                      <a:ln w="12600">
                        <a:solidFill>
                          <a:srgbClr val="000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3" name=""/>
                      <p:cNvGrpSpPr/>
                      <p:nvPr/>
                    </p:nvGrpSpPr>
                    <p:grpSpPr>
                      <a:xfrm>
                        <a:off x="7936560" y="5222520"/>
                        <a:ext cx="463320" cy="154080"/>
                        <a:chOff x="7936560" y="5222520"/>
                        <a:chExt cx="463320" cy="154080"/>
                      </a:xfrm>
                    </p:grpSpPr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>
                          <a:off x="793656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>
                          <a:off x="8263800" y="5222520"/>
                          <a:ext cx="136080" cy="154080"/>
                        </a:xfrm>
                        <a:prstGeom prst="ellipse">
                          <a:avLst/>
                        </a:prstGeom>
                        <a:solidFill>
                          <a:srgbClr val="b2b2b2"/>
                        </a:solidFill>
                        <a:ln w="12600">
                          <a:solidFill>
                            <a:srgbClr val="00004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" name=""/>
                      <p:cNvSpPr/>
                      <p:nvPr/>
                    </p:nvSpPr>
                    <p:spPr>
                      <a:xfrm>
                        <a:off x="8501760" y="5207040"/>
                        <a:ext cx="3715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afd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48760" y="4488840"/>
                      <a:ext cx="1633680" cy="62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8" h="488">
                          <a:moveTo>
                            <a:pt x="0" y="484"/>
                          </a:moveTo>
                          <a:cubicBezTo>
                            <a:pt x="13" y="470"/>
                            <a:pt x="26" y="457"/>
                            <a:pt x="42" y="438"/>
                          </a:cubicBezTo>
                          <a:cubicBezTo>
                            <a:pt x="58" y="419"/>
                            <a:pt x="77" y="396"/>
                            <a:pt x="98" y="370"/>
                          </a:cubicBezTo>
                          <a:cubicBezTo>
                            <a:pt x="119" y="344"/>
                            <a:pt x="144" y="309"/>
                            <a:pt x="170" y="282"/>
                          </a:cubicBezTo>
                          <a:cubicBezTo>
                            <a:pt x="196" y="255"/>
                            <a:pt x="228" y="230"/>
                            <a:pt x="254" y="208"/>
                          </a:cubicBezTo>
                          <a:cubicBezTo>
                            <a:pt x="280" y="186"/>
                            <a:pt x="300" y="169"/>
                            <a:pt x="326" y="150"/>
                          </a:cubicBezTo>
                          <a:cubicBezTo>
                            <a:pt x="352" y="131"/>
                            <a:pt x="378" y="111"/>
                            <a:pt x="408" y="94"/>
                          </a:cubicBezTo>
                          <a:cubicBezTo>
                            <a:pt x="438" y="77"/>
                            <a:pt x="475" y="59"/>
                            <a:pt x="508" y="46"/>
                          </a:cubicBezTo>
                          <a:cubicBezTo>
                            <a:pt x="541" y="33"/>
                            <a:pt x="573" y="25"/>
                            <a:pt x="604" y="18"/>
                          </a:cubicBezTo>
                          <a:cubicBezTo>
                            <a:pt x="635" y="11"/>
                            <a:pt x="669" y="4"/>
                            <a:pt x="694" y="2"/>
                          </a:cubicBezTo>
                          <a:cubicBezTo>
                            <a:pt x="719" y="0"/>
                            <a:pt x="728" y="3"/>
                            <a:pt x="752" y="6"/>
                          </a:cubicBezTo>
                          <a:cubicBezTo>
                            <a:pt x="776" y="9"/>
                            <a:pt x="808" y="12"/>
                            <a:pt x="838" y="18"/>
                          </a:cubicBezTo>
                          <a:cubicBezTo>
                            <a:pt x="868" y="24"/>
                            <a:pt x="899" y="30"/>
                            <a:pt x="930" y="42"/>
                          </a:cubicBezTo>
                          <a:cubicBezTo>
                            <a:pt x="961" y="54"/>
                            <a:pt x="991" y="72"/>
                            <a:pt x="1024" y="92"/>
                          </a:cubicBezTo>
                          <a:cubicBezTo>
                            <a:pt x="1057" y="112"/>
                            <a:pt x="1099" y="140"/>
                            <a:pt x="1130" y="162"/>
                          </a:cubicBezTo>
                          <a:cubicBezTo>
                            <a:pt x="1161" y="184"/>
                            <a:pt x="1182" y="203"/>
                            <a:pt x="1208" y="226"/>
                          </a:cubicBezTo>
                          <a:cubicBezTo>
                            <a:pt x="1234" y="249"/>
                            <a:pt x="1259" y="272"/>
                            <a:pt x="1284" y="298"/>
                          </a:cubicBezTo>
                          <a:cubicBezTo>
                            <a:pt x="1309" y="324"/>
                            <a:pt x="1332" y="352"/>
                            <a:pt x="1358" y="384"/>
                          </a:cubicBezTo>
                          <a:cubicBezTo>
                            <a:pt x="1384" y="416"/>
                            <a:pt x="1411" y="452"/>
                            <a:pt x="1438" y="488"/>
                          </a:cubicBezTo>
                        </a:path>
                      </a:pathLst>
                    </a:custGeom>
                    <a:noFill/>
                    <a:ln w="38160">
                      <a:solidFill>
                        <a:srgbClr val="00ffff"/>
                      </a:solidFill>
                      <a:prstDash val="sysDot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8" name=""/>
                  <p:cNvSpPr/>
                  <p:nvPr/>
                </p:nvSpPr>
                <p:spPr>
                  <a:xfrm>
                    <a:off x="6829200" y="5411520"/>
                    <a:ext cx="1252080" cy="73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ff00"/>
                        </a:solidFill>
                        <a:latin typeface="Arial"/>
                      </a:rPr>
                      <a:t>when viewed from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groun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9" name=""/>
            <p:cNvSpPr/>
            <p:nvPr/>
          </p:nvSpPr>
          <p:spPr>
            <a:xfrm flipH="1">
              <a:off x="4609800" y="4460760"/>
              <a:ext cx="2962800" cy="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71360" y="3611520"/>
            <a:ext cx="34862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frame of reference of the cart, the ball only has a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er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onent of velocity.  So it goes up and comes back down.  To a ground observer, both the cart and the ball have th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same horizontal 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 ball still returns into the ca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11720" y="2428920"/>
            <a:ext cx="4400640" cy="5936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958320"/>
            <a:ext cx="378468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rop a package from a plane flying at constant speed in a straight line.  Without air resistance, the pack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3240" y="73332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quickly lag behind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remain vertically under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move ahead of the plane while fa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7440" indent="-39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not fall at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50189" b="0"/>
          <a:stretch/>
        </p:blipFill>
        <p:spPr>
          <a:xfrm>
            <a:off x="5106960" y="3556080"/>
            <a:ext cx="3774960" cy="2411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600360"/>
            <a:ext cx="5022720" cy="2454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23920" y="3705120"/>
            <a:ext cx="522144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34920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the plane and the package have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horizonta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veloc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moment of release.  They will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maint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is velocity in the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-dir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o they stay align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4360" y="1346040"/>
            <a:ext cx="4917960" cy="82260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2640" y="6357960"/>
            <a:ext cx="76867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would happen if air resistance were pres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6800" y="0"/>
            <a:ext cx="757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5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a Pack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95120" y="891720"/>
            <a:ext cx="3965760" cy="239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eigh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nd at the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on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ropp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other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ired horizontall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will hit the ground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2760" y="817560"/>
            <a:ext cx="453420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y both hit at the sam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f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it depends on the initial heigh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8320" y="1616040"/>
            <a:ext cx="4749840" cy="60804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000" y="3570120"/>
            <a:ext cx="8577000" cy="24368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840" y="3562200"/>
            <a:ext cx="85248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of the balls are falling vertically under the influence of gravity.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hey both fall from the same heigh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refore, they will hit the ground at the same tim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fact that one is moving horizontally is irrelevant – remember tha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tions are completely independent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9880" y="6168960"/>
            <a:ext cx="6743520" cy="50004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at also true if there is air resistan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33480" y="0"/>
            <a:ext cx="7162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3.6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Dropping the Ball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8840" y="1152360"/>
            <a:ext cx="3898800" cy="18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previous problem, which ball has the greater velocity at ground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18000" y="800280"/>
            <a:ext cx="434988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the “dropp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the “fired” b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ither – they both have the same velocity on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9520" indent="-389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how hard the ball was thr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1T17:20:44Z</dcterms:created>
  <dc:creator>C. Bennhold and J. Feldman</dc:creator>
  <dc:description/>
  <dc:language>en-US</dc:language>
  <cp:lastModifiedBy>The Evergreen State College</cp:lastModifiedBy>
  <cp:lastPrinted>1995-08-21T13:29:08Z</cp:lastPrinted>
  <dcterms:modified xsi:type="dcterms:W3CDTF">2008-06-24T05:10:29Z</dcterms:modified>
  <cp:revision>21129</cp:revision>
  <dc:subject/>
  <dc:title>Chap. 3 Conceptual Modules Fishbane</dc:title>
</cp:coreProperties>
</file>