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09B6-A036-4A50-83B2-F670EDD6A0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9288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2A3AA444-B157-4B0C-9B08-5B3F6E1F9C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2BD8-C949-49E1-93D5-47B663A4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9E2-FB84-4DAD-B047-193BDD6D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FECE-6210-44CC-AB3A-25B81C13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2C96-247A-4587-9BB7-FB2AAAA5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C94-30CF-413C-842A-AB7D99E9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6F3-96C8-4D54-842D-2C9BF99A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39D-EDA7-4E99-9191-377DEC91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8DC5-042D-45ED-929F-2204D28D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0A72-3CAD-4A0C-8765-598E9A88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78DA-A57E-4260-807D-7C81C36C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A84-42D5-4B05-9FED-9D9E5C5B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703-1287-472C-B5A5-D8CB2AA4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AF23-7AE3-4991-9E95-6539C2A767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751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349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1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eries Resisto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94320" y="3887640"/>
            <a:ext cx="4549680" cy="1724040"/>
            <a:chOff x="4594320" y="3887640"/>
            <a:chExt cx="4549680" cy="1724040"/>
          </a:xfrm>
        </p:grpSpPr>
        <p:sp>
          <p:nvSpPr>
            <p:cNvPr id="54" name=""/>
            <p:cNvSpPr/>
            <p:nvPr/>
          </p:nvSpPr>
          <p:spPr>
            <a:xfrm>
              <a:off x="4594320" y="3887640"/>
              <a:ext cx="4549680" cy="17240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22720" y="4143240"/>
              <a:ext cx="3692520" cy="8539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6481800" y="4032000"/>
              <a:ext cx="742680" cy="210960"/>
              <a:chOff x="6481800" y="4032000"/>
              <a:chExt cx="742680" cy="210960"/>
            </a:xfrm>
          </p:grpSpPr>
          <p:sp>
            <p:nvSpPr>
              <p:cNvPr id="57" name=""/>
              <p:cNvSpPr/>
              <p:nvPr/>
            </p:nvSpPr>
            <p:spPr>
              <a:xfrm>
                <a:off x="6537240" y="4063680"/>
                <a:ext cx="628560" cy="14616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43720" y="4063680"/>
                <a:ext cx="628560" cy="146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481800" y="4032000"/>
                <a:ext cx="742680" cy="21096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6750000" y="4803480"/>
              <a:ext cx="122400" cy="36828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9760" y="4803480"/>
              <a:ext cx="0" cy="368280"/>
            </a:xfrm>
            <a:prstGeom prst="line">
              <a:avLst/>
            </a:prstGeom>
            <a:ln w="95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00840" y="4660560"/>
              <a:ext cx="0" cy="6541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5257800" y="4032000"/>
              <a:ext cx="742680" cy="210960"/>
              <a:chOff x="5257800" y="4032000"/>
              <a:chExt cx="742680" cy="210960"/>
            </a:xfrm>
          </p:grpSpPr>
          <p:sp>
            <p:nvSpPr>
              <p:cNvPr id="64" name=""/>
              <p:cNvSpPr/>
              <p:nvPr/>
            </p:nvSpPr>
            <p:spPr>
              <a:xfrm>
                <a:off x="5313240" y="4063680"/>
                <a:ext cx="628560" cy="14616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19720" y="4063680"/>
                <a:ext cx="628560" cy="146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257800" y="4032000"/>
                <a:ext cx="742680" cy="21096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705800" y="4030560"/>
              <a:ext cx="742680" cy="210960"/>
              <a:chOff x="7705800" y="4030560"/>
              <a:chExt cx="742680" cy="210960"/>
            </a:xfrm>
          </p:grpSpPr>
          <p:sp>
            <p:nvSpPr>
              <p:cNvPr id="68" name=""/>
              <p:cNvSpPr/>
              <p:nvPr/>
            </p:nvSpPr>
            <p:spPr>
              <a:xfrm>
                <a:off x="7761240" y="4062240"/>
                <a:ext cx="628560" cy="14616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767720" y="4062240"/>
                <a:ext cx="628560" cy="146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705800" y="4030560"/>
                <a:ext cx="742680" cy="21096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6964560" y="511632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9 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32040"/>
            <a:ext cx="536256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at the voltage of the battery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at the three resistors ar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dentic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What is the potential difference across each resis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14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56080" y="760320"/>
            <a:ext cx="378792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4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you need to know the actual value o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6280" y="3822840"/>
            <a:ext cx="4846680" cy="1971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9160" y="3905280"/>
            <a:ext cx="49305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current divides based on the ratio of the resistances.  If one of the resistances is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zero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n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ALL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of the current will flow through that pat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3735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3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hort Circuit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84520" y="2405160"/>
            <a:ext cx="5559480" cy="6541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16242" t="0" r="15367" b="0"/>
          <a:stretch/>
        </p:blipFill>
        <p:spPr>
          <a:xfrm>
            <a:off x="5254560" y="3855960"/>
            <a:ext cx="3756240" cy="19130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098360"/>
            <a:ext cx="3641760" cy="192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flows through a lightbulb. If a wire is now connected across the bulb, what happe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78200" y="833400"/>
            <a:ext cx="536580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all the current continues to flow through the bul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half the current flows through the wire, the other half continues through the bul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all the current flows through the w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e of the abo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9080" y="6451560"/>
            <a:ext cx="820548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Doesn’t the wire have SOME resistanc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3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hort Circuit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-360" y="982800"/>
            <a:ext cx="39164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lightbulbs A and B are connected in series to a constant voltage source.  When a wire is connected across B, bulb A wi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87960" y="819000"/>
            <a:ext cx="485604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low brighter than bef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low just the same as bef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low dimmer than bef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go out complete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expl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556240" y="3605040"/>
          <a:ext cx="33228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6240" y="3605040"/>
                    <a:ext cx="33228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8760" y="3689280"/>
            <a:ext cx="5165640" cy="19242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753000"/>
            <a:ext cx="5275440" cy="17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bulb B is bypassed by the wire, th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otal resistance of the circuit decreas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is means that th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urrent through bulb A increas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3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hort Circuit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91040" y="884160"/>
            <a:ext cx="4416480" cy="566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-360" y="982800"/>
            <a:ext cx="3916440" cy="21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lightbulbs A and B are connected in series to a constant voltage source.  When a wire is connected across B, bulb A wi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87960" y="819000"/>
            <a:ext cx="485604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low brighter than bef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low just the same as bef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glow dimmer than bef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go out complete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expl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556240" y="3605040"/>
          <a:ext cx="33228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6240" y="3605040"/>
                    <a:ext cx="33228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0" y="6451560"/>
            <a:ext cx="584208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happens to bulb B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3052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4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ircuit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70560" y="716040"/>
            <a:ext cx="32558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ircuit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ircuit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it depends on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62080" y="725040"/>
            <a:ext cx="4983120" cy="216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ightbulbs in the circuit below are identical with the same resistanc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ich circuit produces more light?  (brightness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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pow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rcRect l="3739" t="8345" r="7119" b="9472"/>
          <a:stretch/>
        </p:blipFill>
        <p:spPr>
          <a:xfrm>
            <a:off x="4629240" y="3471840"/>
            <a:ext cx="45147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9144000" cy="3052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4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ircuit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76880" y="861840"/>
            <a:ext cx="2176560" cy="4557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0560" y="716040"/>
            <a:ext cx="32558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ircuit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circuit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it depends on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2080" y="725040"/>
            <a:ext cx="4983120" cy="216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ightbulbs in the circuit below are identical with the same resistanc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ich circuit produces more light?  (brightness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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pow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rcRect l="3739" t="8345" r="7119" b="9472"/>
          <a:stretch/>
        </p:blipFill>
        <p:spPr>
          <a:xfrm>
            <a:off x="4629240" y="3471840"/>
            <a:ext cx="4514760" cy="23320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0" y="3467160"/>
            <a:ext cx="4525920" cy="2448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142920" y="3595680"/>
            <a:ext cx="469116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In #1, the bulbs are i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parallel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lowering the total resistan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of the circuit.   Thus, circuit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#1 will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draw a higher curren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which leads to more light, because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 = I 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4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ircuit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32440" y="700200"/>
            <a:ext cx="321156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wice as mu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/2 as mu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1/4 as mu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4 times as mu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151680" y="3517920"/>
            <a:ext cx="2992320" cy="2832120"/>
            <a:chOff x="6151680" y="3517920"/>
            <a:chExt cx="2992320" cy="283212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rcRect l="17821" t="0" r="15925" b="0"/>
            <a:stretch/>
          </p:blipFill>
          <p:spPr>
            <a:xfrm>
              <a:off x="6151680" y="3525840"/>
              <a:ext cx="2992320" cy="28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7191360" y="5424480"/>
              <a:ext cx="889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40"/>
                  </a:solidFill>
                  <a:latin typeface="Arial"/>
                </a:rPr>
                <a:t>10 V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462080" y="3517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63400" y="438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89200" y="438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-360" y="874440"/>
            <a:ext cx="5683320" cy="22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hree lightbulbs in the circuit all have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ame resistance o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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By how much is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rightness of bulb B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reater or smaller than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rightness of bulb 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 (brightness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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pow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4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ircuit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32440" y="700200"/>
            <a:ext cx="3211560" cy="25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wice as mu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/2 as mu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1/4 as mu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4 times as mu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151680" y="3517920"/>
            <a:ext cx="2992320" cy="2832120"/>
            <a:chOff x="6151680" y="3517920"/>
            <a:chExt cx="2992320" cy="28321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rcRect l="17821" t="0" r="15925" b="0"/>
            <a:stretch/>
          </p:blipFill>
          <p:spPr>
            <a:xfrm>
              <a:off x="6151680" y="3525840"/>
              <a:ext cx="2992320" cy="28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191360" y="5424480"/>
              <a:ext cx="889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40"/>
                  </a:solidFill>
                  <a:latin typeface="Arial"/>
                </a:rPr>
                <a:t>10 V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62080" y="3517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63400" y="4387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89200" y="438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39680" y="4267080"/>
            <a:ext cx="5711760" cy="18288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" y="4307040"/>
            <a:ext cx="558828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We can use 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P = V</a:t>
            </a:r>
            <a:r>
              <a:rPr b="1" i="1" lang="en-US" sz="20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f00ff"/>
                </a:solidFill>
                <a:latin typeface="Arial"/>
              </a:rPr>
              <a:t>/R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o compare the power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= (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i="1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/R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(10 V) 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/1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= 100 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Arial"/>
              </a:rPr>
              <a:t>B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 = (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Arial"/>
              </a:rPr>
              <a:t>B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i="1" lang="en-US" sz="20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/R</a:t>
            </a:r>
            <a:r>
              <a:rPr b="1" i="1" lang="en-US" sz="2000" spc="-1" strike="noStrike" baseline="-25000">
                <a:solidFill>
                  <a:srgbClr val="ff33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= (5 V)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/1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= 25 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874440"/>
            <a:ext cx="5683320" cy="227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three lightbulbs in the circuit all have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ame resistance o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ff0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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By how much is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rightness of bulb B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reater or smaller than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rightness of bulb 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 (brightness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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pow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35520" y="2292480"/>
            <a:ext cx="2917800" cy="4554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6440400"/>
            <a:ext cx="651024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s the total current in the circui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9144000" cy="2782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5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ore Circuit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91320" y="917640"/>
            <a:ext cx="28987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r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y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96920" y="961920"/>
            <a:ext cx="4821120" cy="164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happens to the voltage across the resisto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en the switch is closed? The voltage wi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613480" y="3238560"/>
            <a:ext cx="3530520" cy="2544480"/>
            <a:chOff x="5613480" y="3238560"/>
            <a:chExt cx="3530520" cy="2544480"/>
          </a:xfrm>
        </p:grpSpPr>
        <p:sp>
          <p:nvSpPr>
            <p:cNvPr id="333" name=""/>
            <p:cNvSpPr/>
            <p:nvPr/>
          </p:nvSpPr>
          <p:spPr>
            <a:xfrm>
              <a:off x="5613480" y="3238560"/>
              <a:ext cx="3530520" cy="2544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45240" y="4478400"/>
              <a:ext cx="436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1" i="1" lang="en-US" sz="22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6200000">
              <a:off x="6615000" y="3705120"/>
              <a:ext cx="1509840" cy="1836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6200000">
              <a:off x="6388200" y="4533120"/>
              <a:ext cx="120600" cy="247680"/>
            </a:xfrm>
            <a:prstGeom prst="rect">
              <a:avLst/>
            </a:prstGeom>
            <a:solidFill>
              <a:srgbClr val="000040"/>
            </a:solidFill>
            <a:ln w="1908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23040" y="4746600"/>
              <a:ext cx="247680" cy="0"/>
            </a:xfrm>
            <a:prstGeom prst="line">
              <a:avLst/>
            </a:prstGeom>
            <a:ln w="95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26200" y="4566960"/>
              <a:ext cx="441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6764400" y="3770280"/>
              <a:ext cx="500040" cy="195120"/>
              <a:chOff x="6764400" y="3770280"/>
              <a:chExt cx="500040" cy="195120"/>
            </a:xfrm>
          </p:grpSpPr>
          <p:sp>
            <p:nvSpPr>
              <p:cNvPr id="340" name=""/>
              <p:cNvSpPr/>
              <p:nvPr/>
            </p:nvSpPr>
            <p:spPr>
              <a:xfrm>
                <a:off x="6801480" y="3799440"/>
                <a:ext cx="423000" cy="13500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805800" y="3799440"/>
                <a:ext cx="423000" cy="1350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64400" y="3770280"/>
                <a:ext cx="500040" cy="19512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804720" y="3367080"/>
              <a:ext cx="47196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dfca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dfca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293320" y="3886200"/>
              <a:ext cx="6120" cy="1479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8218440" y="4270320"/>
              <a:ext cx="142920" cy="682560"/>
              <a:chOff x="8218440" y="4270320"/>
              <a:chExt cx="142920" cy="682560"/>
            </a:xfrm>
          </p:grpSpPr>
          <p:sp>
            <p:nvSpPr>
              <p:cNvPr id="346" name=""/>
              <p:cNvSpPr/>
              <p:nvPr/>
            </p:nvSpPr>
            <p:spPr>
              <a:xfrm rot="16200000">
                <a:off x="8000280" y="4563720"/>
                <a:ext cx="577440" cy="9900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6200000">
                <a:off x="8000280" y="4557600"/>
                <a:ext cx="577440" cy="990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6200000">
                <a:off x="7948440" y="4539960"/>
                <a:ext cx="682560" cy="14292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8347680" y="4400280"/>
              <a:ext cx="47196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dfca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dfca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7678800" y="4401720"/>
              <a:ext cx="7920" cy="979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7613640" y="4603680"/>
              <a:ext cx="142920" cy="682560"/>
              <a:chOff x="7613640" y="4603680"/>
              <a:chExt cx="142920" cy="682560"/>
            </a:xfrm>
          </p:grpSpPr>
          <p:sp>
            <p:nvSpPr>
              <p:cNvPr id="352" name=""/>
              <p:cNvSpPr/>
              <p:nvPr/>
            </p:nvSpPr>
            <p:spPr>
              <a:xfrm rot="16200000">
                <a:off x="7395480" y="4897080"/>
                <a:ext cx="577440" cy="9900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6200000">
                <a:off x="7395480" y="4890960"/>
                <a:ext cx="577440" cy="990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6200000">
                <a:off x="7343640" y="4873320"/>
                <a:ext cx="682560" cy="14292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flipV="1">
              <a:off x="7672320" y="3860280"/>
              <a:ext cx="0" cy="19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7661520" y="4038120"/>
              <a:ext cx="182160" cy="248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50800" y="4779720"/>
              <a:ext cx="47196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dfca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dfca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45360" y="4089240"/>
              <a:ext cx="366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dfca"/>
                  </a:solidFill>
                  <a:latin typeface="Arial"/>
                </a:rPr>
                <a:t>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9144000" cy="2782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5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ore Circuit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72080" y="1058760"/>
            <a:ext cx="2131920" cy="4557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91320" y="917640"/>
            <a:ext cx="289872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r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y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6920" y="961920"/>
            <a:ext cx="4821120" cy="164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happens to the voltage across the resistor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en the switch is closed? The voltage wi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81080" y="3220920"/>
            <a:ext cx="5065560" cy="25336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267000"/>
            <a:ext cx="5191200" cy="23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With the switch closed, the addition of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o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decreases the equivalent resistan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so th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urrent from the battery increas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is will cause an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ncrease in the voltage across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66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613480" y="3238560"/>
            <a:ext cx="3530520" cy="2544480"/>
            <a:chOff x="5613480" y="3238560"/>
            <a:chExt cx="3530520" cy="2544480"/>
          </a:xfrm>
        </p:grpSpPr>
        <p:sp>
          <p:nvSpPr>
            <p:cNvPr id="369" name=""/>
            <p:cNvSpPr/>
            <p:nvPr/>
          </p:nvSpPr>
          <p:spPr>
            <a:xfrm>
              <a:off x="5613480" y="3238560"/>
              <a:ext cx="3530520" cy="2544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45240" y="4478400"/>
              <a:ext cx="436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1" i="1" lang="en-US" sz="22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6615000" y="3705120"/>
              <a:ext cx="1509840" cy="1836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6388200" y="4533120"/>
              <a:ext cx="120600" cy="247680"/>
            </a:xfrm>
            <a:prstGeom prst="rect">
              <a:avLst/>
            </a:prstGeom>
            <a:solidFill>
              <a:srgbClr val="000040"/>
            </a:solidFill>
            <a:ln w="1908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23040" y="4746600"/>
              <a:ext cx="247680" cy="0"/>
            </a:xfrm>
            <a:prstGeom prst="line">
              <a:avLst/>
            </a:prstGeom>
            <a:ln w="95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26200" y="4566960"/>
              <a:ext cx="441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6764400" y="3770280"/>
              <a:ext cx="500040" cy="195120"/>
              <a:chOff x="6764400" y="3770280"/>
              <a:chExt cx="500040" cy="195120"/>
            </a:xfrm>
          </p:grpSpPr>
          <p:sp>
            <p:nvSpPr>
              <p:cNvPr id="376" name=""/>
              <p:cNvSpPr/>
              <p:nvPr/>
            </p:nvSpPr>
            <p:spPr>
              <a:xfrm>
                <a:off x="6801480" y="3799440"/>
                <a:ext cx="423000" cy="13500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805800" y="3799440"/>
                <a:ext cx="423000" cy="1350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764400" y="3770280"/>
                <a:ext cx="500040" cy="19512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6804720" y="3367080"/>
              <a:ext cx="47196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dfca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dfca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293320" y="3886200"/>
              <a:ext cx="6120" cy="1479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8218440" y="4270320"/>
              <a:ext cx="142920" cy="682560"/>
              <a:chOff x="8218440" y="4270320"/>
              <a:chExt cx="142920" cy="682560"/>
            </a:xfrm>
          </p:grpSpPr>
          <p:sp>
            <p:nvSpPr>
              <p:cNvPr id="382" name=""/>
              <p:cNvSpPr/>
              <p:nvPr/>
            </p:nvSpPr>
            <p:spPr>
              <a:xfrm rot="16200000">
                <a:off x="8000280" y="4563720"/>
                <a:ext cx="577440" cy="9900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6200000">
                <a:off x="8000280" y="4557600"/>
                <a:ext cx="577440" cy="990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6200000">
                <a:off x="7948440" y="4539960"/>
                <a:ext cx="682560" cy="14292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8347680" y="4400280"/>
              <a:ext cx="47196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dfca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dfca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7678800" y="4401720"/>
              <a:ext cx="7920" cy="979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3640" y="4603680"/>
              <a:ext cx="142920" cy="682560"/>
              <a:chOff x="7613640" y="4603680"/>
              <a:chExt cx="142920" cy="682560"/>
            </a:xfrm>
          </p:grpSpPr>
          <p:sp>
            <p:nvSpPr>
              <p:cNvPr id="388" name=""/>
              <p:cNvSpPr/>
              <p:nvPr/>
            </p:nvSpPr>
            <p:spPr>
              <a:xfrm rot="16200000">
                <a:off x="7395480" y="4897080"/>
                <a:ext cx="577440" cy="9900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6200000">
                <a:off x="7395480" y="4890960"/>
                <a:ext cx="577440" cy="990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6200000">
                <a:off x="7343640" y="4873320"/>
                <a:ext cx="682560" cy="14292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flipV="1">
              <a:off x="7672320" y="3860280"/>
              <a:ext cx="0" cy="19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7661520" y="4038120"/>
              <a:ext cx="182160" cy="248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50800" y="4779720"/>
              <a:ext cx="47196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dfca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dfca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45360" y="4089240"/>
              <a:ext cx="366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dfca"/>
                  </a:solidFill>
                  <a:latin typeface="Arial"/>
                </a:rPr>
                <a:t>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692280" y="6149880"/>
            <a:ext cx="6823080" cy="44064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happens to the current through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5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ore Circuit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97480" y="1084320"/>
            <a:ext cx="27608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ys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4808520" y="3673440"/>
            <a:ext cx="4335480" cy="2544480"/>
            <a:chOff x="4808520" y="3673440"/>
            <a:chExt cx="4335480" cy="2544480"/>
          </a:xfrm>
        </p:grpSpPr>
        <p:sp>
          <p:nvSpPr>
            <p:cNvPr id="402" name=""/>
            <p:cNvSpPr/>
            <p:nvPr/>
          </p:nvSpPr>
          <p:spPr>
            <a:xfrm>
              <a:off x="4808520" y="3673440"/>
              <a:ext cx="4335480" cy="25444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40280" y="4913280"/>
              <a:ext cx="436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1" i="1" lang="en-US" sz="22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6200000">
              <a:off x="6162480" y="3787560"/>
              <a:ext cx="1509840" cy="254160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6200000">
              <a:off x="5583240" y="4968000"/>
              <a:ext cx="120600" cy="247680"/>
            </a:xfrm>
            <a:prstGeom prst="rect">
              <a:avLst/>
            </a:prstGeom>
            <a:solidFill>
              <a:srgbClr val="000040"/>
            </a:solidFill>
            <a:ln w="1908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18080" y="5181480"/>
              <a:ext cx="247680" cy="0"/>
            </a:xfrm>
            <a:prstGeom prst="line">
              <a:avLst/>
            </a:prstGeom>
            <a:ln w="95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21240" y="5001840"/>
              <a:ext cx="441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5959440" y="4205160"/>
              <a:ext cx="500040" cy="195120"/>
              <a:chOff x="5959440" y="4205160"/>
              <a:chExt cx="500040" cy="195120"/>
            </a:xfrm>
          </p:grpSpPr>
          <p:sp>
            <p:nvSpPr>
              <p:cNvPr id="409" name=""/>
              <p:cNvSpPr/>
              <p:nvPr/>
            </p:nvSpPr>
            <p:spPr>
              <a:xfrm>
                <a:off x="5996520" y="4234320"/>
                <a:ext cx="423000" cy="13500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000840" y="4234320"/>
                <a:ext cx="423000" cy="1350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59440" y="4205160"/>
                <a:ext cx="500040" cy="19512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5999760" y="3801960"/>
              <a:ext cx="47196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dfca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dfca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488360" y="4321080"/>
              <a:ext cx="6120" cy="1479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413480" y="4705200"/>
              <a:ext cx="142920" cy="682560"/>
              <a:chOff x="7413480" y="4705200"/>
              <a:chExt cx="142920" cy="682560"/>
            </a:xfrm>
          </p:grpSpPr>
          <p:sp>
            <p:nvSpPr>
              <p:cNvPr id="415" name=""/>
              <p:cNvSpPr/>
              <p:nvPr/>
            </p:nvSpPr>
            <p:spPr>
              <a:xfrm rot="16200000">
                <a:off x="7195320" y="4998600"/>
                <a:ext cx="577440" cy="9900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6200000">
                <a:off x="7195320" y="4992480"/>
                <a:ext cx="577440" cy="990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6200000">
                <a:off x="7143480" y="4974840"/>
                <a:ext cx="682560" cy="14292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8120160" y="4701960"/>
              <a:ext cx="141120" cy="682560"/>
              <a:chOff x="8120160" y="4701960"/>
              <a:chExt cx="141120" cy="682560"/>
            </a:xfrm>
          </p:grpSpPr>
          <p:sp>
            <p:nvSpPr>
              <p:cNvPr id="419" name=""/>
              <p:cNvSpPr/>
              <p:nvPr/>
            </p:nvSpPr>
            <p:spPr>
              <a:xfrm rot="16200000">
                <a:off x="7900920" y="4996080"/>
                <a:ext cx="577440" cy="9756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6200000">
                <a:off x="7900920" y="4989960"/>
                <a:ext cx="577440" cy="975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6200000">
                <a:off x="7849440" y="4972680"/>
                <a:ext cx="682560" cy="14112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7542720" y="4835160"/>
              <a:ext cx="47196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dfca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dfca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22120" y="4838400"/>
              <a:ext cx="47196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dfca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dfca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 flipV="1">
              <a:off x="6873840" y="4836600"/>
              <a:ext cx="7920" cy="979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6808680" y="5038560"/>
              <a:ext cx="142920" cy="682560"/>
              <a:chOff x="6808680" y="5038560"/>
              <a:chExt cx="142920" cy="682560"/>
            </a:xfrm>
          </p:grpSpPr>
          <p:sp>
            <p:nvSpPr>
              <p:cNvPr id="426" name=""/>
              <p:cNvSpPr/>
              <p:nvPr/>
            </p:nvSpPr>
            <p:spPr>
              <a:xfrm rot="16200000">
                <a:off x="6590520" y="5331960"/>
                <a:ext cx="577440" cy="9900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16200000">
                <a:off x="6590520" y="5325840"/>
                <a:ext cx="577440" cy="990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16200000">
                <a:off x="6538680" y="5308200"/>
                <a:ext cx="682560" cy="14292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 flipV="1">
              <a:off x="6867360" y="4295160"/>
              <a:ext cx="0" cy="195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flipV="1">
              <a:off x="6856560" y="4473000"/>
              <a:ext cx="182160" cy="248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45840" y="5214600"/>
              <a:ext cx="47196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dfca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dfca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40400" y="4524120"/>
              <a:ext cx="3664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dfca"/>
                  </a:solidFill>
                  <a:latin typeface="Arial"/>
                </a:rPr>
                <a:t>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1520" y="1293840"/>
            <a:ext cx="4473720" cy="152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happens to the voltage acros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sistor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en the switch is closed?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200" y="3379680"/>
            <a:ext cx="4543560" cy="2421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424320"/>
            <a:ext cx="4572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the resistors are all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qual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 voltage will drop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evenly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cross the 3 resistors, with 1/3 of 9 V across each one.  So we get a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 V drop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cross ea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3349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1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eries Resisto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33960" y="1711440"/>
            <a:ext cx="1839960" cy="4554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594320" y="3887640"/>
            <a:ext cx="4549680" cy="1724040"/>
            <a:chOff x="4594320" y="3887640"/>
            <a:chExt cx="4549680" cy="1724040"/>
          </a:xfrm>
        </p:grpSpPr>
        <p:sp>
          <p:nvSpPr>
            <p:cNvPr id="82" name=""/>
            <p:cNvSpPr/>
            <p:nvPr/>
          </p:nvSpPr>
          <p:spPr>
            <a:xfrm>
              <a:off x="4594320" y="3887640"/>
              <a:ext cx="4549680" cy="17240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2720" y="4143240"/>
              <a:ext cx="3692520" cy="8539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6481800" y="4032000"/>
              <a:ext cx="742680" cy="210960"/>
              <a:chOff x="6481800" y="4032000"/>
              <a:chExt cx="742680" cy="210960"/>
            </a:xfrm>
          </p:grpSpPr>
          <p:sp>
            <p:nvSpPr>
              <p:cNvPr id="85" name=""/>
              <p:cNvSpPr/>
              <p:nvPr/>
            </p:nvSpPr>
            <p:spPr>
              <a:xfrm>
                <a:off x="6537240" y="4063680"/>
                <a:ext cx="628560" cy="14616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543720" y="4063680"/>
                <a:ext cx="628560" cy="146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481800" y="4032000"/>
                <a:ext cx="742680" cy="21096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750000" y="4803480"/>
              <a:ext cx="122400" cy="368280"/>
            </a:xfrm>
            <a:prstGeom prst="rect">
              <a:avLst/>
            </a:prstGeom>
            <a:solidFill>
              <a:srgbClr val="000066"/>
            </a:solidFill>
            <a:ln w="1908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19760" y="4803480"/>
              <a:ext cx="0" cy="368280"/>
            </a:xfrm>
            <a:prstGeom prst="line">
              <a:avLst/>
            </a:prstGeom>
            <a:ln w="95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00840" y="4660560"/>
              <a:ext cx="0" cy="6541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5257800" y="4032000"/>
              <a:ext cx="742680" cy="210960"/>
              <a:chOff x="5257800" y="4032000"/>
              <a:chExt cx="742680" cy="210960"/>
            </a:xfrm>
          </p:grpSpPr>
          <p:sp>
            <p:nvSpPr>
              <p:cNvPr id="92" name=""/>
              <p:cNvSpPr/>
              <p:nvPr/>
            </p:nvSpPr>
            <p:spPr>
              <a:xfrm>
                <a:off x="5313240" y="4063680"/>
                <a:ext cx="628560" cy="14616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19720" y="4063680"/>
                <a:ext cx="628560" cy="146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57800" y="4032000"/>
                <a:ext cx="742680" cy="21096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7705800" y="4030560"/>
              <a:ext cx="742680" cy="210960"/>
              <a:chOff x="7705800" y="4030560"/>
              <a:chExt cx="742680" cy="210960"/>
            </a:xfrm>
          </p:grpSpPr>
          <p:sp>
            <p:nvSpPr>
              <p:cNvPr id="96" name=""/>
              <p:cNvSpPr/>
              <p:nvPr/>
            </p:nvSpPr>
            <p:spPr>
              <a:xfrm>
                <a:off x="7761240" y="4062240"/>
                <a:ext cx="628560" cy="14616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67720" y="4062240"/>
                <a:ext cx="628560" cy="146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05800" y="4030560"/>
                <a:ext cx="742680" cy="21096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6964560" y="511632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9 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32040"/>
            <a:ext cx="5362560" cy="209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at the voltage of the battery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9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at the three resistors ar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dentic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What is the potential difference across each resist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14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56080" y="760320"/>
            <a:ext cx="3787920" cy="25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4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you need to know the actual value o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2280" y="6146640"/>
            <a:ext cx="686916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would be the potential difference i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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45120" y="1665360"/>
            <a:ext cx="2539800" cy="4554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808520" y="3670200"/>
            <a:ext cx="4335480" cy="2591640"/>
            <a:chOff x="4808520" y="3670200"/>
            <a:chExt cx="4335480" cy="2591640"/>
          </a:xfrm>
        </p:grpSpPr>
        <p:grpSp>
          <p:nvGrpSpPr>
            <p:cNvPr id="439" name=""/>
            <p:cNvGrpSpPr/>
            <p:nvPr/>
          </p:nvGrpSpPr>
          <p:grpSpPr>
            <a:xfrm>
              <a:off x="4808520" y="3670200"/>
              <a:ext cx="4335480" cy="2544480"/>
              <a:chOff x="4808520" y="3670200"/>
              <a:chExt cx="4335480" cy="2544480"/>
            </a:xfrm>
          </p:grpSpPr>
          <p:sp>
            <p:nvSpPr>
              <p:cNvPr id="440" name=""/>
              <p:cNvSpPr/>
              <p:nvPr/>
            </p:nvSpPr>
            <p:spPr>
              <a:xfrm>
                <a:off x="4808520" y="3670200"/>
                <a:ext cx="4335480" cy="2544480"/>
              </a:xfrm>
              <a:prstGeom prst="rect">
                <a:avLst/>
              </a:prstGeom>
              <a:solidFill>
                <a:srgbClr val="000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940280" y="4910040"/>
                <a:ext cx="4366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ff00"/>
                    </a:solidFill>
                    <a:latin typeface="Arial"/>
                  </a:rPr>
                  <a:t> </a:t>
                </a:r>
                <a:r>
                  <a:rPr b="1" i="1" lang="en-US" sz="2200" spc="-1" strike="noStrike">
                    <a:solidFill>
                      <a:srgbClr val="00ff00"/>
                    </a:solidFill>
                    <a:latin typeface="Arial"/>
                  </a:rPr>
                  <a:t>V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6200000">
                <a:off x="6162480" y="3784320"/>
                <a:ext cx="1509840" cy="25416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6200000">
                <a:off x="5583240" y="4964760"/>
                <a:ext cx="120600" cy="247680"/>
              </a:xfrm>
              <a:prstGeom prst="rect">
                <a:avLst/>
              </a:prstGeom>
              <a:solidFill>
                <a:srgbClr val="000040"/>
              </a:solidFill>
              <a:ln w="1908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18080" y="5178240"/>
                <a:ext cx="247680" cy="0"/>
              </a:xfrm>
              <a:prstGeom prst="line">
                <a:avLst/>
              </a:prstGeom>
              <a:ln w="954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421240" y="4998600"/>
                <a:ext cx="441360" cy="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5959440" y="4201920"/>
                <a:ext cx="500040" cy="195120"/>
                <a:chOff x="5959440" y="4201920"/>
                <a:chExt cx="500040" cy="1951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996520" y="4231080"/>
                  <a:ext cx="423000" cy="135000"/>
                </a:xfrm>
                <a:prstGeom prst="rect">
                  <a:avLst/>
                </a:prstGeom>
                <a:solidFill>
                  <a:srgbClr val="0000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000840" y="4231080"/>
                  <a:ext cx="423000" cy="1350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959440" y="4201920"/>
                  <a:ext cx="500040" cy="195120"/>
                </a:xfrm>
                <a:custGeom>
                  <a:avLst/>
                  <a:gdLst/>
                  <a:ahLst/>
                  <a:rect l="l" t="t" r="r" b="b"/>
                  <a:pathLst>
                    <a:path w="1293" h="192">
                      <a:moveTo>
                        <a:pt x="0" y="95"/>
                      </a:moveTo>
                      <a:lnTo>
                        <a:pt x="78" y="95"/>
                      </a:lnTo>
                      <a:lnTo>
                        <a:pt x="166" y="0"/>
                      </a:lnTo>
                      <a:lnTo>
                        <a:pt x="356" y="192"/>
                      </a:lnTo>
                      <a:lnTo>
                        <a:pt x="552" y="2"/>
                      </a:lnTo>
                      <a:lnTo>
                        <a:pt x="742" y="192"/>
                      </a:lnTo>
                      <a:lnTo>
                        <a:pt x="932" y="2"/>
                      </a:lnTo>
                      <a:lnTo>
                        <a:pt x="1124" y="192"/>
                      </a:lnTo>
                      <a:lnTo>
                        <a:pt x="1209" y="95"/>
                      </a:lnTo>
                      <a:lnTo>
                        <a:pt x="1293" y="95"/>
                      </a:lnTo>
                    </a:path>
                  </a:pathLst>
                </a:custGeom>
                <a:noFill/>
                <a:ln w="381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5999760" y="3798720"/>
                <a:ext cx="471960" cy="43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dfca"/>
                    </a:solidFill>
                    <a:latin typeface="Arial"/>
                  </a:rPr>
                  <a:t>R</a:t>
                </a:r>
                <a:r>
                  <a:rPr b="1" i="1" lang="en-US" sz="2200" spc="-1" strike="noStrike" baseline="-25000">
                    <a:solidFill>
                      <a:srgbClr val="00dfca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7488360" y="4317840"/>
                <a:ext cx="6120" cy="1479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7413480" y="4701960"/>
                <a:ext cx="142920" cy="682560"/>
                <a:chOff x="7413480" y="4701960"/>
                <a:chExt cx="142920" cy="682560"/>
              </a:xfrm>
            </p:grpSpPr>
            <p:sp>
              <p:nvSpPr>
                <p:cNvPr id="453" name=""/>
                <p:cNvSpPr/>
                <p:nvPr/>
              </p:nvSpPr>
              <p:spPr>
                <a:xfrm rot="16200000">
                  <a:off x="7195320" y="4995360"/>
                  <a:ext cx="577440" cy="99000"/>
                </a:xfrm>
                <a:prstGeom prst="rect">
                  <a:avLst/>
                </a:prstGeom>
                <a:solidFill>
                  <a:srgbClr val="0000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16200000">
                  <a:off x="7195320" y="4989240"/>
                  <a:ext cx="577440" cy="990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16200000">
                  <a:off x="7143480" y="4971600"/>
                  <a:ext cx="682560" cy="142920"/>
                </a:xfrm>
                <a:custGeom>
                  <a:avLst/>
                  <a:gdLst/>
                  <a:ahLst/>
                  <a:rect l="l" t="t" r="r" b="b"/>
                  <a:pathLst>
                    <a:path w="1293" h="192">
                      <a:moveTo>
                        <a:pt x="0" y="95"/>
                      </a:moveTo>
                      <a:lnTo>
                        <a:pt x="78" y="95"/>
                      </a:lnTo>
                      <a:lnTo>
                        <a:pt x="166" y="0"/>
                      </a:lnTo>
                      <a:lnTo>
                        <a:pt x="356" y="192"/>
                      </a:lnTo>
                      <a:lnTo>
                        <a:pt x="552" y="2"/>
                      </a:lnTo>
                      <a:lnTo>
                        <a:pt x="742" y="192"/>
                      </a:lnTo>
                      <a:lnTo>
                        <a:pt x="932" y="2"/>
                      </a:lnTo>
                      <a:lnTo>
                        <a:pt x="1124" y="192"/>
                      </a:lnTo>
                      <a:lnTo>
                        <a:pt x="1209" y="95"/>
                      </a:lnTo>
                      <a:lnTo>
                        <a:pt x="1293" y="95"/>
                      </a:lnTo>
                    </a:path>
                  </a:pathLst>
                </a:custGeom>
                <a:noFill/>
                <a:ln w="381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8120160" y="4698720"/>
                <a:ext cx="141120" cy="682560"/>
                <a:chOff x="8120160" y="4698720"/>
                <a:chExt cx="141120" cy="682560"/>
              </a:xfrm>
            </p:grpSpPr>
            <p:sp>
              <p:nvSpPr>
                <p:cNvPr id="457" name=""/>
                <p:cNvSpPr/>
                <p:nvPr/>
              </p:nvSpPr>
              <p:spPr>
                <a:xfrm rot="16200000">
                  <a:off x="7900920" y="4992840"/>
                  <a:ext cx="577440" cy="97560"/>
                </a:xfrm>
                <a:prstGeom prst="rect">
                  <a:avLst/>
                </a:prstGeom>
                <a:solidFill>
                  <a:srgbClr val="0000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rot="16200000">
                  <a:off x="7900920" y="4986720"/>
                  <a:ext cx="577440" cy="975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rot="16200000">
                  <a:off x="7849440" y="4969440"/>
                  <a:ext cx="682560" cy="141120"/>
                </a:xfrm>
                <a:custGeom>
                  <a:avLst/>
                  <a:gdLst/>
                  <a:ahLst/>
                  <a:rect l="l" t="t" r="r" b="b"/>
                  <a:pathLst>
                    <a:path w="1293" h="192">
                      <a:moveTo>
                        <a:pt x="0" y="95"/>
                      </a:moveTo>
                      <a:lnTo>
                        <a:pt x="78" y="95"/>
                      </a:lnTo>
                      <a:lnTo>
                        <a:pt x="166" y="0"/>
                      </a:lnTo>
                      <a:lnTo>
                        <a:pt x="356" y="192"/>
                      </a:lnTo>
                      <a:lnTo>
                        <a:pt x="552" y="2"/>
                      </a:lnTo>
                      <a:lnTo>
                        <a:pt x="742" y="192"/>
                      </a:lnTo>
                      <a:lnTo>
                        <a:pt x="932" y="2"/>
                      </a:lnTo>
                      <a:lnTo>
                        <a:pt x="1124" y="192"/>
                      </a:lnTo>
                      <a:lnTo>
                        <a:pt x="1209" y="95"/>
                      </a:lnTo>
                      <a:lnTo>
                        <a:pt x="1293" y="95"/>
                      </a:lnTo>
                    </a:path>
                  </a:pathLst>
                </a:custGeom>
                <a:noFill/>
                <a:ln w="381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>
                <a:off x="7542720" y="4831920"/>
                <a:ext cx="471960" cy="43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dfca"/>
                    </a:solidFill>
                    <a:latin typeface="Arial"/>
                  </a:rPr>
                  <a:t>R</a:t>
                </a:r>
                <a:r>
                  <a:rPr b="1" i="1" lang="en-US" sz="2200" spc="-1" strike="noStrike" baseline="-25000">
                    <a:solidFill>
                      <a:srgbClr val="00dfca"/>
                    </a:solidFill>
                    <a:latin typeface="Arial"/>
                  </a:rPr>
                  <a:t>3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322120" y="4835160"/>
                <a:ext cx="471960" cy="43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dfca"/>
                    </a:solidFill>
                    <a:latin typeface="Arial"/>
                  </a:rPr>
                  <a:t>R</a:t>
                </a:r>
                <a:r>
                  <a:rPr b="1" i="1" lang="en-US" sz="2200" spc="-1" strike="noStrike" baseline="-25000">
                    <a:solidFill>
                      <a:srgbClr val="00dfca"/>
                    </a:solidFill>
                    <a:latin typeface="Arial"/>
                  </a:rPr>
                  <a:t>4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flipV="1">
                <a:off x="6873840" y="4833360"/>
                <a:ext cx="7920" cy="979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6808680" y="5035320"/>
                <a:ext cx="142920" cy="682560"/>
                <a:chOff x="6808680" y="5035320"/>
                <a:chExt cx="142920" cy="682560"/>
              </a:xfrm>
            </p:grpSpPr>
            <p:sp>
              <p:nvSpPr>
                <p:cNvPr id="464" name=""/>
                <p:cNvSpPr/>
                <p:nvPr/>
              </p:nvSpPr>
              <p:spPr>
                <a:xfrm rot="16200000">
                  <a:off x="6590520" y="5328720"/>
                  <a:ext cx="577440" cy="99000"/>
                </a:xfrm>
                <a:prstGeom prst="rect">
                  <a:avLst/>
                </a:prstGeom>
                <a:solidFill>
                  <a:srgbClr val="00008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rot="16200000">
                  <a:off x="6590520" y="5322600"/>
                  <a:ext cx="577440" cy="990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rot="16200000">
                  <a:off x="6538680" y="5304960"/>
                  <a:ext cx="682560" cy="142920"/>
                </a:xfrm>
                <a:custGeom>
                  <a:avLst/>
                  <a:gdLst/>
                  <a:ahLst/>
                  <a:rect l="l" t="t" r="r" b="b"/>
                  <a:pathLst>
                    <a:path w="1293" h="192">
                      <a:moveTo>
                        <a:pt x="0" y="95"/>
                      </a:moveTo>
                      <a:lnTo>
                        <a:pt x="78" y="95"/>
                      </a:lnTo>
                      <a:lnTo>
                        <a:pt x="166" y="0"/>
                      </a:lnTo>
                      <a:lnTo>
                        <a:pt x="356" y="192"/>
                      </a:lnTo>
                      <a:lnTo>
                        <a:pt x="552" y="2"/>
                      </a:lnTo>
                      <a:lnTo>
                        <a:pt x="742" y="192"/>
                      </a:lnTo>
                      <a:lnTo>
                        <a:pt x="932" y="2"/>
                      </a:lnTo>
                      <a:lnTo>
                        <a:pt x="1124" y="192"/>
                      </a:lnTo>
                      <a:lnTo>
                        <a:pt x="1209" y="95"/>
                      </a:lnTo>
                      <a:lnTo>
                        <a:pt x="1293" y="95"/>
                      </a:lnTo>
                    </a:path>
                  </a:pathLst>
                </a:custGeom>
                <a:noFill/>
                <a:ln w="381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 flipV="1">
                <a:off x="6867360" y="4291920"/>
                <a:ext cx="0" cy="195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 flipV="1">
                <a:off x="6856560" y="4469760"/>
                <a:ext cx="182160" cy="248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945840" y="5211360"/>
                <a:ext cx="471960" cy="43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dfca"/>
                    </a:solidFill>
                    <a:latin typeface="Arial"/>
                  </a:rPr>
                  <a:t>R</a:t>
                </a:r>
                <a:r>
                  <a:rPr b="1" i="1" lang="en-US" sz="2200" spc="-1" strike="noStrike" baseline="-25000">
                    <a:solidFill>
                      <a:srgbClr val="00dfca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440400" y="4520880"/>
                <a:ext cx="3664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dfca"/>
                    </a:solidFill>
                    <a:latin typeface="Arial"/>
                  </a:rPr>
                  <a:t>S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5543640" y="4233600"/>
              <a:ext cx="182520" cy="182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91480" y="4238640"/>
              <a:ext cx="1282680" cy="168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943680" y="5719680"/>
              <a:ext cx="1282680" cy="1681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81920" y="39211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305840" y="3859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63440" y="5802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0" y="3673440"/>
            <a:ext cx="4737240" cy="25322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780000"/>
            <a:ext cx="469116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We just saw that closing the switch cause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in the voltage across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(which is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).  The voltage of the battery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nstan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so if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increas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n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B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ust decreas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!</a:t>
            </a: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61520" y="1293840"/>
            <a:ext cx="4473720" cy="152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happens to the voltage acros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sistor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en the switch is closed?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397480" y="1084320"/>
            <a:ext cx="27608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ays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33240" y="0"/>
            <a:ext cx="805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5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ore Circuits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70120" y="6451560"/>
            <a:ext cx="6823080" cy="44064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happens to the current through R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0"/>
            <a:ext cx="9144000" cy="3193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ven More C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ircuit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1040" y="855720"/>
            <a:ext cx="418788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resistor has the greatest current going through it?  Assume that all the resistors are equ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040280" y="3970440"/>
            <a:ext cx="5103720" cy="1852560"/>
            <a:chOff x="4040280" y="3970440"/>
            <a:chExt cx="5103720" cy="1852560"/>
          </a:xfrm>
        </p:grpSpPr>
        <p:sp>
          <p:nvSpPr>
            <p:cNvPr id="489" name=""/>
            <p:cNvSpPr/>
            <p:nvPr/>
          </p:nvSpPr>
          <p:spPr>
            <a:xfrm>
              <a:off x="4040280" y="3970440"/>
              <a:ext cx="5103720" cy="18525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37840" y="4874040"/>
              <a:ext cx="436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16200000">
              <a:off x="4598640" y="4913640"/>
              <a:ext cx="87480" cy="178560"/>
            </a:xfrm>
            <a:prstGeom prst="rect">
              <a:avLst/>
            </a:prstGeom>
            <a:solidFill>
              <a:srgbClr val="000040"/>
            </a:solidFill>
            <a:ln w="1908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52560" y="5068080"/>
              <a:ext cx="178560" cy="0"/>
            </a:xfrm>
            <a:prstGeom prst="line">
              <a:avLst/>
            </a:prstGeom>
            <a:ln w="95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82360" y="4937760"/>
              <a:ext cx="3186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4915800" y="4128480"/>
              <a:ext cx="1107000" cy="1014840"/>
              <a:chOff x="4915800" y="4128480"/>
              <a:chExt cx="1107000" cy="1014840"/>
            </a:xfrm>
          </p:grpSpPr>
          <p:sp>
            <p:nvSpPr>
              <p:cNvPr id="495" name=""/>
              <p:cNvSpPr/>
              <p:nvPr/>
            </p:nvSpPr>
            <p:spPr>
              <a:xfrm rot="16200000">
                <a:off x="5233680" y="3870360"/>
                <a:ext cx="458640" cy="10944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4927320" y="4128480"/>
                <a:ext cx="1085760" cy="563400"/>
                <a:chOff x="4927320" y="4128480"/>
                <a:chExt cx="1085760" cy="563400"/>
              </a:xfrm>
            </p:grpSpPr>
            <p:sp>
              <p:nvSpPr>
                <p:cNvPr id="497" name=""/>
                <p:cNvSpPr/>
                <p:nvPr/>
              </p:nvSpPr>
              <p:spPr>
                <a:xfrm flipV="1">
                  <a:off x="4927320" y="4187160"/>
                  <a:ext cx="1085760" cy="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5190480" y="4128480"/>
                  <a:ext cx="492480" cy="104040"/>
                  <a:chOff x="5190480" y="4128480"/>
                  <a:chExt cx="492480" cy="10404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5227200" y="4143960"/>
                    <a:ext cx="416880" cy="72000"/>
                  </a:xfrm>
                  <a:prstGeom prst="rect">
                    <a:avLst/>
                  </a:prstGeom>
                  <a:solidFill>
                    <a:srgbClr val="0000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5231520" y="4143960"/>
                    <a:ext cx="416880" cy="72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5190480" y="4128480"/>
                    <a:ext cx="49248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3" h="192">
                        <a:moveTo>
                          <a:pt x="0" y="95"/>
                        </a:moveTo>
                        <a:lnTo>
                          <a:pt x="78" y="95"/>
                        </a:lnTo>
                        <a:lnTo>
                          <a:pt x="166" y="0"/>
                        </a:lnTo>
                        <a:lnTo>
                          <a:pt x="356" y="192"/>
                        </a:lnTo>
                        <a:lnTo>
                          <a:pt x="552" y="2"/>
                        </a:lnTo>
                        <a:lnTo>
                          <a:pt x="742" y="192"/>
                        </a:lnTo>
                        <a:lnTo>
                          <a:pt x="932" y="2"/>
                        </a:lnTo>
                        <a:lnTo>
                          <a:pt x="1124" y="192"/>
                        </a:lnTo>
                        <a:lnTo>
                          <a:pt x="1209" y="95"/>
                        </a:lnTo>
                        <a:lnTo>
                          <a:pt x="1293" y="95"/>
                        </a:lnTo>
                      </a:path>
                    </a:pathLst>
                  </a:custGeom>
                  <a:noFill/>
                  <a:ln w="381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 rot="72600">
                  <a:off x="5279400" y="4249800"/>
                  <a:ext cx="4719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dfca"/>
                      </a:solidFill>
                      <a:latin typeface="Arial"/>
                    </a:rPr>
                    <a:t>R</a:t>
                  </a:r>
                  <a:r>
                    <a:rPr b="1" lang="en-US" sz="2200" spc="-1" strike="noStrike" baseline="-25000">
                      <a:solidFill>
                        <a:srgbClr val="00dfca"/>
                      </a:solidFill>
                      <a:latin typeface="Arial"/>
                    </a:rPr>
                    <a:t>1</a:t>
                  </a:r>
                  <a:endParaRPr b="0" lang="en-US" sz="2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4936680" y="4581360"/>
                <a:ext cx="1086120" cy="561960"/>
                <a:chOff x="4936680" y="4581360"/>
                <a:chExt cx="1086120" cy="561960"/>
              </a:xfrm>
            </p:grpSpPr>
            <p:sp>
              <p:nvSpPr>
                <p:cNvPr id="504" name=""/>
                <p:cNvSpPr/>
                <p:nvPr/>
              </p:nvSpPr>
              <p:spPr>
                <a:xfrm flipV="1">
                  <a:off x="4936680" y="4640040"/>
                  <a:ext cx="1086120" cy="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5200560" y="4581360"/>
                  <a:ext cx="492480" cy="104040"/>
                  <a:chOff x="5200560" y="4581360"/>
                  <a:chExt cx="492480" cy="1040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5237280" y="4596840"/>
                    <a:ext cx="416880" cy="72000"/>
                  </a:xfrm>
                  <a:prstGeom prst="rect">
                    <a:avLst/>
                  </a:prstGeom>
                  <a:solidFill>
                    <a:srgbClr val="0000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5241600" y="4596840"/>
                    <a:ext cx="416880" cy="72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5200560" y="4581360"/>
                    <a:ext cx="49248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3" h="192">
                        <a:moveTo>
                          <a:pt x="0" y="95"/>
                        </a:moveTo>
                        <a:lnTo>
                          <a:pt x="78" y="95"/>
                        </a:lnTo>
                        <a:lnTo>
                          <a:pt x="166" y="0"/>
                        </a:lnTo>
                        <a:lnTo>
                          <a:pt x="356" y="192"/>
                        </a:lnTo>
                        <a:lnTo>
                          <a:pt x="552" y="2"/>
                        </a:lnTo>
                        <a:lnTo>
                          <a:pt x="742" y="192"/>
                        </a:lnTo>
                        <a:lnTo>
                          <a:pt x="932" y="2"/>
                        </a:lnTo>
                        <a:lnTo>
                          <a:pt x="1124" y="192"/>
                        </a:lnTo>
                        <a:lnTo>
                          <a:pt x="1209" y="95"/>
                        </a:lnTo>
                        <a:lnTo>
                          <a:pt x="1293" y="95"/>
                        </a:lnTo>
                      </a:path>
                    </a:pathLst>
                  </a:custGeom>
                  <a:noFill/>
                  <a:ln w="381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9" name=""/>
                <p:cNvSpPr/>
                <p:nvPr/>
              </p:nvSpPr>
              <p:spPr>
                <a:xfrm rot="72600">
                  <a:off x="5289840" y="4701240"/>
                  <a:ext cx="4719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dfca"/>
                      </a:solidFill>
                      <a:latin typeface="Arial"/>
                    </a:rPr>
                    <a:t>R</a:t>
                  </a:r>
                  <a:r>
                    <a:rPr b="1" lang="en-US" sz="2200" spc="-1" strike="noStrike" baseline="-25000">
                      <a:solidFill>
                        <a:srgbClr val="00dfca"/>
                      </a:solidFill>
                      <a:latin typeface="Arial"/>
                    </a:rPr>
                    <a:t>2</a:t>
                  </a:r>
                  <a:endParaRPr b="0" lang="en-US" sz="2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0" name=""/>
            <p:cNvGrpSpPr/>
            <p:nvPr/>
          </p:nvGrpSpPr>
          <p:grpSpPr>
            <a:xfrm>
              <a:off x="6687720" y="4099680"/>
              <a:ext cx="1960920" cy="1027440"/>
              <a:chOff x="6687720" y="4099680"/>
              <a:chExt cx="1960920" cy="1027440"/>
            </a:xfrm>
          </p:grpSpPr>
          <p:sp>
            <p:nvSpPr>
              <p:cNvPr id="511" name=""/>
              <p:cNvSpPr/>
              <p:nvPr/>
            </p:nvSpPr>
            <p:spPr>
              <a:xfrm rot="16200000">
                <a:off x="7439040" y="3411360"/>
                <a:ext cx="458280" cy="19609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6698880" y="4102920"/>
                <a:ext cx="1086480" cy="563400"/>
                <a:chOff x="6698880" y="4102920"/>
                <a:chExt cx="1086480" cy="563400"/>
              </a:xfrm>
            </p:grpSpPr>
            <p:sp>
              <p:nvSpPr>
                <p:cNvPr id="513" name=""/>
                <p:cNvSpPr/>
                <p:nvPr/>
              </p:nvSpPr>
              <p:spPr>
                <a:xfrm flipV="1">
                  <a:off x="6698880" y="4161600"/>
                  <a:ext cx="1086480" cy="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4" name=""/>
                <p:cNvGrpSpPr/>
                <p:nvPr/>
              </p:nvGrpSpPr>
              <p:grpSpPr>
                <a:xfrm>
                  <a:off x="6962400" y="4102920"/>
                  <a:ext cx="492840" cy="104040"/>
                  <a:chOff x="6962400" y="4102920"/>
                  <a:chExt cx="492840" cy="10404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>
                    <a:off x="6999120" y="4118400"/>
                    <a:ext cx="416880" cy="72000"/>
                  </a:xfrm>
                  <a:prstGeom prst="rect">
                    <a:avLst/>
                  </a:prstGeom>
                  <a:solidFill>
                    <a:srgbClr val="0000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7003440" y="4118400"/>
                    <a:ext cx="416880" cy="72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6962400" y="4102920"/>
                    <a:ext cx="49284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3" h="192">
                        <a:moveTo>
                          <a:pt x="0" y="95"/>
                        </a:moveTo>
                        <a:lnTo>
                          <a:pt x="78" y="95"/>
                        </a:lnTo>
                        <a:lnTo>
                          <a:pt x="166" y="0"/>
                        </a:lnTo>
                        <a:lnTo>
                          <a:pt x="356" y="192"/>
                        </a:lnTo>
                        <a:lnTo>
                          <a:pt x="552" y="2"/>
                        </a:lnTo>
                        <a:lnTo>
                          <a:pt x="742" y="192"/>
                        </a:lnTo>
                        <a:lnTo>
                          <a:pt x="932" y="2"/>
                        </a:lnTo>
                        <a:lnTo>
                          <a:pt x="1124" y="192"/>
                        </a:lnTo>
                        <a:lnTo>
                          <a:pt x="1209" y="95"/>
                        </a:lnTo>
                        <a:lnTo>
                          <a:pt x="1293" y="95"/>
                        </a:lnTo>
                      </a:path>
                    </a:pathLst>
                  </a:custGeom>
                  <a:noFill/>
                  <a:ln w="381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8" name=""/>
                <p:cNvSpPr/>
                <p:nvPr/>
              </p:nvSpPr>
              <p:spPr>
                <a:xfrm rot="72600">
                  <a:off x="7048080" y="4224240"/>
                  <a:ext cx="4719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dfca"/>
                      </a:solidFill>
                      <a:latin typeface="Arial"/>
                    </a:rPr>
                    <a:t>R</a:t>
                  </a:r>
                  <a:r>
                    <a:rPr b="1" lang="en-US" sz="2200" spc="-1" strike="noStrike" baseline="-25000">
                      <a:solidFill>
                        <a:srgbClr val="00dfca"/>
                      </a:solidFill>
                      <a:latin typeface="Arial"/>
                    </a:rPr>
                    <a:t>3</a:t>
                  </a:r>
                  <a:endParaRPr b="0" lang="en-US" sz="2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7244640" y="4565160"/>
                <a:ext cx="1086480" cy="561960"/>
                <a:chOff x="7244640" y="4565160"/>
                <a:chExt cx="1086480" cy="561960"/>
              </a:xfrm>
            </p:grpSpPr>
            <p:sp>
              <p:nvSpPr>
                <p:cNvPr id="520" name=""/>
                <p:cNvSpPr/>
                <p:nvPr/>
              </p:nvSpPr>
              <p:spPr>
                <a:xfrm flipV="1">
                  <a:off x="7244640" y="4623840"/>
                  <a:ext cx="1086480" cy="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7508160" y="4565160"/>
                  <a:ext cx="492840" cy="104040"/>
                  <a:chOff x="7508160" y="4565160"/>
                  <a:chExt cx="492840" cy="10404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7544880" y="4580640"/>
                    <a:ext cx="416880" cy="72000"/>
                  </a:xfrm>
                  <a:prstGeom prst="rect">
                    <a:avLst/>
                  </a:prstGeom>
                  <a:solidFill>
                    <a:srgbClr val="0000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549200" y="4580640"/>
                    <a:ext cx="416880" cy="72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7508160" y="4565160"/>
                    <a:ext cx="49284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3" h="192">
                        <a:moveTo>
                          <a:pt x="0" y="95"/>
                        </a:moveTo>
                        <a:lnTo>
                          <a:pt x="78" y="95"/>
                        </a:lnTo>
                        <a:lnTo>
                          <a:pt x="166" y="0"/>
                        </a:lnTo>
                        <a:lnTo>
                          <a:pt x="356" y="192"/>
                        </a:lnTo>
                        <a:lnTo>
                          <a:pt x="552" y="2"/>
                        </a:lnTo>
                        <a:lnTo>
                          <a:pt x="742" y="192"/>
                        </a:lnTo>
                        <a:lnTo>
                          <a:pt x="932" y="2"/>
                        </a:lnTo>
                        <a:lnTo>
                          <a:pt x="1124" y="192"/>
                        </a:lnTo>
                        <a:lnTo>
                          <a:pt x="1209" y="95"/>
                        </a:lnTo>
                        <a:lnTo>
                          <a:pt x="1293" y="95"/>
                        </a:lnTo>
                      </a:path>
                    </a:pathLst>
                  </a:custGeom>
                  <a:noFill/>
                  <a:ln w="381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5" name=""/>
                <p:cNvSpPr/>
                <p:nvPr/>
              </p:nvSpPr>
              <p:spPr>
                <a:xfrm rot="72600">
                  <a:off x="7596000" y="4685040"/>
                  <a:ext cx="4719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dfca"/>
                      </a:solidFill>
                      <a:latin typeface="Arial"/>
                    </a:rPr>
                    <a:t>R</a:t>
                  </a:r>
                  <a:r>
                    <a:rPr b="1" lang="en-US" sz="2200" spc="-1" strike="noStrike" baseline="-25000">
                      <a:solidFill>
                        <a:srgbClr val="00dfca"/>
                      </a:solidFill>
                      <a:latin typeface="Arial"/>
                    </a:rPr>
                    <a:t>5</a:t>
                  </a:r>
                  <a:endParaRPr b="0" lang="en-US" sz="2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7551720" y="4099680"/>
                <a:ext cx="1086480" cy="564120"/>
                <a:chOff x="7551720" y="4099680"/>
                <a:chExt cx="1086480" cy="564120"/>
              </a:xfrm>
            </p:grpSpPr>
            <p:sp>
              <p:nvSpPr>
                <p:cNvPr id="527" name=""/>
                <p:cNvSpPr/>
                <p:nvPr/>
              </p:nvSpPr>
              <p:spPr>
                <a:xfrm flipV="1">
                  <a:off x="7551720" y="4158360"/>
                  <a:ext cx="1086480" cy="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7815240" y="4099680"/>
                  <a:ext cx="492840" cy="103680"/>
                  <a:chOff x="7815240" y="4099680"/>
                  <a:chExt cx="492840" cy="10368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7851960" y="4115160"/>
                    <a:ext cx="416880" cy="71640"/>
                  </a:xfrm>
                  <a:prstGeom prst="rect">
                    <a:avLst/>
                  </a:prstGeom>
                  <a:solidFill>
                    <a:srgbClr val="0000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7856280" y="4115160"/>
                    <a:ext cx="416880" cy="7164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7815240" y="4099680"/>
                    <a:ext cx="49284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93" h="192">
                        <a:moveTo>
                          <a:pt x="0" y="95"/>
                        </a:moveTo>
                        <a:lnTo>
                          <a:pt x="78" y="95"/>
                        </a:lnTo>
                        <a:lnTo>
                          <a:pt x="166" y="0"/>
                        </a:lnTo>
                        <a:lnTo>
                          <a:pt x="356" y="192"/>
                        </a:lnTo>
                        <a:lnTo>
                          <a:pt x="552" y="2"/>
                        </a:lnTo>
                        <a:lnTo>
                          <a:pt x="742" y="192"/>
                        </a:lnTo>
                        <a:lnTo>
                          <a:pt x="932" y="2"/>
                        </a:lnTo>
                        <a:lnTo>
                          <a:pt x="1124" y="192"/>
                        </a:lnTo>
                        <a:lnTo>
                          <a:pt x="1209" y="95"/>
                        </a:lnTo>
                        <a:lnTo>
                          <a:pt x="1293" y="95"/>
                        </a:lnTo>
                      </a:path>
                    </a:pathLst>
                  </a:custGeom>
                  <a:noFill/>
                  <a:ln w="381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"/>
                <p:cNvSpPr/>
                <p:nvPr/>
              </p:nvSpPr>
              <p:spPr>
                <a:xfrm rot="72600">
                  <a:off x="7903440" y="4221720"/>
                  <a:ext cx="4719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dfca"/>
                      </a:solidFill>
                      <a:latin typeface="Arial"/>
                    </a:rPr>
                    <a:t>R</a:t>
                  </a:r>
                  <a:r>
                    <a:rPr b="1" lang="en-US" sz="2200" spc="-1" strike="noStrike" baseline="-25000">
                      <a:solidFill>
                        <a:srgbClr val="00dfca"/>
                      </a:solidFill>
                      <a:latin typeface="Arial"/>
                    </a:rPr>
                    <a:t>4</a:t>
                  </a:r>
                  <a:endParaRPr b="0" lang="en-US" sz="2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3" name=""/>
            <p:cNvSpPr/>
            <p:nvPr/>
          </p:nvSpPr>
          <p:spPr>
            <a:xfrm>
              <a:off x="4632480" y="5499360"/>
              <a:ext cx="4170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40080" y="4416480"/>
              <a:ext cx="651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653320" y="4422240"/>
              <a:ext cx="137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08720" y="4420080"/>
              <a:ext cx="29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4630320" y="4407840"/>
              <a:ext cx="0" cy="52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4636080" y="5079600"/>
              <a:ext cx="0" cy="439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8787600" y="4394520"/>
              <a:ext cx="0" cy="1104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4960800" y="565200"/>
            <a:ext cx="4183200" cy="27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both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equall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246480"/>
            <a:ext cx="4037040" cy="36115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3286080"/>
            <a:ext cx="409896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same current must flow through left and right combinations of resistors.   On the LEFT, the current splits equally, so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On the RIGHT, more current will go through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han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+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sinc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ranch containing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has less resistan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9144000" cy="3193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ven More C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ircuit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782960" y="2174760"/>
            <a:ext cx="1660680" cy="4557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960800" y="565200"/>
            <a:ext cx="4183200" cy="27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both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equall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1040" y="855720"/>
            <a:ext cx="418788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resistor has the greatest current going through it?  Assume that all the resistors are equ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040280" y="3970440"/>
            <a:ext cx="5103720" cy="1852560"/>
            <a:chOff x="4040280" y="3970440"/>
            <a:chExt cx="5103720" cy="1852560"/>
          </a:xfrm>
        </p:grpSpPr>
        <p:sp>
          <p:nvSpPr>
            <p:cNvPr id="551" name=""/>
            <p:cNvSpPr/>
            <p:nvPr/>
          </p:nvSpPr>
          <p:spPr>
            <a:xfrm>
              <a:off x="4040280" y="3970440"/>
              <a:ext cx="5103720" cy="18525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37840" y="4874040"/>
              <a:ext cx="436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1" i="1" lang="en-US" sz="2200" spc="-1" strike="noStrike">
                  <a:solidFill>
                    <a:srgbClr val="00ff00"/>
                  </a:solidFill>
                  <a:latin typeface="Arial"/>
                </a:rPr>
                <a:t>V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6200000">
              <a:off x="4598640" y="4913640"/>
              <a:ext cx="87480" cy="178560"/>
            </a:xfrm>
            <a:prstGeom prst="rect">
              <a:avLst/>
            </a:prstGeom>
            <a:solidFill>
              <a:srgbClr val="000040"/>
            </a:solidFill>
            <a:ln w="1908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52560" y="5068080"/>
              <a:ext cx="178560" cy="0"/>
            </a:xfrm>
            <a:prstGeom prst="line">
              <a:avLst/>
            </a:prstGeom>
            <a:ln w="95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82360" y="4937760"/>
              <a:ext cx="3186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4915800" y="4128480"/>
              <a:ext cx="1107000" cy="1014840"/>
              <a:chOff x="4915800" y="4128480"/>
              <a:chExt cx="1107000" cy="1014840"/>
            </a:xfrm>
          </p:grpSpPr>
          <p:sp>
            <p:nvSpPr>
              <p:cNvPr id="557" name=""/>
              <p:cNvSpPr/>
              <p:nvPr/>
            </p:nvSpPr>
            <p:spPr>
              <a:xfrm rot="16200000">
                <a:off x="5233680" y="3870360"/>
                <a:ext cx="458640" cy="109440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8" name=""/>
              <p:cNvGrpSpPr/>
              <p:nvPr/>
            </p:nvGrpSpPr>
            <p:grpSpPr>
              <a:xfrm>
                <a:off x="4927320" y="4128480"/>
                <a:ext cx="1085760" cy="563400"/>
                <a:chOff x="4927320" y="4128480"/>
                <a:chExt cx="1085760" cy="563400"/>
              </a:xfrm>
            </p:grpSpPr>
            <p:sp>
              <p:nvSpPr>
                <p:cNvPr id="559" name=""/>
                <p:cNvSpPr/>
                <p:nvPr/>
              </p:nvSpPr>
              <p:spPr>
                <a:xfrm flipV="1">
                  <a:off x="4927320" y="4187160"/>
                  <a:ext cx="1085760" cy="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0" name=""/>
                <p:cNvGrpSpPr/>
                <p:nvPr/>
              </p:nvGrpSpPr>
              <p:grpSpPr>
                <a:xfrm>
                  <a:off x="5190480" y="4128480"/>
                  <a:ext cx="492480" cy="104040"/>
                  <a:chOff x="5190480" y="4128480"/>
                  <a:chExt cx="492480" cy="10404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5227200" y="4143960"/>
                    <a:ext cx="416880" cy="72000"/>
                  </a:xfrm>
                  <a:prstGeom prst="rect">
                    <a:avLst/>
                  </a:prstGeom>
                  <a:solidFill>
                    <a:srgbClr val="0000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5231520" y="4143960"/>
                    <a:ext cx="416880" cy="72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5190480" y="4128480"/>
                    <a:ext cx="49248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3" h="192">
                        <a:moveTo>
                          <a:pt x="0" y="95"/>
                        </a:moveTo>
                        <a:lnTo>
                          <a:pt x="78" y="95"/>
                        </a:lnTo>
                        <a:lnTo>
                          <a:pt x="166" y="0"/>
                        </a:lnTo>
                        <a:lnTo>
                          <a:pt x="356" y="192"/>
                        </a:lnTo>
                        <a:lnTo>
                          <a:pt x="552" y="2"/>
                        </a:lnTo>
                        <a:lnTo>
                          <a:pt x="742" y="192"/>
                        </a:lnTo>
                        <a:lnTo>
                          <a:pt x="932" y="2"/>
                        </a:lnTo>
                        <a:lnTo>
                          <a:pt x="1124" y="192"/>
                        </a:lnTo>
                        <a:lnTo>
                          <a:pt x="1209" y="95"/>
                        </a:lnTo>
                        <a:lnTo>
                          <a:pt x="1293" y="95"/>
                        </a:lnTo>
                      </a:path>
                    </a:pathLst>
                  </a:custGeom>
                  <a:noFill/>
                  <a:ln w="381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4" name=""/>
                <p:cNvSpPr/>
                <p:nvPr/>
              </p:nvSpPr>
              <p:spPr>
                <a:xfrm rot="72600">
                  <a:off x="5279400" y="4249800"/>
                  <a:ext cx="4719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200" spc="-1" strike="noStrike">
                      <a:solidFill>
                        <a:srgbClr val="00dfca"/>
                      </a:solidFill>
                      <a:latin typeface="Arial"/>
                    </a:rPr>
                    <a:t>R</a:t>
                  </a:r>
                  <a:r>
                    <a:rPr b="1" i="1" lang="en-US" sz="2200" spc="-1" strike="noStrike" baseline="-25000">
                      <a:solidFill>
                        <a:srgbClr val="00dfca"/>
                      </a:solidFill>
                      <a:latin typeface="Arial"/>
                    </a:rPr>
                    <a:t>1</a:t>
                  </a:r>
                  <a:endParaRPr b="0" lang="en-US" sz="2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4936680" y="4581360"/>
                <a:ext cx="1086120" cy="561960"/>
                <a:chOff x="4936680" y="4581360"/>
                <a:chExt cx="1086120" cy="561960"/>
              </a:xfrm>
            </p:grpSpPr>
            <p:sp>
              <p:nvSpPr>
                <p:cNvPr id="566" name=""/>
                <p:cNvSpPr/>
                <p:nvPr/>
              </p:nvSpPr>
              <p:spPr>
                <a:xfrm flipV="1">
                  <a:off x="4936680" y="4640040"/>
                  <a:ext cx="1086120" cy="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7" name=""/>
                <p:cNvGrpSpPr/>
                <p:nvPr/>
              </p:nvGrpSpPr>
              <p:grpSpPr>
                <a:xfrm>
                  <a:off x="5200560" y="4581360"/>
                  <a:ext cx="492480" cy="104040"/>
                  <a:chOff x="5200560" y="4581360"/>
                  <a:chExt cx="492480" cy="10404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5237280" y="4596840"/>
                    <a:ext cx="416880" cy="72000"/>
                  </a:xfrm>
                  <a:prstGeom prst="rect">
                    <a:avLst/>
                  </a:prstGeom>
                  <a:solidFill>
                    <a:srgbClr val="0000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5241600" y="4596840"/>
                    <a:ext cx="416880" cy="72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5200560" y="4581360"/>
                    <a:ext cx="49248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3" h="192">
                        <a:moveTo>
                          <a:pt x="0" y="95"/>
                        </a:moveTo>
                        <a:lnTo>
                          <a:pt x="78" y="95"/>
                        </a:lnTo>
                        <a:lnTo>
                          <a:pt x="166" y="0"/>
                        </a:lnTo>
                        <a:lnTo>
                          <a:pt x="356" y="192"/>
                        </a:lnTo>
                        <a:lnTo>
                          <a:pt x="552" y="2"/>
                        </a:lnTo>
                        <a:lnTo>
                          <a:pt x="742" y="192"/>
                        </a:lnTo>
                        <a:lnTo>
                          <a:pt x="932" y="2"/>
                        </a:lnTo>
                        <a:lnTo>
                          <a:pt x="1124" y="192"/>
                        </a:lnTo>
                        <a:lnTo>
                          <a:pt x="1209" y="95"/>
                        </a:lnTo>
                        <a:lnTo>
                          <a:pt x="1293" y="95"/>
                        </a:lnTo>
                      </a:path>
                    </a:pathLst>
                  </a:custGeom>
                  <a:noFill/>
                  <a:ln w="381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1" name=""/>
                <p:cNvSpPr/>
                <p:nvPr/>
              </p:nvSpPr>
              <p:spPr>
                <a:xfrm rot="72600">
                  <a:off x="5289840" y="4701240"/>
                  <a:ext cx="4719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200" spc="-1" strike="noStrike">
                      <a:solidFill>
                        <a:srgbClr val="00dfca"/>
                      </a:solidFill>
                      <a:latin typeface="Arial"/>
                    </a:rPr>
                    <a:t>R</a:t>
                  </a:r>
                  <a:r>
                    <a:rPr b="1" i="1" lang="en-US" sz="2200" spc="-1" strike="noStrike" baseline="-25000">
                      <a:solidFill>
                        <a:srgbClr val="00dfca"/>
                      </a:solidFill>
                      <a:latin typeface="Arial"/>
                    </a:rPr>
                    <a:t>2</a:t>
                  </a:r>
                  <a:endParaRPr b="0" lang="en-US" sz="2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2" name=""/>
            <p:cNvGrpSpPr/>
            <p:nvPr/>
          </p:nvGrpSpPr>
          <p:grpSpPr>
            <a:xfrm>
              <a:off x="6687720" y="4099680"/>
              <a:ext cx="1960920" cy="1027440"/>
              <a:chOff x="6687720" y="4099680"/>
              <a:chExt cx="1960920" cy="1027440"/>
            </a:xfrm>
          </p:grpSpPr>
          <p:sp>
            <p:nvSpPr>
              <p:cNvPr id="573" name=""/>
              <p:cNvSpPr/>
              <p:nvPr/>
            </p:nvSpPr>
            <p:spPr>
              <a:xfrm rot="16200000">
                <a:off x="7439040" y="3411360"/>
                <a:ext cx="458280" cy="1960920"/>
              </a:xfrm>
              <a:prstGeom prst="rect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4" name=""/>
              <p:cNvGrpSpPr/>
              <p:nvPr/>
            </p:nvGrpSpPr>
            <p:grpSpPr>
              <a:xfrm>
                <a:off x="6698880" y="4102920"/>
                <a:ext cx="1086480" cy="563400"/>
                <a:chOff x="6698880" y="4102920"/>
                <a:chExt cx="1086480" cy="563400"/>
              </a:xfrm>
            </p:grpSpPr>
            <p:sp>
              <p:nvSpPr>
                <p:cNvPr id="575" name=""/>
                <p:cNvSpPr/>
                <p:nvPr/>
              </p:nvSpPr>
              <p:spPr>
                <a:xfrm flipV="1">
                  <a:off x="6698880" y="4161600"/>
                  <a:ext cx="1086480" cy="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6" name=""/>
                <p:cNvGrpSpPr/>
                <p:nvPr/>
              </p:nvGrpSpPr>
              <p:grpSpPr>
                <a:xfrm>
                  <a:off x="6962400" y="4102920"/>
                  <a:ext cx="492840" cy="104040"/>
                  <a:chOff x="6962400" y="4102920"/>
                  <a:chExt cx="492840" cy="10404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>
                    <a:off x="6999120" y="4118400"/>
                    <a:ext cx="416880" cy="72000"/>
                  </a:xfrm>
                  <a:prstGeom prst="rect">
                    <a:avLst/>
                  </a:prstGeom>
                  <a:solidFill>
                    <a:srgbClr val="0000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7003440" y="4118400"/>
                    <a:ext cx="416880" cy="72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6962400" y="4102920"/>
                    <a:ext cx="49284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3" h="192">
                        <a:moveTo>
                          <a:pt x="0" y="95"/>
                        </a:moveTo>
                        <a:lnTo>
                          <a:pt x="78" y="95"/>
                        </a:lnTo>
                        <a:lnTo>
                          <a:pt x="166" y="0"/>
                        </a:lnTo>
                        <a:lnTo>
                          <a:pt x="356" y="192"/>
                        </a:lnTo>
                        <a:lnTo>
                          <a:pt x="552" y="2"/>
                        </a:lnTo>
                        <a:lnTo>
                          <a:pt x="742" y="192"/>
                        </a:lnTo>
                        <a:lnTo>
                          <a:pt x="932" y="2"/>
                        </a:lnTo>
                        <a:lnTo>
                          <a:pt x="1124" y="192"/>
                        </a:lnTo>
                        <a:lnTo>
                          <a:pt x="1209" y="95"/>
                        </a:lnTo>
                        <a:lnTo>
                          <a:pt x="1293" y="95"/>
                        </a:lnTo>
                      </a:path>
                    </a:pathLst>
                  </a:custGeom>
                  <a:noFill/>
                  <a:ln w="381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0" name=""/>
                <p:cNvSpPr/>
                <p:nvPr/>
              </p:nvSpPr>
              <p:spPr>
                <a:xfrm rot="72600">
                  <a:off x="7048080" y="4224240"/>
                  <a:ext cx="4719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200" spc="-1" strike="noStrike">
                      <a:solidFill>
                        <a:srgbClr val="00dfca"/>
                      </a:solidFill>
                      <a:latin typeface="Arial"/>
                    </a:rPr>
                    <a:t>R</a:t>
                  </a:r>
                  <a:r>
                    <a:rPr b="1" i="1" lang="en-US" sz="2200" spc="-1" strike="noStrike" baseline="-25000">
                      <a:solidFill>
                        <a:srgbClr val="00dfca"/>
                      </a:solidFill>
                      <a:latin typeface="Arial"/>
                    </a:rPr>
                    <a:t>3</a:t>
                  </a:r>
                  <a:endParaRPr b="0" lang="en-US" sz="2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244640" y="4565160"/>
                <a:ext cx="1086480" cy="561960"/>
                <a:chOff x="7244640" y="4565160"/>
                <a:chExt cx="1086480" cy="561960"/>
              </a:xfrm>
            </p:grpSpPr>
            <p:sp>
              <p:nvSpPr>
                <p:cNvPr id="582" name=""/>
                <p:cNvSpPr/>
                <p:nvPr/>
              </p:nvSpPr>
              <p:spPr>
                <a:xfrm flipV="1">
                  <a:off x="7244640" y="4623840"/>
                  <a:ext cx="1086480" cy="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3" name=""/>
                <p:cNvGrpSpPr/>
                <p:nvPr/>
              </p:nvGrpSpPr>
              <p:grpSpPr>
                <a:xfrm>
                  <a:off x="7508160" y="4565160"/>
                  <a:ext cx="492840" cy="104040"/>
                  <a:chOff x="7508160" y="4565160"/>
                  <a:chExt cx="492840" cy="10404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7544880" y="4580640"/>
                    <a:ext cx="416880" cy="72000"/>
                  </a:xfrm>
                  <a:prstGeom prst="rect">
                    <a:avLst/>
                  </a:prstGeom>
                  <a:solidFill>
                    <a:srgbClr val="0000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7549200" y="4580640"/>
                    <a:ext cx="416880" cy="72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0" bIns="252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7508160" y="4565160"/>
                    <a:ext cx="49284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3" h="192">
                        <a:moveTo>
                          <a:pt x="0" y="95"/>
                        </a:moveTo>
                        <a:lnTo>
                          <a:pt x="78" y="95"/>
                        </a:lnTo>
                        <a:lnTo>
                          <a:pt x="166" y="0"/>
                        </a:lnTo>
                        <a:lnTo>
                          <a:pt x="356" y="192"/>
                        </a:lnTo>
                        <a:lnTo>
                          <a:pt x="552" y="2"/>
                        </a:lnTo>
                        <a:lnTo>
                          <a:pt x="742" y="192"/>
                        </a:lnTo>
                        <a:lnTo>
                          <a:pt x="932" y="2"/>
                        </a:lnTo>
                        <a:lnTo>
                          <a:pt x="1124" y="192"/>
                        </a:lnTo>
                        <a:lnTo>
                          <a:pt x="1209" y="95"/>
                        </a:lnTo>
                        <a:lnTo>
                          <a:pt x="1293" y="95"/>
                        </a:lnTo>
                      </a:path>
                    </a:pathLst>
                  </a:custGeom>
                  <a:noFill/>
                  <a:ln w="381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7" name=""/>
                <p:cNvSpPr/>
                <p:nvPr/>
              </p:nvSpPr>
              <p:spPr>
                <a:xfrm rot="72600">
                  <a:off x="7596000" y="4685040"/>
                  <a:ext cx="4719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200" spc="-1" strike="noStrike">
                      <a:solidFill>
                        <a:srgbClr val="00dfca"/>
                      </a:solidFill>
                      <a:latin typeface="Arial"/>
                    </a:rPr>
                    <a:t>R</a:t>
                  </a:r>
                  <a:r>
                    <a:rPr b="1" i="1" lang="en-US" sz="2200" spc="-1" strike="noStrike" baseline="-25000">
                      <a:solidFill>
                        <a:srgbClr val="00dfca"/>
                      </a:solidFill>
                      <a:latin typeface="Arial"/>
                    </a:rPr>
                    <a:t>5</a:t>
                  </a:r>
                  <a:endParaRPr b="0" lang="en-US" sz="2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7551720" y="4099680"/>
                <a:ext cx="1086480" cy="564120"/>
                <a:chOff x="7551720" y="4099680"/>
                <a:chExt cx="1086480" cy="564120"/>
              </a:xfrm>
            </p:grpSpPr>
            <p:sp>
              <p:nvSpPr>
                <p:cNvPr id="589" name=""/>
                <p:cNvSpPr/>
                <p:nvPr/>
              </p:nvSpPr>
              <p:spPr>
                <a:xfrm flipV="1">
                  <a:off x="7551720" y="4158360"/>
                  <a:ext cx="1086480" cy="43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0" name=""/>
                <p:cNvGrpSpPr/>
                <p:nvPr/>
              </p:nvGrpSpPr>
              <p:grpSpPr>
                <a:xfrm>
                  <a:off x="7815240" y="4099680"/>
                  <a:ext cx="492840" cy="103680"/>
                  <a:chOff x="7815240" y="4099680"/>
                  <a:chExt cx="492840" cy="10368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>
                    <a:off x="7851960" y="4115160"/>
                    <a:ext cx="416880" cy="71640"/>
                  </a:xfrm>
                  <a:prstGeom prst="rect">
                    <a:avLst/>
                  </a:prstGeom>
                  <a:solidFill>
                    <a:srgbClr val="00008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7856280" y="4115160"/>
                    <a:ext cx="416880" cy="7164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7815240" y="4099680"/>
                    <a:ext cx="492840" cy="10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93" h="192">
                        <a:moveTo>
                          <a:pt x="0" y="95"/>
                        </a:moveTo>
                        <a:lnTo>
                          <a:pt x="78" y="95"/>
                        </a:lnTo>
                        <a:lnTo>
                          <a:pt x="166" y="0"/>
                        </a:lnTo>
                        <a:lnTo>
                          <a:pt x="356" y="192"/>
                        </a:lnTo>
                        <a:lnTo>
                          <a:pt x="552" y="2"/>
                        </a:lnTo>
                        <a:lnTo>
                          <a:pt x="742" y="192"/>
                        </a:lnTo>
                        <a:lnTo>
                          <a:pt x="932" y="2"/>
                        </a:lnTo>
                        <a:lnTo>
                          <a:pt x="1124" y="192"/>
                        </a:lnTo>
                        <a:lnTo>
                          <a:pt x="1209" y="95"/>
                        </a:lnTo>
                        <a:lnTo>
                          <a:pt x="1293" y="95"/>
                        </a:lnTo>
                      </a:path>
                    </a:pathLst>
                  </a:custGeom>
                  <a:noFill/>
                  <a:ln w="38160">
                    <a:solidFill>
                      <a:srgbClr val="00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4" name=""/>
                <p:cNvSpPr/>
                <p:nvPr/>
              </p:nvSpPr>
              <p:spPr>
                <a:xfrm rot="72600">
                  <a:off x="7903440" y="4221720"/>
                  <a:ext cx="471960" cy="43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200" spc="-1" strike="noStrike">
                      <a:solidFill>
                        <a:srgbClr val="00dfca"/>
                      </a:solidFill>
                      <a:latin typeface="Arial"/>
                    </a:rPr>
                    <a:t>R</a:t>
                  </a:r>
                  <a:r>
                    <a:rPr b="1" i="1" lang="en-US" sz="2200" spc="-1" strike="noStrike" baseline="-25000">
                      <a:solidFill>
                        <a:srgbClr val="00dfca"/>
                      </a:solidFill>
                      <a:latin typeface="Arial"/>
                    </a:rPr>
                    <a:t>4</a:t>
                  </a:r>
                  <a:endParaRPr b="0" lang="en-US" sz="2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5" name=""/>
            <p:cNvSpPr/>
            <p:nvPr/>
          </p:nvSpPr>
          <p:spPr>
            <a:xfrm>
              <a:off x="4632480" y="5499360"/>
              <a:ext cx="4170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40080" y="4416480"/>
              <a:ext cx="6519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653320" y="4422240"/>
              <a:ext cx="137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08720" y="4420080"/>
              <a:ext cx="29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4630320" y="4407840"/>
              <a:ext cx="0" cy="52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4636080" y="5079600"/>
              <a:ext cx="0" cy="439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8787600" y="4394520"/>
              <a:ext cx="0" cy="1104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4149720" y="5850000"/>
            <a:ext cx="465948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ne has the smallest voltage dro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0" y="0"/>
            <a:ext cx="9144000" cy="2971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7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Junction Rul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884920" y="797040"/>
            <a:ext cx="17082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 2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3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 5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6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10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4935600" y="3397320"/>
            <a:ext cx="4129200" cy="2446200"/>
            <a:chOff x="4935600" y="3397320"/>
            <a:chExt cx="4129200" cy="2446200"/>
          </a:xfrm>
        </p:grpSpPr>
        <p:sp>
          <p:nvSpPr>
            <p:cNvPr id="607" name=""/>
            <p:cNvSpPr/>
            <p:nvPr/>
          </p:nvSpPr>
          <p:spPr>
            <a:xfrm>
              <a:off x="4935600" y="3397320"/>
              <a:ext cx="4129200" cy="244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115960" y="4408560"/>
              <a:ext cx="2660040" cy="1341360"/>
            </a:xfrm>
            <a:custGeom>
              <a:avLst/>
              <a:gdLst/>
              <a:ahLst/>
              <a:rect l="l" t="t" r="r" b="b"/>
              <a:pathLst>
                <a:path w="2691" h="600">
                  <a:moveTo>
                    <a:pt x="2691" y="600"/>
                  </a:moveTo>
                  <a:lnTo>
                    <a:pt x="269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39360" y="3514680"/>
              <a:ext cx="0" cy="88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76000" y="4929120"/>
              <a:ext cx="1077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40800" y="3751200"/>
              <a:ext cx="0" cy="133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769520" y="5389560"/>
              <a:ext cx="0" cy="133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544080" y="4415040"/>
              <a:ext cx="110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304480" y="4923000"/>
              <a:ext cx="110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145560" y="3559320"/>
              <a:ext cx="6152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5 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45720" y="4589640"/>
              <a:ext cx="6152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8 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56080" y="5235480"/>
              <a:ext cx="6152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 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190360" y="436104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28120" y="1322280"/>
            <a:ext cx="467388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current in branch 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95400" y="3465360"/>
            <a:ext cx="4755960" cy="2411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3538440"/>
            <a:ext cx="45957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current entering the junction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8 A, so the current leaving must also be 8 A.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e exiting branch has 2 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so th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other branch (at P) must have 6 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0"/>
            <a:ext cx="9144000" cy="2971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762520" y="2043000"/>
            <a:ext cx="1685880" cy="4446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992840" y="3417840"/>
            <a:ext cx="4087800" cy="2446200"/>
            <a:chOff x="4992840" y="3417840"/>
            <a:chExt cx="4087800" cy="2446200"/>
          </a:xfrm>
        </p:grpSpPr>
        <p:sp>
          <p:nvSpPr>
            <p:cNvPr id="625" name=""/>
            <p:cNvSpPr/>
            <p:nvPr/>
          </p:nvSpPr>
          <p:spPr>
            <a:xfrm>
              <a:off x="4992840" y="3417840"/>
              <a:ext cx="4087800" cy="244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145120" y="4429080"/>
              <a:ext cx="2548080" cy="1341360"/>
            </a:xfrm>
            <a:custGeom>
              <a:avLst/>
              <a:gdLst/>
              <a:ahLst/>
              <a:rect l="l" t="t" r="r" b="b"/>
              <a:pathLst>
                <a:path w="2691" h="600">
                  <a:moveTo>
                    <a:pt x="2691" y="600"/>
                  </a:moveTo>
                  <a:lnTo>
                    <a:pt x="269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00880" y="3535200"/>
              <a:ext cx="0" cy="88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93200" y="4949640"/>
              <a:ext cx="1298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602320" y="3771720"/>
              <a:ext cx="0" cy="133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685280" y="5410080"/>
              <a:ext cx="0" cy="133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208920" y="4435560"/>
              <a:ext cx="133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29680" y="4943520"/>
              <a:ext cx="133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727960" y="3579840"/>
              <a:ext cx="6152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5 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69520" y="4608360"/>
              <a:ext cx="6152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8 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47280" y="5256360"/>
              <a:ext cx="6152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 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191800" y="438156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07520" y="4844880"/>
              <a:ext cx="164880" cy="196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12080" y="5133960"/>
              <a:ext cx="1234800" cy="398880"/>
            </a:xfrm>
            <a:prstGeom prst="borderCallout2">
              <a:avLst>
                <a:gd name="adj1" fmla="val 18750"/>
                <a:gd name="adj2" fmla="val -8333"/>
                <a:gd name="adj3" fmla="val 26865"/>
                <a:gd name="adj4" fmla="val 148458"/>
                <a:gd name="adj5" fmla="val -38592"/>
                <a:gd name="adj6" fmla="val 190847"/>
              </a:avLst>
            </a:prstGeom>
            <a:solidFill>
              <a:srgbClr val="ff0000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jun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118720" y="5079960"/>
              <a:ext cx="6152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afd00"/>
                  </a:solidFill>
                  <a:latin typeface="Arial"/>
                </a:rPr>
                <a:t>6 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5065920" y="3672000"/>
            <a:ext cx="383400" cy="4597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884920" y="797040"/>
            <a:ext cx="17082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 2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3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 5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6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10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528120" y="1322280"/>
            <a:ext cx="4673880" cy="5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current in branch 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2720" y="0"/>
            <a:ext cx="805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7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Junction Ru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9144000" cy="2971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7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Kirchhoff’s Rul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rcRect l="18123" t="0" r="16760" b="0"/>
          <a:stretch/>
        </p:blipFill>
        <p:spPr>
          <a:xfrm>
            <a:off x="5491080" y="3189240"/>
            <a:ext cx="3570480" cy="3138480"/>
          </a:xfrm>
          <a:prstGeom prst="rect">
            <a:avLst/>
          </a:prstGeom>
          <a:ln w="0">
            <a:noFill/>
          </a:ln>
        </p:spPr>
      </p:pic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-360" y="725040"/>
            <a:ext cx="3800520" cy="18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ightbulbs in the circuit ar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dentic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en the switch is closed, what happe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30640" y="627120"/>
            <a:ext cx="4910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both bulbs go 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intensity of both bulbs 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intensity of both bulbs 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A gets brighter and B gets dim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nothing chan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rcRect l="18123" t="0" r="16760" b="0"/>
          <a:stretch/>
        </p:blipFill>
        <p:spPr>
          <a:xfrm>
            <a:off x="5494320" y="3198960"/>
            <a:ext cx="3570480" cy="31384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58760" y="3382920"/>
            <a:ext cx="5078520" cy="2455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11240" y="3416400"/>
            <a:ext cx="51228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When the switch is open,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he point between the bulbs is at 12 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ut so is the point between the batteri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If there is no potential difference, then no current will flow once the switch is closed!!  Thus, nothing chan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0"/>
            <a:ext cx="9144000" cy="2971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38680" y="2436840"/>
            <a:ext cx="3325680" cy="4190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-360" y="725040"/>
            <a:ext cx="3800520" cy="18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lightbulbs in the circuit ar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dentic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en the switch is closed, what happe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130640" y="627120"/>
            <a:ext cx="4910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both bulbs go 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intensity of both bulbs 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intensity of both bulbs 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A gets brighter and B gets dimm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nothing chan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23800" y="0"/>
            <a:ext cx="805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8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Kirchhoff’s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336600" y="6081840"/>
            <a:ext cx="5951520" cy="768600"/>
            <a:chOff x="336600" y="6081840"/>
            <a:chExt cx="5951520" cy="768600"/>
          </a:xfrm>
        </p:grpSpPr>
        <p:sp>
          <p:nvSpPr>
            <p:cNvPr id="658" name=""/>
            <p:cNvSpPr/>
            <p:nvPr/>
          </p:nvSpPr>
          <p:spPr>
            <a:xfrm>
              <a:off x="5584680" y="6081840"/>
              <a:ext cx="70344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40"/>
                  </a:solidFill>
                  <a:latin typeface="Arial"/>
                </a:rPr>
                <a:t>24 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36600" y="6146640"/>
              <a:ext cx="5105520" cy="70380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ollow-up: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hat happens if the bottom battery is replaced by a 24-V battery?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9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heatstone Bridg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789520" y="601560"/>
            <a:ext cx="231156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/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/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45600" y="642600"/>
            <a:ext cx="4900680" cy="220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ammeter A is connected between point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 the circuit below, in which the four resistors ar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dentic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The current through the ammeter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863960" y="3092400"/>
            <a:ext cx="4152960" cy="3482280"/>
            <a:chOff x="4863960" y="3092400"/>
            <a:chExt cx="4152960" cy="3482280"/>
          </a:xfrm>
        </p:grpSpPr>
        <p:pic>
          <p:nvPicPr>
            <p:cNvPr id="665" name="" descr=""/>
            <p:cNvPicPr/>
            <p:nvPr/>
          </p:nvPicPr>
          <p:blipFill>
            <a:blip r:embed="rId1"/>
            <a:stretch/>
          </p:blipFill>
          <p:spPr>
            <a:xfrm>
              <a:off x="4863960" y="3198600"/>
              <a:ext cx="4152960" cy="32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8016840" y="4966920"/>
              <a:ext cx="631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81760" y="6114960"/>
              <a:ext cx="6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713280" y="3092400"/>
              <a:ext cx="6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692760" y="5086080"/>
              <a:ext cx="6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96920" y="3227400"/>
            <a:ext cx="4573440" cy="3257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0160" y="3289320"/>
            <a:ext cx="464796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all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resistors are identical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voltage drops are the sam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cross the upper branch and the lower branch.   Thus, the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otential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t points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re also the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erefore, no current flow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9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heatstone Bridg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224320" y="2251080"/>
            <a:ext cx="2540160" cy="4557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89520" y="601560"/>
            <a:ext cx="231156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/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/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/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45600" y="642600"/>
            <a:ext cx="4900680" cy="220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 ammeter A is connected between point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 the circuit below, in which the four resistors ar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dentic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The current through the ammeter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4863960" y="3092400"/>
            <a:ext cx="4152960" cy="3482280"/>
            <a:chOff x="4863960" y="3092400"/>
            <a:chExt cx="4152960" cy="3482280"/>
          </a:xfrm>
        </p:grpSpPr>
        <p:pic>
          <p:nvPicPr>
            <p:cNvPr id="678" name="" descr=""/>
            <p:cNvPicPr/>
            <p:nvPr/>
          </p:nvPicPr>
          <p:blipFill>
            <a:blip r:embed="rId1"/>
            <a:stretch/>
          </p:blipFill>
          <p:spPr>
            <a:xfrm>
              <a:off x="4863960" y="3198600"/>
              <a:ext cx="4152960" cy="32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8016840" y="4966920"/>
              <a:ext cx="631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881760" y="6114960"/>
              <a:ext cx="6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13280" y="3092400"/>
              <a:ext cx="6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692760" y="5086080"/>
              <a:ext cx="63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10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or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Kirchhoff’s Rul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4402080" y="3211560"/>
            <a:ext cx="4741920" cy="3402000"/>
            <a:chOff x="4402080" y="3211560"/>
            <a:chExt cx="4741920" cy="3402000"/>
          </a:xfrm>
        </p:grpSpPr>
        <p:sp>
          <p:nvSpPr>
            <p:cNvPr id="686" name=""/>
            <p:cNvSpPr/>
            <p:nvPr/>
          </p:nvSpPr>
          <p:spPr>
            <a:xfrm>
              <a:off x="4402080" y="3211560"/>
              <a:ext cx="4741920" cy="34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557680" y="47700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2 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64200" y="3809880"/>
              <a:ext cx="3200400" cy="22237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9" name=""/>
            <p:cNvGrpSpPr/>
            <p:nvPr/>
          </p:nvGrpSpPr>
          <p:grpSpPr>
            <a:xfrm>
              <a:off x="7088400" y="3706200"/>
              <a:ext cx="681120" cy="208440"/>
              <a:chOff x="7088400" y="3706200"/>
              <a:chExt cx="681120" cy="208440"/>
            </a:xfrm>
          </p:grpSpPr>
          <p:sp>
            <p:nvSpPr>
              <p:cNvPr id="690" name=""/>
              <p:cNvSpPr/>
              <p:nvPr/>
            </p:nvSpPr>
            <p:spPr>
              <a:xfrm>
                <a:off x="7139160" y="3737160"/>
                <a:ext cx="576360" cy="14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144920" y="3737160"/>
                <a:ext cx="576360" cy="14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8400" y="3706200"/>
                <a:ext cx="681120" cy="20844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 flipV="1">
              <a:off x="6659280" y="3787560"/>
              <a:ext cx="0" cy="222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5400000">
              <a:off x="6618600" y="5276880"/>
              <a:ext cx="12024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6510240" y="5355720"/>
              <a:ext cx="337320" cy="0"/>
            </a:xfrm>
            <a:prstGeom prst="line">
              <a:avLst/>
            </a:prstGeom>
            <a:ln w="95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6379200" y="5534280"/>
              <a:ext cx="599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5400000">
              <a:off x="5113800" y="4775760"/>
              <a:ext cx="12024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5005440" y="4854600"/>
              <a:ext cx="337320" cy="0"/>
            </a:xfrm>
            <a:prstGeom prst="line">
              <a:avLst/>
            </a:prstGeom>
            <a:ln w="95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4874400" y="5033160"/>
              <a:ext cx="599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5649120" y="5919480"/>
              <a:ext cx="681120" cy="208440"/>
              <a:chOff x="5649120" y="5919480"/>
              <a:chExt cx="681120" cy="208440"/>
            </a:xfrm>
          </p:grpSpPr>
          <p:sp>
            <p:nvSpPr>
              <p:cNvPr id="701" name=""/>
              <p:cNvSpPr/>
              <p:nvPr/>
            </p:nvSpPr>
            <p:spPr>
              <a:xfrm>
                <a:off x="5699880" y="5950440"/>
                <a:ext cx="576360" cy="14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05640" y="5950440"/>
                <a:ext cx="576360" cy="14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649120" y="5919480"/>
                <a:ext cx="681120" cy="20844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4" name=""/>
            <p:cNvSpPr/>
            <p:nvPr/>
          </p:nvSpPr>
          <p:spPr>
            <a:xfrm>
              <a:off x="6755400" y="42076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ff"/>
                  </a:solidFill>
                  <a:latin typeface="Arial"/>
                </a:rPr>
                <a:t>2 </a:t>
              </a:r>
              <a:r>
                <a:rPr b="1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97920" y="476676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2 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6545520" y="4034880"/>
              <a:ext cx="193680" cy="732600"/>
              <a:chOff x="6545520" y="4034880"/>
              <a:chExt cx="193680" cy="732600"/>
            </a:xfrm>
          </p:grpSpPr>
          <p:sp>
            <p:nvSpPr>
              <p:cNvPr id="707" name=""/>
              <p:cNvSpPr/>
              <p:nvPr/>
            </p:nvSpPr>
            <p:spPr>
              <a:xfrm rot="16200000">
                <a:off x="6331320" y="4336200"/>
                <a:ext cx="619920" cy="133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6200000">
                <a:off x="6331320" y="4329720"/>
                <a:ext cx="619920" cy="133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6200000">
                <a:off x="6275880" y="4304160"/>
                <a:ext cx="732600" cy="19368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7289640" y="5928840"/>
              <a:ext cx="680760" cy="208080"/>
              <a:chOff x="7289640" y="5928840"/>
              <a:chExt cx="680760" cy="208080"/>
            </a:xfrm>
          </p:grpSpPr>
          <p:sp>
            <p:nvSpPr>
              <p:cNvPr id="711" name=""/>
              <p:cNvSpPr/>
              <p:nvPr/>
            </p:nvSpPr>
            <p:spPr>
              <a:xfrm>
                <a:off x="7340400" y="5959800"/>
                <a:ext cx="576000" cy="144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346160" y="5959800"/>
                <a:ext cx="576000" cy="144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289640" y="5928840"/>
                <a:ext cx="680760" cy="20808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4" name=""/>
            <p:cNvSpPr/>
            <p:nvPr/>
          </p:nvSpPr>
          <p:spPr>
            <a:xfrm rot="5400000">
              <a:off x="8308440" y="4816440"/>
              <a:ext cx="12060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8200080" y="4894920"/>
              <a:ext cx="337320" cy="0"/>
            </a:xfrm>
            <a:prstGeom prst="line">
              <a:avLst/>
            </a:prstGeom>
            <a:ln w="95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8069040" y="5073480"/>
              <a:ext cx="599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570080" y="47466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6 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957720" y="522576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4 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92960" y="61480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ff"/>
                  </a:solidFill>
                  <a:latin typeface="Arial"/>
                </a:rPr>
                <a:t>3 </a:t>
              </a:r>
              <a:r>
                <a:rPr b="1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706000" y="61120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095960" y="333504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98600" y="5338080"/>
              <a:ext cx="0" cy="668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512200" y="5275800"/>
              <a:ext cx="0" cy="668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363720" y="4271400"/>
              <a:ext cx="0" cy="668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10440" y="5416920"/>
              <a:ext cx="358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Tahoma"/>
                </a:rPr>
                <a:t>I</a:t>
              </a:r>
              <a:r>
                <a:rPr b="1" i="1" lang="en-US" sz="2000" spc="-1" strike="noStrike" baseline="-25000">
                  <a:solidFill>
                    <a:srgbClr val="fafd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669520" y="5339880"/>
              <a:ext cx="358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Tahoma"/>
                </a:rPr>
                <a:t>I</a:t>
              </a:r>
              <a:r>
                <a:rPr b="1" i="1" lang="en-US" sz="2000" spc="-1" strike="noStrike" baseline="-25000">
                  <a:solidFill>
                    <a:srgbClr val="fafd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88160" y="4151160"/>
              <a:ext cx="358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Tahoma"/>
                </a:rPr>
                <a:t>I</a:t>
              </a:r>
              <a:r>
                <a:rPr b="1" i="1" lang="en-US" sz="2000" spc="-1" strike="noStrike" baseline="-25000">
                  <a:solidFill>
                    <a:srgbClr val="fafd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-360" y="1072800"/>
            <a:ext cx="45054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equations is valid for the circuit below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791240" y="649440"/>
            <a:ext cx="4114800" cy="25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 – 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– 2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= 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 – 2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– 2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– 4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3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 – 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– 4 – 2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– 4 – 2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+ 6 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 – 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– 3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– 6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193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1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eries Resistor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503600" y="4016520"/>
            <a:ext cx="4640040" cy="1884600"/>
            <a:chOff x="4503600" y="4016520"/>
            <a:chExt cx="4640040" cy="1884600"/>
          </a:xfrm>
        </p:grpSpPr>
        <p:sp>
          <p:nvSpPr>
            <p:cNvPr id="108" name=""/>
            <p:cNvSpPr/>
            <p:nvPr/>
          </p:nvSpPr>
          <p:spPr>
            <a:xfrm>
              <a:off x="4503600" y="4016520"/>
              <a:ext cx="4640040" cy="18828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09200" y="4631040"/>
              <a:ext cx="3264120" cy="7923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140960" y="4500720"/>
              <a:ext cx="657360" cy="208080"/>
              <a:chOff x="7140960" y="4500720"/>
              <a:chExt cx="657360" cy="208080"/>
            </a:xfrm>
          </p:grpSpPr>
          <p:sp>
            <p:nvSpPr>
              <p:cNvPr id="111" name=""/>
              <p:cNvSpPr/>
              <p:nvPr/>
            </p:nvSpPr>
            <p:spPr>
              <a:xfrm>
                <a:off x="7189920" y="4531680"/>
                <a:ext cx="556200" cy="14400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195680" y="4531680"/>
                <a:ext cx="556200" cy="1440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140960" y="4500720"/>
                <a:ext cx="657360" cy="20808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736320" y="5242320"/>
              <a:ext cx="108000" cy="342720"/>
            </a:xfrm>
            <a:prstGeom prst="rect">
              <a:avLst/>
            </a:prstGeom>
            <a:solidFill>
              <a:srgbClr val="000040"/>
            </a:solidFill>
            <a:ln w="1908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10040" y="5242320"/>
              <a:ext cx="0" cy="342720"/>
            </a:xfrm>
            <a:prstGeom prst="line">
              <a:avLst/>
            </a:prstGeom>
            <a:ln w="95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68800" y="5110560"/>
              <a:ext cx="0" cy="6062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855400" y="4502520"/>
              <a:ext cx="657000" cy="195120"/>
              <a:chOff x="5855400" y="4502520"/>
              <a:chExt cx="657000" cy="195120"/>
            </a:xfrm>
          </p:grpSpPr>
          <p:sp>
            <p:nvSpPr>
              <p:cNvPr id="118" name=""/>
              <p:cNvSpPr/>
              <p:nvPr/>
            </p:nvSpPr>
            <p:spPr>
              <a:xfrm>
                <a:off x="5904360" y="4531680"/>
                <a:ext cx="555840" cy="13500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910120" y="4531680"/>
                <a:ext cx="555840" cy="1350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55400" y="4502520"/>
                <a:ext cx="657000" cy="19512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6925680" y="553284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12 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59400" y="4064400"/>
              <a:ext cx="116100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ffff"/>
                  </a:solidFill>
                  <a:latin typeface="Arial"/>
                </a:rPr>
                <a:t>= 4 </a:t>
              </a:r>
              <a:r>
                <a:rPr b="1" lang="en-US" sz="2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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993360" y="4075560"/>
              <a:ext cx="116100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ffff"/>
                  </a:solidFill>
                  <a:latin typeface="Arial"/>
                </a:rPr>
                <a:t>= 2 </a:t>
              </a:r>
              <a:r>
                <a:rPr b="1" lang="en-US" sz="2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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7640" y="1219320"/>
            <a:ext cx="4354200" cy="117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circuit below, what is the voltage across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68920" y="779400"/>
            <a:ext cx="198432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8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4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10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or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Kirchhoff’s Rule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451400" y="1552680"/>
            <a:ext cx="3638520" cy="5223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4402080" y="3211560"/>
            <a:ext cx="4741920" cy="3402000"/>
            <a:chOff x="4402080" y="3211560"/>
            <a:chExt cx="4741920" cy="3402000"/>
          </a:xfrm>
        </p:grpSpPr>
        <p:sp>
          <p:nvSpPr>
            <p:cNvPr id="734" name=""/>
            <p:cNvSpPr/>
            <p:nvPr/>
          </p:nvSpPr>
          <p:spPr>
            <a:xfrm>
              <a:off x="4402080" y="3211560"/>
              <a:ext cx="4741920" cy="340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557680" y="47700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2 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164200" y="3809880"/>
              <a:ext cx="3200400" cy="22237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7088400" y="3706200"/>
              <a:ext cx="681120" cy="208440"/>
              <a:chOff x="7088400" y="3706200"/>
              <a:chExt cx="681120" cy="208440"/>
            </a:xfrm>
          </p:grpSpPr>
          <p:sp>
            <p:nvSpPr>
              <p:cNvPr id="738" name=""/>
              <p:cNvSpPr/>
              <p:nvPr/>
            </p:nvSpPr>
            <p:spPr>
              <a:xfrm>
                <a:off x="7139160" y="3737160"/>
                <a:ext cx="576360" cy="14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44920" y="3737160"/>
                <a:ext cx="576360" cy="14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88400" y="3706200"/>
                <a:ext cx="681120" cy="20844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 flipV="1">
              <a:off x="6659280" y="3787560"/>
              <a:ext cx="0" cy="222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5400000">
              <a:off x="6618600" y="5276880"/>
              <a:ext cx="12024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6510240" y="5355720"/>
              <a:ext cx="337320" cy="0"/>
            </a:xfrm>
            <a:prstGeom prst="line">
              <a:avLst/>
            </a:prstGeom>
            <a:ln w="95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379200" y="5534280"/>
              <a:ext cx="599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5400000">
              <a:off x="5113800" y="4775760"/>
              <a:ext cx="12024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5005440" y="4854600"/>
              <a:ext cx="337320" cy="0"/>
            </a:xfrm>
            <a:prstGeom prst="line">
              <a:avLst/>
            </a:prstGeom>
            <a:ln w="95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874400" y="5033160"/>
              <a:ext cx="599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5649120" y="5919480"/>
              <a:ext cx="681120" cy="208440"/>
              <a:chOff x="5649120" y="5919480"/>
              <a:chExt cx="681120" cy="208440"/>
            </a:xfrm>
          </p:grpSpPr>
          <p:sp>
            <p:nvSpPr>
              <p:cNvPr id="749" name=""/>
              <p:cNvSpPr/>
              <p:nvPr/>
            </p:nvSpPr>
            <p:spPr>
              <a:xfrm>
                <a:off x="5699880" y="5950440"/>
                <a:ext cx="576360" cy="14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705640" y="5950440"/>
                <a:ext cx="576360" cy="144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649120" y="5919480"/>
                <a:ext cx="681120" cy="20844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2" name=""/>
            <p:cNvSpPr/>
            <p:nvPr/>
          </p:nvSpPr>
          <p:spPr>
            <a:xfrm>
              <a:off x="6755400" y="42076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ff"/>
                  </a:solidFill>
                  <a:latin typeface="Arial"/>
                </a:rPr>
                <a:t>2 </a:t>
              </a:r>
              <a:r>
                <a:rPr b="1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497920" y="476676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2 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6545520" y="4034880"/>
              <a:ext cx="193680" cy="732600"/>
              <a:chOff x="6545520" y="4034880"/>
              <a:chExt cx="193680" cy="732600"/>
            </a:xfrm>
          </p:grpSpPr>
          <p:sp>
            <p:nvSpPr>
              <p:cNvPr id="755" name=""/>
              <p:cNvSpPr/>
              <p:nvPr/>
            </p:nvSpPr>
            <p:spPr>
              <a:xfrm rot="16200000">
                <a:off x="6331320" y="4336200"/>
                <a:ext cx="619920" cy="133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6200000">
                <a:off x="6331320" y="4329720"/>
                <a:ext cx="619920" cy="133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6200000">
                <a:off x="6275880" y="4304160"/>
                <a:ext cx="732600" cy="19368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7289640" y="5928840"/>
              <a:ext cx="680760" cy="208080"/>
              <a:chOff x="7289640" y="5928840"/>
              <a:chExt cx="680760" cy="208080"/>
            </a:xfrm>
          </p:grpSpPr>
          <p:sp>
            <p:nvSpPr>
              <p:cNvPr id="759" name=""/>
              <p:cNvSpPr/>
              <p:nvPr/>
            </p:nvSpPr>
            <p:spPr>
              <a:xfrm>
                <a:off x="7340400" y="5959800"/>
                <a:ext cx="576000" cy="144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346160" y="5959800"/>
                <a:ext cx="576000" cy="144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289640" y="5928840"/>
                <a:ext cx="680760" cy="20808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 rot="5400000">
              <a:off x="8308440" y="4816440"/>
              <a:ext cx="12060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8200080" y="4894920"/>
              <a:ext cx="337320" cy="0"/>
            </a:xfrm>
            <a:prstGeom prst="line">
              <a:avLst/>
            </a:prstGeom>
            <a:ln w="95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8069040" y="5073480"/>
              <a:ext cx="5994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570080" y="47466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6 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957720" y="522576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4 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92960" y="61480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ff"/>
                  </a:solidFill>
                  <a:latin typeface="Arial"/>
                </a:rPr>
                <a:t>3 </a:t>
              </a:r>
              <a:r>
                <a:rPr b="1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06000" y="61120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095960" y="333504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ff"/>
                  </a:solidFill>
                  <a:latin typeface="Arial"/>
                </a:rPr>
                <a:t>1 </a:t>
              </a:r>
              <a:r>
                <a:rPr b="1" lang="en-US" sz="20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998600" y="5338080"/>
              <a:ext cx="0" cy="668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512200" y="5275800"/>
              <a:ext cx="0" cy="668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6363720" y="4271400"/>
              <a:ext cx="0" cy="668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510440" y="5416920"/>
              <a:ext cx="358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Tahoma"/>
                </a:rPr>
                <a:t>I</a:t>
              </a:r>
              <a:r>
                <a:rPr b="1" i="1" lang="en-US" sz="2000" spc="-1" strike="noStrike" baseline="-25000">
                  <a:solidFill>
                    <a:srgbClr val="fafd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669520" y="5339880"/>
              <a:ext cx="358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Tahoma"/>
                </a:rPr>
                <a:t>I</a:t>
              </a:r>
              <a:r>
                <a:rPr b="1" i="1" lang="en-US" sz="2000" spc="-1" strike="noStrike" baseline="-25000">
                  <a:solidFill>
                    <a:srgbClr val="fafd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88160" y="4151160"/>
              <a:ext cx="358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afd00"/>
                  </a:solidFill>
                  <a:latin typeface="Tahoma"/>
                </a:rPr>
                <a:t>I</a:t>
              </a:r>
              <a:r>
                <a:rPr b="1" i="1" lang="en-US" sz="2000" spc="-1" strike="noStrike" baseline="-25000">
                  <a:solidFill>
                    <a:srgbClr val="fafd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6" name=""/>
          <p:cNvSpPr/>
          <p:nvPr/>
        </p:nvSpPr>
        <p:spPr>
          <a:xfrm>
            <a:off x="5273640" y="5359320"/>
            <a:ext cx="1019160" cy="493920"/>
          </a:xfrm>
          <a:custGeom>
            <a:avLst/>
            <a:gdLst>
              <a:gd name="textAreaLeft" fmla="*/ 178200 w 1019160"/>
              <a:gd name="textAreaRight" fmla="*/ 739080 w 1019160"/>
              <a:gd name="textAreaTop" fmla="*/ 65880 h 493920"/>
              <a:gd name="textAreaBottom" fmla="*/ 4280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3162240"/>
            <a:ext cx="4375080" cy="34592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3141720"/>
            <a:ext cx="4383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Equation 3 is valid for the left loop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:  The left battery gives +2V, then there is a drop through a 1</a:t>
            </a:r>
            <a:r>
              <a:rPr b="1" lang="en-US" sz="2000" spc="-1" strike="noStrike">
                <a:solidFill>
                  <a:srgbClr val="00004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resistor with current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lowing. Then we go through the middle battery (but from + to – !), which gives –4V.  Finally, there is a drop through a 2</a:t>
            </a:r>
            <a:r>
              <a:rPr b="1" lang="en-US" sz="2000" spc="-1" strike="noStrike">
                <a:solidFill>
                  <a:srgbClr val="000040"/>
                </a:solidFill>
                <a:latin typeface="Symbol"/>
                <a:ea typeface="Symbol"/>
              </a:rPr>
              <a:t>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resistor with current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I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-360" y="1072800"/>
            <a:ext cx="45054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equations is valid for the circuit below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791240" y="649440"/>
            <a:ext cx="4114800" cy="25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 – 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– 2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 = 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 – 2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– 2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– 4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3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 – 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– 4 – 2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– 4 – 2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+ 6 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2 – 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 – 3I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– 6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= 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193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1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eries Resistor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65880" y="2222640"/>
            <a:ext cx="1787400" cy="569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03600" y="4016520"/>
            <a:ext cx="4640040" cy="1884600"/>
            <a:chOff x="4503600" y="4016520"/>
            <a:chExt cx="4640040" cy="1884600"/>
          </a:xfrm>
        </p:grpSpPr>
        <p:sp>
          <p:nvSpPr>
            <p:cNvPr id="132" name=""/>
            <p:cNvSpPr/>
            <p:nvPr/>
          </p:nvSpPr>
          <p:spPr>
            <a:xfrm>
              <a:off x="4503600" y="4016520"/>
              <a:ext cx="4640040" cy="18828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09200" y="4631040"/>
              <a:ext cx="3264120" cy="7923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7140960" y="4500720"/>
              <a:ext cx="657360" cy="208080"/>
              <a:chOff x="7140960" y="4500720"/>
              <a:chExt cx="657360" cy="208080"/>
            </a:xfrm>
          </p:grpSpPr>
          <p:sp>
            <p:nvSpPr>
              <p:cNvPr id="135" name=""/>
              <p:cNvSpPr/>
              <p:nvPr/>
            </p:nvSpPr>
            <p:spPr>
              <a:xfrm>
                <a:off x="7189920" y="4531680"/>
                <a:ext cx="556200" cy="14400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195680" y="4531680"/>
                <a:ext cx="556200" cy="1440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140960" y="4500720"/>
                <a:ext cx="657360" cy="20808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6736320" y="5242320"/>
              <a:ext cx="108000" cy="342720"/>
            </a:xfrm>
            <a:prstGeom prst="rect">
              <a:avLst/>
            </a:prstGeom>
            <a:solidFill>
              <a:srgbClr val="000040"/>
            </a:solidFill>
            <a:ln w="1908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10040" y="5242320"/>
              <a:ext cx="0" cy="342720"/>
            </a:xfrm>
            <a:prstGeom prst="line">
              <a:avLst/>
            </a:prstGeom>
            <a:ln w="95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68800" y="5110560"/>
              <a:ext cx="0" cy="6062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5855400" y="4502520"/>
              <a:ext cx="657000" cy="195120"/>
              <a:chOff x="5855400" y="4502520"/>
              <a:chExt cx="657000" cy="195120"/>
            </a:xfrm>
          </p:grpSpPr>
          <p:sp>
            <p:nvSpPr>
              <p:cNvPr id="142" name=""/>
              <p:cNvSpPr/>
              <p:nvPr/>
            </p:nvSpPr>
            <p:spPr>
              <a:xfrm>
                <a:off x="5904360" y="4531680"/>
                <a:ext cx="555840" cy="135000"/>
              </a:xfrm>
              <a:prstGeom prst="rect">
                <a:avLst/>
              </a:prstGeom>
              <a:solidFill>
                <a:srgbClr val="0000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10120" y="4531680"/>
                <a:ext cx="555840" cy="1350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55400" y="4502520"/>
                <a:ext cx="657000" cy="19512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noFill/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925680" y="553284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12 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59400" y="4064400"/>
              <a:ext cx="116100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ffff"/>
                  </a:solidFill>
                  <a:latin typeface="Arial"/>
                </a:rPr>
                <a:t>= 4 </a:t>
              </a:r>
              <a:r>
                <a:rPr b="1" lang="en-US" sz="2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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93360" y="4075560"/>
              <a:ext cx="1161000" cy="4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ffff"/>
                  </a:solidFill>
                  <a:latin typeface="Arial"/>
                </a:rPr>
                <a:t>= 2 </a:t>
              </a:r>
              <a:r>
                <a:rPr b="1" lang="en-US" sz="2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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7640" y="1219320"/>
            <a:ext cx="4354200" cy="117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circuit below, what is the voltage across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68920" y="779400"/>
            <a:ext cx="198432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2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6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8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4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4680"/>
            <a:ext cx="4478400" cy="32720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193920"/>
            <a:ext cx="445788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e voltage drop across R</a:t>
            </a:r>
            <a:r>
              <a:rPr b="1" lang="en-US" sz="20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has to be twice as big as the drop across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This means that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66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= 8 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= 4 V. Or else you could find the current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I = V/R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= (12 V)/(6 </a:t>
            </a:r>
            <a:r>
              <a:rPr b="1" lang="en-US" sz="2000" spc="-1" strike="noStrike">
                <a:solidFill>
                  <a:srgbClr val="000040"/>
                </a:solidFill>
                <a:latin typeface="Symbol"/>
                <a:ea typeface="Symbol"/>
              </a:rPr>
              <a:t>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= 2 A, then use Ohm’s Law to get voltages.</a:t>
            </a: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6680" y="6451560"/>
            <a:ext cx="686916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happens if the voltage is doubled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349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2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Parallel Resisto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7640" y="1218960"/>
            <a:ext cx="435420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circuit below, what is the current through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162840" y="3451320"/>
            <a:ext cx="2766960" cy="3009600"/>
            <a:chOff x="6162840" y="3451320"/>
            <a:chExt cx="2766960" cy="3009600"/>
          </a:xfrm>
        </p:grpSpPr>
        <p:sp>
          <p:nvSpPr>
            <p:cNvPr id="159" name=""/>
            <p:cNvSpPr/>
            <p:nvPr/>
          </p:nvSpPr>
          <p:spPr>
            <a:xfrm>
              <a:off x="6162840" y="3451320"/>
              <a:ext cx="2766960" cy="30081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82080" y="4311360"/>
              <a:ext cx="2398680" cy="1671480"/>
            </a:xfrm>
            <a:prstGeom prst="rect">
              <a:avLst/>
            </a:prstGeom>
            <a:solidFill>
              <a:srgbClr val="00004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239240" y="4194000"/>
              <a:ext cx="644400" cy="207720"/>
              <a:chOff x="7239240" y="4194000"/>
              <a:chExt cx="644400" cy="207720"/>
            </a:xfrm>
          </p:grpSpPr>
          <p:sp>
            <p:nvSpPr>
              <p:cNvPr id="162" name=""/>
              <p:cNvSpPr/>
              <p:nvPr/>
            </p:nvSpPr>
            <p:spPr>
              <a:xfrm>
                <a:off x="7287120" y="4224960"/>
                <a:ext cx="545400" cy="143640"/>
              </a:xfrm>
              <a:prstGeom prst="rect">
                <a:avLst/>
              </a:prstGeom>
              <a:solidFill>
                <a:srgbClr val="000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92880" y="4224960"/>
                <a:ext cx="545400" cy="143640"/>
              </a:xfrm>
              <a:prstGeom prst="rect">
                <a:avLst/>
              </a:prstGeom>
              <a:solidFill>
                <a:srgbClr val="000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39240" y="4194000"/>
                <a:ext cx="644400" cy="20772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solidFill>
                <a:srgbClr val="000040"/>
              </a:solidFill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7534440" y="5802120"/>
              <a:ext cx="106560" cy="342720"/>
            </a:xfrm>
            <a:prstGeom prst="rect">
              <a:avLst/>
            </a:prstGeom>
            <a:solidFill>
              <a:srgbClr val="000040"/>
            </a:solidFill>
            <a:ln w="1908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09240" y="5802120"/>
              <a:ext cx="0" cy="342720"/>
            </a:xfrm>
            <a:prstGeom prst="line">
              <a:avLst/>
            </a:prstGeom>
            <a:ln w="95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64760" y="5670360"/>
              <a:ext cx="0" cy="6062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20200" y="6092640"/>
              <a:ext cx="703440" cy="368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10 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22160" y="4636800"/>
              <a:ext cx="1161000" cy="4370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ffff"/>
                  </a:solidFill>
                  <a:latin typeface="Arial"/>
                </a:rPr>
                <a:t>= 5 </a:t>
              </a:r>
              <a:r>
                <a:rPr b="1" lang="en-US" sz="2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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79320" y="3706560"/>
              <a:ext cx="1161000" cy="4370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ffff"/>
                  </a:solidFill>
                  <a:latin typeface="Arial"/>
                </a:rPr>
                <a:t>= 2 </a:t>
              </a:r>
              <a:r>
                <a:rPr b="1" lang="en-US" sz="2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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96480" y="5143320"/>
              <a:ext cx="2385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277400" y="5037120"/>
              <a:ext cx="644400" cy="194760"/>
              <a:chOff x="7277400" y="5037120"/>
              <a:chExt cx="644400" cy="194760"/>
            </a:xfrm>
          </p:grpSpPr>
          <p:sp>
            <p:nvSpPr>
              <p:cNvPr id="173" name=""/>
              <p:cNvSpPr/>
              <p:nvPr/>
            </p:nvSpPr>
            <p:spPr>
              <a:xfrm>
                <a:off x="7325280" y="5066280"/>
                <a:ext cx="545400" cy="134640"/>
              </a:xfrm>
              <a:prstGeom prst="rect">
                <a:avLst/>
              </a:prstGeom>
              <a:solidFill>
                <a:srgbClr val="000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31040" y="5066280"/>
                <a:ext cx="545400" cy="134640"/>
              </a:xfrm>
              <a:prstGeom prst="rect">
                <a:avLst/>
              </a:prstGeom>
              <a:solidFill>
                <a:srgbClr val="000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277400" y="5037120"/>
                <a:ext cx="644400" cy="19476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solidFill>
                <a:srgbClr val="000040"/>
              </a:solidFill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"/>
          <p:cNvSpPr/>
          <p:nvPr/>
        </p:nvSpPr>
        <p:spPr>
          <a:xfrm>
            <a:off x="5748480" y="843120"/>
            <a:ext cx="247644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2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7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583080"/>
            <a:ext cx="6080040" cy="1903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600360"/>
            <a:ext cx="603720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voltag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the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(10 V) across each resistor because they are in parallel.  Thus, we can use Ohm’s Law,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= I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R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o find the current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I</a:t>
            </a:r>
            <a:r>
              <a:rPr b="1" i="1" lang="en-US" sz="2000" spc="-1" strike="noStrike" baseline="-25000">
                <a:solidFill>
                  <a:srgbClr val="0066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= 2 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3349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2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Parallel Resisto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481720" y="2260440"/>
            <a:ext cx="1755720" cy="5382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77640" y="1218960"/>
            <a:ext cx="435420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circuit below, what is the current through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R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162840" y="3451320"/>
            <a:ext cx="2766960" cy="3009600"/>
            <a:chOff x="6162840" y="3451320"/>
            <a:chExt cx="2766960" cy="3009600"/>
          </a:xfrm>
        </p:grpSpPr>
        <p:sp>
          <p:nvSpPr>
            <p:cNvPr id="186" name=""/>
            <p:cNvSpPr/>
            <p:nvPr/>
          </p:nvSpPr>
          <p:spPr>
            <a:xfrm>
              <a:off x="6162840" y="3451320"/>
              <a:ext cx="2766960" cy="30081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82080" y="4311360"/>
              <a:ext cx="2398680" cy="1671480"/>
            </a:xfrm>
            <a:prstGeom prst="rect">
              <a:avLst/>
            </a:prstGeom>
            <a:solidFill>
              <a:srgbClr val="00004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7239240" y="4194000"/>
              <a:ext cx="644400" cy="207720"/>
              <a:chOff x="7239240" y="4194000"/>
              <a:chExt cx="644400" cy="207720"/>
            </a:xfrm>
          </p:grpSpPr>
          <p:sp>
            <p:nvSpPr>
              <p:cNvPr id="189" name=""/>
              <p:cNvSpPr/>
              <p:nvPr/>
            </p:nvSpPr>
            <p:spPr>
              <a:xfrm>
                <a:off x="7287120" y="4224960"/>
                <a:ext cx="545400" cy="143640"/>
              </a:xfrm>
              <a:prstGeom prst="rect">
                <a:avLst/>
              </a:prstGeom>
              <a:solidFill>
                <a:srgbClr val="000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92880" y="4224960"/>
                <a:ext cx="545400" cy="143640"/>
              </a:xfrm>
              <a:prstGeom prst="rect">
                <a:avLst/>
              </a:prstGeom>
              <a:solidFill>
                <a:srgbClr val="000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39240" y="4194000"/>
                <a:ext cx="644400" cy="20772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solidFill>
                <a:srgbClr val="000040"/>
              </a:solidFill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7534440" y="5802120"/>
              <a:ext cx="106560" cy="342720"/>
            </a:xfrm>
            <a:prstGeom prst="rect">
              <a:avLst/>
            </a:prstGeom>
            <a:solidFill>
              <a:srgbClr val="000040"/>
            </a:solidFill>
            <a:ln w="1908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09240" y="5802120"/>
              <a:ext cx="0" cy="342720"/>
            </a:xfrm>
            <a:prstGeom prst="line">
              <a:avLst/>
            </a:prstGeom>
            <a:ln w="95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64760" y="5670360"/>
              <a:ext cx="0" cy="6062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20200" y="6092640"/>
              <a:ext cx="703440" cy="36828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Arial"/>
                </a:rPr>
                <a:t>10 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22160" y="4636800"/>
              <a:ext cx="1161000" cy="4370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ffff"/>
                  </a:solidFill>
                  <a:latin typeface="Arial"/>
                </a:rPr>
                <a:t>= 5 </a:t>
              </a:r>
              <a:r>
                <a:rPr b="1" lang="en-US" sz="2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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79320" y="3706560"/>
              <a:ext cx="1161000" cy="43704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ffff"/>
                  </a:solidFill>
                  <a:latin typeface="Arial"/>
                </a:rPr>
                <a:t>R</a:t>
              </a:r>
              <a:r>
                <a:rPr b="1" i="1" lang="en-US" sz="2200" spc="-1" strike="noStrike" baseline="-25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ffff"/>
                  </a:solidFill>
                  <a:latin typeface="Arial"/>
                </a:rPr>
                <a:t>= 2 </a:t>
              </a:r>
              <a:r>
                <a:rPr b="1" lang="en-US" sz="2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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96480" y="5143320"/>
              <a:ext cx="2385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7277400" y="5037120"/>
              <a:ext cx="644400" cy="194760"/>
              <a:chOff x="7277400" y="5037120"/>
              <a:chExt cx="644400" cy="194760"/>
            </a:xfrm>
          </p:grpSpPr>
          <p:sp>
            <p:nvSpPr>
              <p:cNvPr id="200" name=""/>
              <p:cNvSpPr/>
              <p:nvPr/>
            </p:nvSpPr>
            <p:spPr>
              <a:xfrm>
                <a:off x="7325280" y="5066280"/>
                <a:ext cx="545400" cy="134640"/>
              </a:xfrm>
              <a:prstGeom prst="rect">
                <a:avLst/>
              </a:prstGeom>
              <a:solidFill>
                <a:srgbClr val="000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331040" y="5066280"/>
                <a:ext cx="545400" cy="134640"/>
              </a:xfrm>
              <a:prstGeom prst="rect">
                <a:avLst/>
              </a:prstGeom>
              <a:solidFill>
                <a:srgbClr val="000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277400" y="5037120"/>
                <a:ext cx="644400" cy="194760"/>
              </a:xfrm>
              <a:custGeom>
                <a:avLst/>
                <a:gdLst/>
                <a:ahLst/>
                <a:rect l="l" t="t" r="r" b="b"/>
                <a:pathLst>
                  <a:path w="1293" h="192">
                    <a:moveTo>
                      <a:pt x="0" y="95"/>
                    </a:moveTo>
                    <a:lnTo>
                      <a:pt x="78" y="95"/>
                    </a:lnTo>
                    <a:lnTo>
                      <a:pt x="166" y="0"/>
                    </a:lnTo>
                    <a:lnTo>
                      <a:pt x="356" y="192"/>
                    </a:lnTo>
                    <a:lnTo>
                      <a:pt x="552" y="2"/>
                    </a:lnTo>
                    <a:lnTo>
                      <a:pt x="742" y="192"/>
                    </a:lnTo>
                    <a:lnTo>
                      <a:pt x="932" y="2"/>
                    </a:lnTo>
                    <a:lnTo>
                      <a:pt x="1124" y="192"/>
                    </a:lnTo>
                    <a:lnTo>
                      <a:pt x="1209" y="95"/>
                    </a:lnTo>
                    <a:lnTo>
                      <a:pt x="1293" y="95"/>
                    </a:lnTo>
                  </a:path>
                </a:pathLst>
              </a:custGeom>
              <a:solidFill>
                <a:srgbClr val="000040"/>
              </a:solidFill>
              <a:ln w="381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5748480" y="843120"/>
            <a:ext cx="247644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2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7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6451560"/>
            <a:ext cx="715788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s the total current through the batter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349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2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Parallel Resistor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56080" y="760320"/>
            <a:ext cx="378792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mains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drops to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985000" y="3457440"/>
            <a:ext cx="2604600" cy="2959200"/>
            <a:chOff x="5985000" y="3457440"/>
            <a:chExt cx="2604600" cy="2959200"/>
          </a:xfrm>
        </p:grpSpPr>
        <p:sp>
          <p:nvSpPr>
            <p:cNvPr id="211" name=""/>
            <p:cNvSpPr/>
            <p:nvPr/>
          </p:nvSpPr>
          <p:spPr>
            <a:xfrm>
              <a:off x="5985000" y="5333760"/>
              <a:ext cx="2597040" cy="10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5989680" y="3457440"/>
              <a:ext cx="2599920" cy="2840040"/>
              <a:chOff x="5989680" y="3457440"/>
              <a:chExt cx="2599920" cy="2840040"/>
            </a:xfrm>
          </p:grpSpPr>
          <p:graphicFrame>
            <p:nvGraphicFramePr>
              <p:cNvPr id="213" name=""/>
              <p:cNvGraphicFramePr/>
              <p:nvPr/>
            </p:nvGraphicFramePr>
            <p:xfrm>
              <a:off x="5989680" y="3457440"/>
              <a:ext cx="2599920" cy="2276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989680" y="3457440"/>
                        <a:ext cx="2599920" cy="227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5" name=""/>
              <p:cNvSpPr/>
              <p:nvPr/>
            </p:nvSpPr>
            <p:spPr>
              <a:xfrm>
                <a:off x="7073640" y="5786280"/>
                <a:ext cx="0" cy="368280"/>
              </a:xfrm>
              <a:prstGeom prst="line">
                <a:avLst/>
              </a:prstGeom>
              <a:ln w="954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254720" y="5643360"/>
                <a:ext cx="0" cy="654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6287760" y="4916520"/>
                <a:ext cx="1440" cy="105732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8162640" y="4951440"/>
                <a:ext cx="1440" cy="105732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flipV="1">
                <a:off x="7262280" y="5970600"/>
                <a:ext cx="931320" cy="144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flipV="1">
                <a:off x="6254640" y="5963760"/>
                <a:ext cx="802800" cy="180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841320"/>
            <a:ext cx="504504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ints P and Q are connected to a battery of fixed voltage.  As more resistors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added to the parallel circuit,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curr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 the circu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0280" y="3681360"/>
            <a:ext cx="5564160" cy="23796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349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2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Parallel Resistor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226120" y="723960"/>
            <a:ext cx="2381040" cy="4554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56080" y="760320"/>
            <a:ext cx="378792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remains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drops to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985000" y="3457440"/>
            <a:ext cx="2604600" cy="2959200"/>
            <a:chOff x="5985000" y="3457440"/>
            <a:chExt cx="2604600" cy="2959200"/>
          </a:xfrm>
        </p:grpSpPr>
        <p:sp>
          <p:nvSpPr>
            <p:cNvPr id="230" name=""/>
            <p:cNvSpPr/>
            <p:nvPr/>
          </p:nvSpPr>
          <p:spPr>
            <a:xfrm>
              <a:off x="5985000" y="5333760"/>
              <a:ext cx="2597040" cy="10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989680" y="3457440"/>
              <a:ext cx="2599920" cy="2840040"/>
              <a:chOff x="5989680" y="3457440"/>
              <a:chExt cx="2599920" cy="2840040"/>
            </a:xfrm>
          </p:grpSpPr>
          <p:graphicFrame>
            <p:nvGraphicFramePr>
              <p:cNvPr id="232" name=""/>
              <p:cNvGraphicFramePr/>
              <p:nvPr/>
            </p:nvGraphicFramePr>
            <p:xfrm>
              <a:off x="5989680" y="3457440"/>
              <a:ext cx="2599920" cy="2276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989680" y="3457440"/>
                        <a:ext cx="2599920" cy="227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4" name=""/>
              <p:cNvSpPr/>
              <p:nvPr/>
            </p:nvSpPr>
            <p:spPr>
              <a:xfrm>
                <a:off x="7073640" y="5786280"/>
                <a:ext cx="0" cy="368280"/>
              </a:xfrm>
              <a:prstGeom prst="line">
                <a:avLst/>
              </a:prstGeom>
              <a:ln w="954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254720" y="5643360"/>
                <a:ext cx="0" cy="654120"/>
              </a:xfrm>
              <a:prstGeom prst="line">
                <a:avLst/>
              </a:prstGeom>
              <a:ln w="572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6287760" y="4916520"/>
                <a:ext cx="1440" cy="105732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8162640" y="4951440"/>
                <a:ext cx="1440" cy="105732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flipV="1">
                <a:off x="7262280" y="5970600"/>
                <a:ext cx="931320" cy="144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6254640" y="5963760"/>
                <a:ext cx="802800" cy="180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227160" y="3811680"/>
            <a:ext cx="55800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As we add parallel resistors, the overall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resistance of the circuit drop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Sinc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IR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and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held constant by the battery, when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resistance decreas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current must increas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841320"/>
            <a:ext cx="504504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ints P and Q are connected to a battery of fixed voltage.  As more resistors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added to the parallel circuit,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curr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 the circu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3720" y="6451560"/>
            <a:ext cx="820584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happens to the current through each resisto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9144000" cy="33735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8.3a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hort Circuit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16242" t="0" r="15367" b="0"/>
          <a:stretch/>
        </p:blipFill>
        <p:spPr>
          <a:xfrm>
            <a:off x="5254560" y="3855960"/>
            <a:ext cx="3756240" cy="19130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098360"/>
            <a:ext cx="3641760" cy="192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flows through a lightbulb. If a wire is now connected across the bulb, what happe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78200" y="833400"/>
            <a:ext cx="536580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all the current continues to flow through the bul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half the current flows through the wire, the other half continues through the bul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all the current flows through the w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none of the abo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12T15:55:06Z</dcterms:created>
  <dc:creator>C. Bennhold and J. Feldman</dc:creator>
  <dc:description/>
  <cp:keywords/>
  <dc:language>en-US</dc:language>
  <cp:lastModifiedBy>mcavityd</cp:lastModifiedBy>
  <cp:lastPrinted>1994-12-14T22:48:06Z</cp:lastPrinted>
  <dcterms:modified xsi:type="dcterms:W3CDTF">2009-07-28T17:36:21Z</dcterms:modified>
  <cp:revision>21543</cp:revision>
  <dc:subject/>
  <dc:title>Chap. 18 Conceptual Modules Giancoli</dc:title>
</cp:coreProperties>
</file>