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3B17-2FB4-4F34-AE73-D803DED86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320" y="1224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2794320"/>
            <a:ext cx="82296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ED06-7242-4CAD-92BC-9258A5C5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320" y="1224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2794320"/>
            <a:ext cx="40158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2794320"/>
            <a:ext cx="40158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E2F6-25BF-4D81-BE66-0F82127E9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320" y="1224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2794320"/>
            <a:ext cx="26496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2794320"/>
            <a:ext cx="26496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2794320"/>
            <a:ext cx="26496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86E9-EBF6-4EF0-887E-71A0C2820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7F83-7ACE-4EB7-87AC-B2A54E9E6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1224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2210-A2B3-4D53-9F07-E00575AA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320" y="1224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C095-0CDC-47C1-ABF7-4FF98DE5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1224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3F0C-1B00-4935-A53C-66C6A9E6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320" y="1224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4EA8-45E0-4795-B5DD-ECAD7C27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6320" y="122400"/>
            <a:ext cx="82296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15F10-01B1-42E3-B9C6-B4D70564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1224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2794320"/>
            <a:ext cx="40158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092A-D006-4BDE-BAEB-F1A6E384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20" y="1224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1EFA-0FA4-4E61-9C56-C3731FAF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1224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2794320"/>
            <a:ext cx="40158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A8A7-DF51-44A2-AF6B-6D05C872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1224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2794320"/>
            <a:ext cx="82296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AFE0-1A0D-4A3A-A6E6-1EE2FEFA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1224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2794320"/>
            <a:ext cx="82296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97ED1-EBE0-417D-B3D6-6F6D302A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320" y="1224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2794320"/>
            <a:ext cx="40158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2794320"/>
            <a:ext cx="40158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D619-4EDB-4279-9A57-9A020B8E4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320" y="1224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2794320"/>
            <a:ext cx="26496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2794320"/>
            <a:ext cx="26496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2794320"/>
            <a:ext cx="26496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DA15-15D5-4194-8836-7BB924CA9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20" y="1224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4601-C347-4E28-9DD9-562B545A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320" y="1224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992A-C41D-48FF-A57E-18402F71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" y="1224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73B4-6C2F-4D1B-90E4-912DBAFE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320" y="122400"/>
            <a:ext cx="82296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5C7E-261C-4621-8790-DE4D5260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320" y="1224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2794320"/>
            <a:ext cx="40158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C1C9-BB87-449F-8410-3EA50DB0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320" y="1224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2794320"/>
            <a:ext cx="40158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4D3C-7540-4322-8AFA-28A12344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320" y="1224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794320"/>
            <a:ext cx="82296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2CA0-AC08-4BC0-A146-E4BAA650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1224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534960" indent="-205560"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2" marL="822960" indent="-16452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3" marL="1152000" indent="-164520"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4" marL="1481040" indent="-164520">
              <a:spcBef>
                <a:spcPts val="601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5" marL="1481040" indent="-1645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6" marL="1481040" indent="-1645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1E30-B492-436B-9ADD-04899C41D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096b9c">
                  <a:alpha val="47058"/>
                </a:srgbClr>
              </a:gs>
              <a:gs pos="100000">
                <a:srgbClr val="006699">
                  <a:alpha val="1137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096b9c">
                  <a:alpha val="47058"/>
                </a:srgbClr>
              </a:gs>
              <a:gs pos="100000">
                <a:srgbClr val="006699">
                  <a:alpha val="1137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64680" y="1356480"/>
            <a:ext cx="5773680" cy="1068840"/>
          </a:xfrm>
          <a:prstGeom prst="rect">
            <a:avLst/>
          </a:prstGeom>
          <a:solidFill>
            <a:srgbClr val="ff7c80">
              <a:alpha val="80000"/>
            </a:srgbClr>
          </a:solidFill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EA5C-9132-411F-BB67-57AB43EB5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096b9c">
                  <a:alpha val="47058"/>
                </a:srgbClr>
              </a:gs>
              <a:gs pos="100000">
                <a:srgbClr val="006699">
                  <a:alpha val="1137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096b9c">
                  <a:alpha val="47058"/>
                </a:srgbClr>
              </a:gs>
              <a:gs pos="100000">
                <a:srgbClr val="006699">
                  <a:alpha val="1137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5240" y="65160"/>
            <a:ext cx="244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ability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85800" y="723960"/>
            <a:ext cx="7907400" cy="1522440"/>
            <a:chOff x="685800" y="723960"/>
            <a:chExt cx="7907400" cy="1522440"/>
          </a:xfrm>
        </p:grpSpPr>
        <p:sp>
          <p:nvSpPr>
            <p:cNvPr id="87" name=""/>
            <p:cNvSpPr/>
            <p:nvPr/>
          </p:nvSpPr>
          <p:spPr>
            <a:xfrm>
              <a:off x="685800" y="762120"/>
              <a:ext cx="4935600" cy="1465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: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et of equally likely outcom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: an ev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5722920" y="723960"/>
              <a:ext cx="2870280" cy="1522440"/>
              <a:chOff x="5722920" y="723960"/>
              <a:chExt cx="2870280" cy="1522440"/>
            </a:xfrm>
          </p:grpSpPr>
          <p:sp>
            <p:nvSpPr>
              <p:cNvPr id="89" name=""/>
              <p:cNvSpPr/>
              <p:nvPr/>
            </p:nvSpPr>
            <p:spPr>
              <a:xfrm>
                <a:off x="5722920" y="773280"/>
                <a:ext cx="2683080" cy="1473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786720" y="993960"/>
                <a:ext cx="1022400" cy="99036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116920" y="723960"/>
                <a:ext cx="476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351920" y="1251000"/>
                <a:ext cx="5457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792000" y="1366920"/>
                  <a:ext cx="4788000" cy="60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(</m:t>
                          </m:r>
                          <m:r>
                            <m:t xml:space="preserve">E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number of ways for event </m:t>
                          </m:r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 to happen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number of equally likely outcome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4" name=""/>
          <p:cNvGrpSpPr/>
          <p:nvPr/>
        </p:nvGrpSpPr>
        <p:grpSpPr>
          <a:xfrm>
            <a:off x="676440" y="4452840"/>
            <a:ext cx="7716600" cy="2014200"/>
            <a:chOff x="676440" y="4452840"/>
            <a:chExt cx="7716600" cy="2014200"/>
          </a:xfrm>
        </p:grpSpPr>
        <p:sp>
          <p:nvSpPr>
            <p:cNvPr id="95" name=""/>
            <p:cNvSpPr/>
            <p:nvPr/>
          </p:nvSpPr>
          <p:spPr>
            <a:xfrm>
              <a:off x="676440" y="4452840"/>
              <a:ext cx="7716600" cy="2014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nditional Probability (Probability of A given 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dependent Event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1055520" y="4824360"/>
                  <a:ext cx="6985080" cy="58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|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 and 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 and 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      </m:t>
                      </m:r>
                      <m:r>
                        <m:t xml:space="preserve">⇒</m:t>
                      </m:r>
                      <m:r>
                        <m:rPr>
                          <m:lit/>
                          <m:nor/>
                        </m:rPr>
                        <m:t xml:space="preserve">  P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rPr>
                          <m:lit/>
                          <m:nor/>
                        </m:rPr>
                        <m:t xml:space="preserve"> and 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|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1976400" y="5975280"/>
                  <a:ext cx="5364360" cy="29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|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    </m:t>
                      </m:r>
                      <m:r>
                        <m:t xml:space="preserve">⇒</m:t>
                      </m:r>
                      <m:r>
                        <m:rPr>
                          <m:lit/>
                          <m:nor/>
                        </m:rPr>
                        <m:t xml:space="preserve">  P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rPr>
                          <m:lit/>
                          <m:nor/>
                        </m:rPr>
                        <m:t xml:space="preserve"> and 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8" name=""/>
          <p:cNvGrpSpPr/>
          <p:nvPr/>
        </p:nvGrpSpPr>
        <p:grpSpPr>
          <a:xfrm>
            <a:off x="685800" y="2324160"/>
            <a:ext cx="7954920" cy="2014200"/>
            <a:chOff x="685800" y="2324160"/>
            <a:chExt cx="7954920" cy="2014200"/>
          </a:xfrm>
        </p:grpSpPr>
        <p:sp>
          <p:nvSpPr>
            <p:cNvPr id="99" name=""/>
            <p:cNvSpPr/>
            <p:nvPr/>
          </p:nvSpPr>
          <p:spPr>
            <a:xfrm>
              <a:off x="685800" y="2324160"/>
              <a:ext cx="4935600" cy="2014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bined Probab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utually Exclusive Event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995400" y="2760840"/>
                  <a:ext cx="4006800" cy="31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rPr>
                          <m:lit/>
                          <m:nor/>
                        </m:rPr>
                        <m:t xml:space="preserve"> or 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rPr>
                          <m:lit/>
                          <m:nor/>
                        </m:rPr>
                        <m:t xml:space="preserve"> and 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1" name=""/>
                <p:cNvSpPr txBox="1"/>
                <p:nvPr/>
              </p:nvSpPr>
              <p:spPr>
                <a:xfrm>
                  <a:off x="1504800" y="3535200"/>
                  <a:ext cx="292608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 and 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⇒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 or 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02" name=""/>
            <p:cNvGrpSpPr/>
            <p:nvPr/>
          </p:nvGrpSpPr>
          <p:grpSpPr>
            <a:xfrm>
              <a:off x="5751360" y="2535120"/>
              <a:ext cx="2682720" cy="1473120"/>
              <a:chOff x="5751360" y="2535120"/>
              <a:chExt cx="2682720" cy="1473120"/>
            </a:xfrm>
          </p:grpSpPr>
          <p:sp>
            <p:nvSpPr>
              <p:cNvPr id="103" name=""/>
              <p:cNvSpPr/>
              <p:nvPr/>
            </p:nvSpPr>
            <p:spPr>
              <a:xfrm>
                <a:off x="5751360" y="2535120"/>
                <a:ext cx="2682720" cy="1473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814800" y="2755800"/>
                <a:ext cx="1165320" cy="11336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437240" y="3117960"/>
                <a:ext cx="5461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205320" y="2746440"/>
                <a:ext cx="1193760" cy="11620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427440" y="3051000"/>
                <a:ext cx="5461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814800" y="2755800"/>
                <a:ext cx="1165320" cy="1133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751440" y="3108240"/>
                <a:ext cx="8222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 and</a:t>
                </a:r>
                <a:r>
                  <a:rPr b="0" i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 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8164440" y="2457360"/>
              <a:ext cx="47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1960-CFC6-4FF6-A177-4B8632FA1D9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6320" y="65160"/>
            <a:ext cx="261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ability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90880" y="969840"/>
            <a:ext cx="276228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s in a Pet 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590920" y="1552680"/>
          <a:ext cx="3657600" cy="233676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</a:tblGrid>
              <a:tr h="603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w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78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t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pp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1685880" y="4056120"/>
            <a:ext cx="5172120" cy="1739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black p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do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black do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dog|black p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black pet | do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dog or bla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95600" y="4056120"/>
            <a:ext cx="5171760" cy="1739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black pet)  = 15/55 = 3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puppy) = 33/55 = 3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black puppy) = 10/55 = 2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puppy|black pet) = 10/15 = 2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black pet | puppy) = 10/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puppy or black) = (5+10+23)/55 =38/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90920" y="1542960"/>
          <a:ext cx="3657600" cy="233676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</a:tblGrid>
              <a:tr h="603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w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78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t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pp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9F95-CA45-47C3-BB70-F982B667B8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7040" y="65160"/>
            <a:ext cx="200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1074600"/>
            <a:ext cx="2762280" cy="1465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ases (nucleotid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 aden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: guan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: cytos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: thy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81360" y="2884320"/>
            <a:ext cx="2524320" cy="1465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ur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enine and guan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yrimid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tosine and thy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Flow of Information"/>
          <p:cNvPicPr/>
          <p:nvPr/>
        </p:nvPicPr>
        <p:blipFill>
          <a:blip r:embed="rId1"/>
          <a:stretch/>
        </p:blipFill>
        <p:spPr>
          <a:xfrm>
            <a:off x="714240" y="100980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A6C9-57F4-4B1A-9BB9-7D27CFC185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4160" y="65160"/>
            <a:ext cx="373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tations to DNA Sequ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2600" y="961920"/>
            <a:ext cx="3400200" cy="3577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Base substit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C</a:t>
            </a:r>
            <a:r>
              <a:rPr b="1" lang="en-US" sz="2000" spc="-1" strike="noStrike">
                <a:solidFill>
                  <a:srgbClr val="990000"/>
                </a:solidFill>
                <a:latin typeface="Courier New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T</a:t>
            </a:r>
            <a:r>
              <a:rPr b="1" lang="en-US" sz="2000" spc="-1" strike="noStrike">
                <a:solidFill>
                  <a:srgbClr val="990000"/>
                </a:solidFill>
                <a:latin typeface="Courier New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G</a:t>
            </a:r>
            <a:r>
              <a:rPr b="1" lang="en-US" sz="2000" spc="-1" strike="noStrike">
                <a:solidFill>
                  <a:srgbClr val="990000"/>
                </a:solidFill>
                <a:latin typeface="Courier New"/>
                <a:ea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C</a:t>
            </a:r>
            <a:r>
              <a:rPr b="1" lang="en-US" sz="2000" spc="-1" strike="noStrike">
                <a:solidFill>
                  <a:srgbClr val="990000"/>
                </a:solidFill>
                <a:latin typeface="Courier New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T</a:t>
            </a:r>
            <a:r>
              <a:rPr b="1" lang="en-US" sz="2000" spc="-1" strike="noStrike">
                <a:solidFill>
                  <a:srgbClr val="339966"/>
                </a:solidFill>
                <a:latin typeface="Courier New"/>
                <a:ea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a) transi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ur to pur   or  pyr to py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g A changed to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b) transver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ur to pyr  or  pyr to p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g T changed to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48000" y="1009800"/>
            <a:ext cx="2743200" cy="3494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ele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TCTG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CATCTG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CCATCTG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CC</a:t>
            </a:r>
            <a:r>
              <a:rPr b="1" lang="en-US" sz="2000" spc="-1" strike="noStrike">
                <a:solidFill>
                  <a:srgbClr val="990000"/>
                </a:solidFill>
                <a:latin typeface="Courier New"/>
                <a:ea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TCTG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ever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TCT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C</a:t>
            </a:r>
            <a:r>
              <a:rPr b="1" lang="en-US" sz="2000" spc="-1" strike="noStrike">
                <a:solidFill>
                  <a:srgbClr val="990000"/>
                </a:solidFill>
                <a:latin typeface="Courier New"/>
                <a:ea typeface="Times New Roman"/>
              </a:rPr>
              <a:t>GTCTA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BE1B-DA95-4920-B8F5-68A06F67F2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0560" y="65160"/>
            <a:ext cx="54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ability of a base at a site of a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66720" y="838080"/>
            <a:ext cx="6934320" cy="421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CCATCTGAAGTACTTGGACCATGCTGTTCAGAGGGTCGT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7640" y="1847880"/>
            <a:ext cx="6934320" cy="1465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st estimate of the probability of each base at site 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640" y="1847880"/>
            <a:ext cx="6934320" cy="1465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st estimate of the probability of each base at site 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 =  8/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 = 12/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 =  9/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 =  11/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6440" y="3419640"/>
            <a:ext cx="6933960" cy="696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ACCTGAAGCACTAGGGCGATGCCGTTTAGAGAGTTGT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=10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=11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=9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=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5160" y="4210200"/>
            <a:ext cx="6934320" cy="1465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e of the probability of each base at site 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95160" y="4210200"/>
            <a:ext cx="6934320" cy="150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e of the probability of each base at site X (based on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 =  10/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 = 11/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 =  9/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 =  10/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6720" y="1362240"/>
            <a:ext cx="693432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=8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=12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=9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=11     n(E)=4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96A1-6C8C-4D68-AFA4-14F059338E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0560" y="65160"/>
            <a:ext cx="632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ability of a base at a site in aligned sequ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6440" y="781200"/>
            <a:ext cx="6933960" cy="749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CCATCTGAAGTACTTGGACCATGCTGTTCAGAGGGTCGT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ACCTGAAGCACTAGGGCGATGCCGTTTAGAGAGTTGT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95160" y="1676520"/>
            <a:ext cx="6934320" cy="1266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st estimate of the probability of a base in one sequence given a base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|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|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6440" y="781200"/>
            <a:ext cx="6933960" cy="749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CC</a:t>
            </a:r>
            <a:r>
              <a:rPr b="1" lang="en-US" sz="2000" spc="-1" strike="noStrike">
                <a:solidFill>
                  <a:srgbClr val="990000"/>
                </a:solidFill>
                <a:latin typeface="Courier New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CTG</a:t>
            </a:r>
            <a:r>
              <a:rPr b="1" lang="en-US" sz="2000" spc="-1" strike="noStrike">
                <a:solidFill>
                  <a:srgbClr val="990000"/>
                </a:solidFill>
                <a:latin typeface="Courier New"/>
                <a:ea typeface="Times New Roman"/>
              </a:rPr>
              <a:t>A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T</a:t>
            </a:r>
            <a:r>
              <a:rPr b="1" lang="en-US" sz="2000" spc="-1" strike="noStrike">
                <a:solidFill>
                  <a:srgbClr val="990000"/>
                </a:solidFill>
                <a:latin typeface="Courier New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TTGG</a:t>
            </a:r>
            <a:r>
              <a:rPr b="1" lang="en-US" sz="2000" spc="-1" strike="noStrike">
                <a:solidFill>
                  <a:srgbClr val="990000"/>
                </a:solidFill>
                <a:latin typeface="Courier New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C</a:t>
            </a:r>
            <a:r>
              <a:rPr b="1" lang="en-US" sz="2000" spc="-1" strike="noStrike">
                <a:solidFill>
                  <a:srgbClr val="990000"/>
                </a:solidFill>
                <a:latin typeface="Courier New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GCTGTTC</a:t>
            </a:r>
            <a:r>
              <a:rPr b="1" lang="en-US" sz="2000" spc="-1" strike="noStrike">
                <a:solidFill>
                  <a:srgbClr val="990000"/>
                </a:solidFill>
                <a:latin typeface="Courier New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</a:t>
            </a:r>
            <a:r>
              <a:rPr b="1" lang="en-US" sz="2000" spc="-1" strike="noStrike">
                <a:solidFill>
                  <a:srgbClr val="990000"/>
                </a:solidFill>
                <a:latin typeface="Courier New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GGTCGT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CT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TAGGGC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GCCGTT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AGTTGT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95160" y="1676520"/>
            <a:ext cx="6934320" cy="1266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st estimate of the probability of a base in one sequence given a base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|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 =  7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|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5160" y="1676520"/>
            <a:ext cx="6934320" cy="1266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st estimate of the probability of a base in one sequence given a base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|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 =  7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|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 =  2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76440" y="781200"/>
            <a:ext cx="6933960" cy="749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1" lang="en-US" sz="2000" spc="-1" strike="noStrike">
                <a:solidFill>
                  <a:srgbClr val="990000"/>
                </a:solidFill>
                <a:latin typeface="Courier New"/>
                <a:ea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CATCT</a:t>
            </a:r>
            <a:r>
              <a:rPr b="1" lang="en-US" sz="2000" spc="-1" strike="noStrike">
                <a:solidFill>
                  <a:srgbClr val="990000"/>
                </a:solidFill>
                <a:latin typeface="Courier New"/>
                <a:ea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A</a:t>
            </a:r>
            <a:r>
              <a:rPr b="1" lang="en-US" sz="2000" spc="-1" strike="noStrike">
                <a:solidFill>
                  <a:srgbClr val="990000"/>
                </a:solidFill>
                <a:latin typeface="Courier New"/>
                <a:ea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CTT</a:t>
            </a:r>
            <a:r>
              <a:rPr b="1" lang="en-US" sz="2000" spc="-1" strike="noStrike">
                <a:solidFill>
                  <a:srgbClr val="990000"/>
                </a:solidFill>
                <a:latin typeface="Courier New"/>
                <a:ea typeface="Times New Roman"/>
              </a:rPr>
              <a:t>G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AT</a:t>
            </a:r>
            <a:r>
              <a:rPr b="1" lang="en-US" sz="2000" spc="-1" strike="noStrike">
                <a:solidFill>
                  <a:srgbClr val="990000"/>
                </a:solidFill>
                <a:latin typeface="Courier New"/>
                <a:ea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T</a:t>
            </a:r>
            <a:r>
              <a:rPr b="1" lang="en-US" sz="2000" spc="-1" strike="noStrike">
                <a:solidFill>
                  <a:srgbClr val="990000"/>
                </a:solidFill>
                <a:latin typeface="Courier New"/>
                <a:ea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TCA</a:t>
            </a:r>
            <a:r>
              <a:rPr b="1" lang="en-US" sz="2000" spc="-1" strike="noStrike">
                <a:solidFill>
                  <a:srgbClr val="990000"/>
                </a:solidFill>
                <a:latin typeface="Courier New"/>
                <a:ea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990000"/>
                </a:solidFill>
                <a:latin typeface="Courier New"/>
                <a:ea typeface="Times New Roman"/>
              </a:rPr>
              <a:t>GG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C</a:t>
            </a:r>
            <a:r>
              <a:rPr b="1" lang="en-US" sz="2000" spc="-1" strike="noStrike">
                <a:solidFill>
                  <a:srgbClr val="990000"/>
                </a:solidFill>
                <a:latin typeface="Courier New"/>
                <a:ea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CACCTGAAGCACTAGGGCGATGCCGTTTAGA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TTGT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95160" y="3076560"/>
            <a:ext cx="7134480" cy="405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ble comparing bases at site X in aligned sequences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305000" y="3568680"/>
          <a:ext cx="5726160" cy="2190600"/>
        </p:xfrm>
        <a:graphic>
          <a:graphicData uri="http://schemas.openxmlformats.org/drawingml/2006/table">
            <a:tbl>
              <a:tblPr/>
              <a:tblGrid>
                <a:gridCol w="954360"/>
                <a:gridCol w="954000"/>
                <a:gridCol w="955440"/>
                <a:gridCol w="954360"/>
                <a:gridCol w="954000"/>
                <a:gridCol w="954000"/>
              </a:tblGrid>
              <a:tr h="405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\ S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1314360" y="3568680"/>
          <a:ext cx="5726160" cy="2190600"/>
        </p:xfrm>
        <a:graphic>
          <a:graphicData uri="http://schemas.openxmlformats.org/drawingml/2006/table">
            <a:tbl>
              <a:tblPr/>
              <a:tblGrid>
                <a:gridCol w="954360"/>
                <a:gridCol w="954000"/>
                <a:gridCol w="955440"/>
                <a:gridCol w="954360"/>
                <a:gridCol w="954000"/>
                <a:gridCol w="954000"/>
              </a:tblGrid>
              <a:tr h="405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\ S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2FF7-C186-4194-9D6C-78316B555F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5600" y="65160"/>
            <a:ext cx="296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itional Prob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3320" y="771480"/>
            <a:ext cx="7134480" cy="405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ble comparing bases at site X in aligned sequences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600200" y="1282680"/>
          <a:ext cx="5726160" cy="2190600"/>
        </p:xfrm>
        <a:graphic>
          <a:graphicData uri="http://schemas.openxmlformats.org/drawingml/2006/table">
            <a:tbl>
              <a:tblPr/>
              <a:tblGrid>
                <a:gridCol w="954360"/>
                <a:gridCol w="954000"/>
                <a:gridCol w="955440"/>
                <a:gridCol w="954360"/>
                <a:gridCol w="954000"/>
                <a:gridCol w="954000"/>
              </a:tblGrid>
              <a:tr h="405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\ S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752400" y="3686040"/>
            <a:ext cx="7134480" cy="680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e of the conditional probability of a base at a site in sequence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iven a particular base at that site in sequence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562040" y="4416480"/>
          <a:ext cx="5726160" cy="2190600"/>
        </p:xfrm>
        <a:graphic>
          <a:graphicData uri="http://schemas.openxmlformats.org/drawingml/2006/table">
            <a:tbl>
              <a:tblPr/>
              <a:tblGrid>
                <a:gridCol w="954360"/>
                <a:gridCol w="954000"/>
                <a:gridCol w="955440"/>
                <a:gridCol w="954360"/>
                <a:gridCol w="954000"/>
                <a:gridCol w="954000"/>
              </a:tblGrid>
              <a:tr h="405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\ S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A5B3-D508-4255-A702-3DCF138427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5600" y="65160"/>
            <a:ext cx="296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itional Prob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71480" y="790560"/>
            <a:ext cx="7134120" cy="717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ble of conditional probability of a base at a site in sequence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iven a particular base at that site in sequence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380960" y="1616040"/>
          <a:ext cx="5725800" cy="2190960"/>
        </p:xfrm>
        <a:graphic>
          <a:graphicData uri="http://schemas.openxmlformats.org/drawingml/2006/table">
            <a:tbl>
              <a:tblPr/>
              <a:tblGrid>
                <a:gridCol w="954000"/>
                <a:gridCol w="960480"/>
                <a:gridCol w="949320"/>
                <a:gridCol w="954000"/>
                <a:gridCol w="954000"/>
                <a:gridCol w="954000"/>
              </a:tblGrid>
              <a:tr h="405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\ S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A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A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A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G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A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C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A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T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G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A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G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G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G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C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G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T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C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A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C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G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C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C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C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T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T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A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T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G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T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C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T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T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666720" y="4086360"/>
            <a:ext cx="7134120" cy="95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bjective: Create a model for the conditional probabilities in the above table and use the table to predict the probabilities of a particular base at a site in the future. For example, 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04880" y="5162400"/>
            <a:ext cx="7134120" cy="916920"/>
            <a:chOff x="704880" y="5162400"/>
            <a:chExt cx="7134120" cy="916920"/>
          </a:xfrm>
        </p:grpSpPr>
        <p:sp>
          <p:nvSpPr>
            <p:cNvPr id="152" name=""/>
            <p:cNvSpPr/>
            <p:nvPr/>
          </p:nvSpPr>
          <p:spPr>
            <a:xfrm>
              <a:off x="704880" y="5162400"/>
              <a:ext cx="7134120" cy="916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3" name=""/>
                <p:cNvSpPr txBox="1"/>
                <p:nvPr/>
              </p:nvSpPr>
              <p:spPr>
                <a:xfrm>
                  <a:off x="981000" y="5343480"/>
                  <a:ext cx="6397560" cy="59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 and 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 or 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and </m:t>
                          </m:r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 or 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 and 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 or 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 and 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7F52-BE42-4E24-B631-FE42028C97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2360" y="65160"/>
            <a:ext cx="638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a model to predict how sequences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828720" y="933480"/>
            <a:ext cx="7134120" cy="2288520"/>
            <a:chOff x="828720" y="933480"/>
            <a:chExt cx="7134120" cy="2288520"/>
          </a:xfrm>
        </p:grpSpPr>
        <p:sp>
          <p:nvSpPr>
            <p:cNvPr id="156" name=""/>
            <p:cNvSpPr/>
            <p:nvPr/>
          </p:nvSpPr>
          <p:spPr>
            <a:xfrm>
              <a:off x="828720" y="933480"/>
              <a:ext cx="7134120" cy="2288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probability of a base at a site in the future can be written as a matrix product. For example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" name=""/>
                <p:cNvSpPr txBox="1"/>
                <p:nvPr/>
              </p:nvSpPr>
              <p:spPr>
                <a:xfrm>
                  <a:off x="1352520" y="1520640"/>
                  <a:ext cx="5924520" cy="164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  <m:e/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 </m:t>
                              </m:r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 </m:t>
                              </m:r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 </m:t>
                              </m:r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</m:e>
                        <m:e/>
                      </m:eqArr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/>
                          </m:d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/>
                          </m:d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8" name=""/>
          <p:cNvGrpSpPr/>
          <p:nvPr/>
        </p:nvGrpSpPr>
        <p:grpSpPr>
          <a:xfrm>
            <a:off x="828720" y="3333600"/>
            <a:ext cx="7095960" cy="2014200"/>
            <a:chOff x="828720" y="3333600"/>
            <a:chExt cx="7095960" cy="2014200"/>
          </a:xfrm>
        </p:grpSpPr>
        <p:sp>
          <p:nvSpPr>
            <p:cNvPr id="159" name=""/>
            <p:cNvSpPr/>
            <p:nvPr/>
          </p:nvSpPr>
          <p:spPr>
            <a:xfrm>
              <a:off x="828720" y="3333600"/>
              <a:ext cx="7095960" cy="2014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946080" y="3430440"/>
                  <a:ext cx="6704280" cy="17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et    {</m:t>
                              </m:r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P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eqAr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P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e>
                                <m:e/>
                              </m:d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P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e>
                                <m:e/>
                              </m:d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P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e>
                                <m:e/>
                              </m:d>
                            </m:e>
                            <m:e/>
                          </m:eqArr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1" name=""/>
          <p:cNvSpPr/>
          <p:nvPr/>
        </p:nvSpPr>
        <p:spPr>
          <a:xfrm>
            <a:off x="790560" y="5505480"/>
            <a:ext cx="713412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matrix M is called a transition matrix. Entries are probabilities. Columns sum to one. This is an example of a Markov Mod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827D-E9D8-4BCB-B3F6-72BC6A7CD3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19:34:50Z</dcterms:created>
  <dc:creator>Dorien Kymberly McGee</dc:creator>
  <dc:description/>
  <dc:language>en-US</dc:language>
  <cp:lastModifiedBy>David McAvity</cp:lastModifiedBy>
  <dcterms:modified xsi:type="dcterms:W3CDTF">2010-04-26T06:23:26Z</dcterms:modified>
  <cp:revision>312</cp:revision>
  <dc:subject/>
  <dc:title>Module Development Template</dc:title>
</cp:coreProperties>
</file>