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AF5-F242-4404-92A9-D0DDC326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DA2-CC91-4DF8-95BF-938BCDE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D21-6430-40C1-AAB5-68E3ACC3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9B6-3BB3-4773-8F8F-57643802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7C2-8324-420D-88BE-331B51C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770-3FAA-4208-ABB8-9B84C078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CC7-570C-480D-964F-E876F4CA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E88-C418-497E-96D1-A0D76C1C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C70-83BA-476B-8C53-872717C8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9A8-960F-48CE-9D78-0FF2173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66F-878E-4E24-B2B8-CB944A3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90F-FCD0-4465-8FC4-E0767BA0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0EC-CAA1-4B22-BF83-DB49A7383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281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ir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508464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wires,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re made of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ame me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hav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qual leng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but the resistance of wire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four ti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istance of wire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How do their diameters comp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717480"/>
            <a:ext cx="3016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4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1/4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1840" y="3995640"/>
            <a:ext cx="6951600" cy="1683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9800" y="4033800"/>
            <a:ext cx="7057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Using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P = V</a:t>
            </a:r>
            <a:r>
              <a:rPr b="1" i="1" lang="en-US" sz="20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/ R,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heater with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maller res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will have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arger pow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utput.  Thus, heater 2 will give off more heat.</a:t>
            </a:r>
            <a:r>
              <a:rPr b="1" lang="en-US" sz="24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5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pace Heate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3680" y="1596960"/>
            <a:ext cx="2079360" cy="566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9360" y="839880"/>
            <a:ext cx="469440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space heaters in your living room are operated at 120 V.  Heater 1 ha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w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istance of heater 2.  Which one will give off more he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40160" y="1104840"/>
            <a:ext cx="36831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eate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ea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equ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4240" y="6049800"/>
            <a:ext cx="63788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one carries the greater curr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200" y="3578400"/>
            <a:ext cx="8325000" cy="1699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3720" y="3681360"/>
            <a:ext cx="8178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resistance of wir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greater because its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ea is les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wir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e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related to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diu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(or diameter)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quare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iameter of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must be two times less than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281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ir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07040" y="2286000"/>
            <a:ext cx="2552760" cy="493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886200" y="5506920"/>
                <a:ext cx="13064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06040"/>
            <a:ext cx="508464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wires,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re made of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ame me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hav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qual leng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but the resistance of wire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four ti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istance of wire </a:t>
            </a:r>
            <a:r>
              <a:rPr b="1" i="1" lang="en-US" sz="2000" spc="-1" strike="noStrike">
                <a:solidFill>
                  <a:srgbClr val="feff7e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How do their diameters comp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717480"/>
            <a:ext cx="3016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4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 1/4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281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3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ires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691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ire of resistanc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stretched uniformly (keeping its volume constant) until it is twice its original length.  What happens to the resistan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02120" y="838080"/>
            <a:ext cx="42418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t de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t de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t stays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in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in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3790800"/>
            <a:ext cx="7618680" cy="1905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3860640"/>
            <a:ext cx="75056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Keeping the volume (= area x length) constant means that if the length is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doubled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, the area is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halved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Since              ,   this increases the resistance by 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four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281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3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ires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9600" y="2019240"/>
            <a:ext cx="4086360" cy="592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74960" y="4818240"/>
                <a:ext cx="9619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4691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ire of resistanc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stretched uniformly (keeping its volume constant) until it is twice its original length.  What happens to the resistan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02120" y="838080"/>
            <a:ext cx="42418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t de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t de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t stays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in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increas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 a factor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immer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1880" y="1225080"/>
            <a:ext cx="45464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rotate the knob of a light dimmer, what is being changed in the electric circu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30720" y="865080"/>
            <a:ext cx="362736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po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both (1) and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both (2) and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65280" y="3568680"/>
            <a:ext cx="6205680" cy="20620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09840" y="3571920"/>
            <a:ext cx="613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voltage is provided at 120 V from the outside.  The light dimmer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creases the res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refor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ecreases the curren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t flows through the light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immer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29040" y="2295360"/>
            <a:ext cx="3186360" cy="543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880" y="1225080"/>
            <a:ext cx="45464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rotate the knob of a light dimmer, what is being changed in the electric circu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30720" y="865080"/>
            <a:ext cx="362736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po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both (1) and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both (2) and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3160" y="6161040"/>
            <a:ext cx="686916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y does the voltage not chan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26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5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Lightbulb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016" t="20278" r="29953" b="9997"/>
          <a:stretch/>
        </p:blipFill>
        <p:spPr>
          <a:xfrm>
            <a:off x="6404040" y="3362400"/>
            <a:ext cx="2739960" cy="289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55360"/>
            <a:ext cx="52372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lightbulbs operate at 120 V, but one has a power rating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le the other has a power rating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greater resistanc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1320" y="843120"/>
            <a:ext cx="3622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25 W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100 W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have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this has nothing to do with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1440" y="3898800"/>
            <a:ext cx="5465880" cy="1543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240" y="3956040"/>
            <a:ext cx="57387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P = V</a:t>
            </a:r>
            <a:r>
              <a:rPr b="1" i="1" lang="en-US" sz="20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/ R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4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bulb with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ower power rating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has to have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igher res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26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5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Lightbulb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92880" y="808200"/>
            <a:ext cx="3044520" cy="571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6016" t="20278" r="29953" b="9997"/>
          <a:stretch/>
        </p:blipFill>
        <p:spPr>
          <a:xfrm>
            <a:off x="6404040" y="3362400"/>
            <a:ext cx="2739960" cy="2892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855360"/>
            <a:ext cx="52372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lightbulbs operate at 120 V, but one has a power rating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le the other has a power rating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greater resistanc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21320" y="843120"/>
            <a:ext cx="3622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25 W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100 W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have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this has nothing to do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ith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61040"/>
            <a:ext cx="637848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one carries the greater curr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7.5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pace Heate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9360" y="839880"/>
            <a:ext cx="469440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space heaters in your living room are operated at 120 V.  Heater 1 ha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w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istance of heater 2.  Which one will give off more he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40160" y="1104840"/>
            <a:ext cx="36831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eate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ea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equ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cp:keywords/>
  <dc:language>en-US</dc:language>
  <cp:lastModifiedBy>David McAvity</cp:lastModifiedBy>
  <cp:lastPrinted>1994-12-14T22:48:06Z</cp:lastPrinted>
  <dcterms:modified xsi:type="dcterms:W3CDTF">2010-07-14T16:09:14Z</dcterms:modified>
  <cp:revision>21544</cp:revision>
  <dc:subject/>
  <dc:title>Chap. 18 Conceptual Modules Giancoli</dc:title>
</cp:coreProperties>
</file>