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2AE-9BAD-4FB8-BC5E-46EDB37A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CE0-179A-4342-8220-4670DFDD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F39-1CD2-4A63-842D-D3B914B0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04B-6E37-45B1-B749-43915AB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71C-166A-4D23-95D2-C56A6BA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938-4E4F-43F1-B986-233F0F6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065-54E1-41D2-8C61-121EFD23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D9D-F136-4D98-BB3D-49B2E28F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557-272B-4A7D-9674-7178CA2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7E4-228B-45B1-BF1C-A06C575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9F6-E569-4C8F-99B4-08DE278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B14-13BE-4AA2-A8CA-6DBE667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FA3-A1AB-4D78-A94C-17D83EC7B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311640" y="3633840"/>
            <a:ext cx="2739600" cy="2937960"/>
            <a:chOff x="3311640" y="3633840"/>
            <a:chExt cx="2739600" cy="2937960"/>
          </a:xfrm>
        </p:grpSpPr>
        <p:grpSp>
          <p:nvGrpSpPr>
            <p:cNvPr id="47" name=""/>
            <p:cNvGrpSpPr/>
            <p:nvPr/>
          </p:nvGrpSpPr>
          <p:grpSpPr>
            <a:xfrm>
              <a:off x="3311640" y="3633840"/>
              <a:ext cx="2739600" cy="2925360"/>
              <a:chOff x="3311640" y="3633840"/>
              <a:chExt cx="2739600" cy="292536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311640" y="36338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" name=""/>
              <p:cNvGrpSpPr/>
              <p:nvPr/>
            </p:nvGrpSpPr>
            <p:grpSpPr>
              <a:xfrm>
                <a:off x="3917160" y="3761280"/>
                <a:ext cx="1464480" cy="2561040"/>
                <a:chOff x="3917160" y="3761280"/>
                <a:chExt cx="1464480" cy="25610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917160" y="37612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917160" y="41882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17160" y="4615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17160" y="5895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17160" y="6322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917160" y="5041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17160" y="54687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4283280" y="58654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8" name=""/>
            <p:cNvSpPr/>
            <p:nvPr/>
          </p:nvSpPr>
          <p:spPr>
            <a:xfrm>
              <a:off x="3627360" y="44607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20520" y="56404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311640" y="3646440"/>
              <a:ext cx="2739600" cy="2925360"/>
              <a:chOff x="3311640" y="3646440"/>
              <a:chExt cx="2739600" cy="2925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311640" y="3646440"/>
                <a:ext cx="2739600" cy="2925360"/>
                <a:chOff x="3311640" y="3646440"/>
                <a:chExt cx="2739600" cy="292536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311640" y="36464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3" name=""/>
                <p:cNvGrpSpPr/>
                <p:nvPr/>
              </p:nvGrpSpPr>
              <p:grpSpPr>
                <a:xfrm>
                  <a:off x="3917160" y="3773880"/>
                  <a:ext cx="1464480" cy="2561040"/>
                  <a:chOff x="3917160" y="3773880"/>
                  <a:chExt cx="1464480" cy="25610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3917160" y="37738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917160" y="42008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917160" y="4627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917160" y="5908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17160" y="6334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917160" y="5054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3917160" y="54813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71" name=""/>
                    <p:cNvSpPr txBox="1"/>
                    <p:nvPr/>
                  </p:nvSpPr>
                  <p:spPr>
                    <a:xfrm>
                      <a:off x="4283280" y="58780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2" name=""/>
              <p:cNvSpPr/>
              <p:nvPr/>
            </p:nvSpPr>
            <p:spPr>
              <a:xfrm>
                <a:off x="3787920" y="43495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81080" y="55292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05400" y="54151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59320" y="46404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84680" y="53402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74960" y="46627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41680" y="5284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1960" y="44989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524400"/>
            <a:ext cx="4896000" cy="2108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71280" y="3624120"/>
            <a:ext cx="49719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point A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negative), and since the total potential is equa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+ 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9720" y="874800"/>
            <a:ext cx="2219400" cy="544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3297240"/>
            <a:ext cx="4189320" cy="3103560"/>
            <a:chOff x="2514600" y="3297240"/>
            <a:chExt cx="4189320" cy="31035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514600" y="32972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933640" y="39657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60760" y="39830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23040" y="35686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35760" y="35845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680" y="3513240"/>
            <a:ext cx="4541760" cy="179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9400" y="3613320"/>
            <a:ext cx="458136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re equidistant from point B, and since they have equal and opposite charges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2320" y="1338120"/>
            <a:ext cx="2219400" cy="544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6960" y="5659560"/>
            <a:ext cx="41180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potential at the origi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-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x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60840" y="3478320"/>
            <a:ext cx="3848040" cy="2660400"/>
            <a:chOff x="2760840" y="3478320"/>
            <a:chExt cx="3848040" cy="2660400"/>
          </a:xfrm>
        </p:grpSpPr>
        <p:sp>
          <p:nvSpPr>
            <p:cNvPr id="438" name=""/>
            <p:cNvSpPr/>
            <p:nvPr/>
          </p:nvSpPr>
          <p:spPr>
            <a:xfrm>
              <a:off x="2760840" y="34783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980800" y="3533760"/>
              <a:ext cx="3437640" cy="2383560"/>
              <a:chOff x="2980800" y="3533760"/>
              <a:chExt cx="3437640" cy="2383560"/>
            </a:xfrm>
          </p:grpSpPr>
          <p:sp>
            <p:nvSpPr>
              <p:cNvPr id="440" name=""/>
              <p:cNvSpPr/>
              <p:nvPr/>
            </p:nvSpPr>
            <p:spPr>
              <a:xfrm>
                <a:off x="3687840" y="37605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27440" y="46846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70120" y="36464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65440" y="55465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20040" y="54943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80800" y="35337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82320" y="35589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21920" y="54561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81720" y="36399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7840" y="55512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86040" y="46638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2050920"/>
            <a:ext cx="3048120" cy="517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95960" y="3490920"/>
            <a:ext cx="3848040" cy="2660400"/>
            <a:chOff x="5295960" y="3490920"/>
            <a:chExt cx="3848040" cy="2660400"/>
          </a:xfrm>
        </p:grpSpPr>
        <p:sp>
          <p:nvSpPr>
            <p:cNvPr id="459" name=""/>
            <p:cNvSpPr/>
            <p:nvPr/>
          </p:nvSpPr>
          <p:spPr>
            <a:xfrm>
              <a:off x="5295960" y="34909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515920" y="3546360"/>
              <a:ext cx="3437640" cy="2383560"/>
              <a:chOff x="5515920" y="3546360"/>
              <a:chExt cx="3437640" cy="2383560"/>
            </a:xfrm>
          </p:grpSpPr>
          <p:sp>
            <p:nvSpPr>
              <p:cNvPr id="461" name=""/>
              <p:cNvSpPr/>
              <p:nvPr/>
            </p:nvSpPr>
            <p:spPr>
              <a:xfrm>
                <a:off x="6222960" y="37731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2560" y="46972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05240" y="36590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00560" y="55591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555160" y="55069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15920" y="35463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17440" y="35715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357040" y="54687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16840" y="36525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22960" y="55638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21160" y="46764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3271680"/>
            <a:ext cx="5195880" cy="2597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05160"/>
            <a:ext cx="524664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tential is 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:   the scalar contributions from the two positive charges cancel the two minus charg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However, the contributions from the electric field add up as vectors, and they do not cancel (s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non-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4597560"/>
            <a:ext cx="499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6280" y="6000840"/>
            <a:ext cx="41702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the cen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482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505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64200" y="1006560"/>
            <a:ext cx="3079800" cy="542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7560" y="4446720"/>
            <a:ext cx="7591320" cy="1739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1080" y="4433760"/>
            <a:ext cx="7497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of the points are equidistant from both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harges are equal and opposite, their contributions to the potentia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cel o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verywher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long the mid-plane between the char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0720" y="6294600"/>
            <a:ext cx="82789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all 4 poin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880360" y="3414600"/>
            <a:ext cx="3494160" cy="3001320"/>
            <a:chOff x="2880360" y="3414600"/>
            <a:chExt cx="3494160" cy="3001320"/>
          </a:xfrm>
        </p:grpSpPr>
        <p:grpSp>
          <p:nvGrpSpPr>
            <p:cNvPr id="533" name=""/>
            <p:cNvGrpSpPr/>
            <p:nvPr/>
          </p:nvGrpSpPr>
          <p:grpSpPr>
            <a:xfrm>
              <a:off x="3238560" y="3525840"/>
              <a:ext cx="2872440" cy="2890080"/>
              <a:chOff x="3238560" y="3525840"/>
              <a:chExt cx="2872440" cy="2890080"/>
            </a:xfrm>
          </p:grpSpPr>
          <p:sp>
            <p:nvSpPr>
              <p:cNvPr id="534" name=""/>
              <p:cNvSpPr/>
              <p:nvPr/>
            </p:nvSpPr>
            <p:spPr>
              <a:xfrm>
                <a:off x="4478400" y="474912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05360" y="427680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38560" y="352584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618360" y="389160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5850000" y="34146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44600" y="473220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41920" y="470988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45040" y="43639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36960" y="47610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74200" y="34462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58440" y="4091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0360" y="483372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06000" y="48448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8840" y="4924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66520" y="473544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2840" y="4309920"/>
            <a:ext cx="1346400" cy="1363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191040"/>
            <a:ext cx="5491080" cy="3103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65560"/>
            <a:ext cx="55227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the potential of a point charge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nly points that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d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rom charg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tenti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is is true for points C and 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y lie on an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quipotential Surf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37040" y="2098800"/>
            <a:ext cx="2378160" cy="519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47320" y="3438360"/>
            <a:ext cx="3494160" cy="3001320"/>
            <a:chOff x="5647320" y="3438360"/>
            <a:chExt cx="3494160" cy="3001320"/>
          </a:xfrm>
        </p:grpSpPr>
        <p:grpSp>
          <p:nvGrpSpPr>
            <p:cNvPr id="560" name=""/>
            <p:cNvGrpSpPr/>
            <p:nvPr/>
          </p:nvGrpSpPr>
          <p:grpSpPr>
            <a:xfrm>
              <a:off x="6005520" y="3549600"/>
              <a:ext cx="2872440" cy="2890080"/>
              <a:chOff x="6005520" y="3549600"/>
              <a:chExt cx="2872440" cy="2890080"/>
            </a:xfrm>
          </p:grpSpPr>
          <p:sp>
            <p:nvSpPr>
              <p:cNvPr id="561" name=""/>
              <p:cNvSpPr/>
              <p:nvPr/>
            </p:nvSpPr>
            <p:spPr>
              <a:xfrm>
                <a:off x="7245360" y="477288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2320" y="430056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05520" y="354960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85320" y="391536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8616960" y="34383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11560" y="475596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08880" y="473364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12000" y="43876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3920" y="4784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741160" y="3470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25400" y="411480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47320" y="48574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72960" y="48686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05800" y="494820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33480" y="475920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060640" y="3713040"/>
                <a:ext cx="13050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6451560"/>
            <a:ext cx="6404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oint has the smallest potentia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905200" y="3551400"/>
            <a:ext cx="3530520" cy="2840040"/>
            <a:chOff x="2905200" y="3551400"/>
            <a:chExt cx="3530520" cy="2840040"/>
          </a:xfrm>
        </p:grpSpPr>
        <p:sp>
          <p:nvSpPr>
            <p:cNvPr id="585" name=""/>
            <p:cNvSpPr/>
            <p:nvPr/>
          </p:nvSpPr>
          <p:spPr>
            <a:xfrm>
              <a:off x="2905200" y="35514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3097080" y="3827520"/>
              <a:ext cx="2438280" cy="1765080"/>
              <a:chOff x="3097080" y="3827520"/>
              <a:chExt cx="2438280" cy="1765080"/>
            </a:xfrm>
          </p:grpSpPr>
          <p:sp>
            <p:nvSpPr>
              <p:cNvPr id="587" name=""/>
              <p:cNvSpPr/>
              <p:nvPr/>
            </p:nvSpPr>
            <p:spPr>
              <a:xfrm>
                <a:off x="3097080" y="38275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97080" y="44157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97080" y="5004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97080" y="55926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>
              <a:off x="369396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4017600" y="45324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799160" y="42084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21320" y="52808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29280" y="50900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84960" y="4455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72280" y="39218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4711680" y="57294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481788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66280" y="5096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51680" y="3646440"/>
            <a:ext cx="2739600" cy="2937960"/>
            <a:chOff x="6151680" y="3646440"/>
            <a:chExt cx="2739600" cy="2937960"/>
          </a:xfrm>
        </p:grpSpPr>
        <p:grpSp>
          <p:nvGrpSpPr>
            <p:cNvPr id="89" name=""/>
            <p:cNvGrpSpPr/>
            <p:nvPr/>
          </p:nvGrpSpPr>
          <p:grpSpPr>
            <a:xfrm>
              <a:off x="6151680" y="3646440"/>
              <a:ext cx="2739600" cy="2925360"/>
              <a:chOff x="6151680" y="3646440"/>
              <a:chExt cx="2739600" cy="292536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51680" y="36464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" name=""/>
              <p:cNvGrpSpPr/>
              <p:nvPr/>
            </p:nvGrpSpPr>
            <p:grpSpPr>
              <a:xfrm>
                <a:off x="6757200" y="3773880"/>
                <a:ext cx="1464480" cy="2561040"/>
                <a:chOff x="6757200" y="3773880"/>
                <a:chExt cx="1464480" cy="256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757200" y="3773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57200" y="42008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57200" y="4627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757200" y="5908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57200" y="6334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57200" y="5054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57200" y="54813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7123320" y="58780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0" name=""/>
            <p:cNvSpPr/>
            <p:nvPr/>
          </p:nvSpPr>
          <p:spPr>
            <a:xfrm>
              <a:off x="6467400" y="44733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0560" y="56530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151680" y="3659040"/>
              <a:ext cx="2739600" cy="2925360"/>
              <a:chOff x="6151680" y="3659040"/>
              <a:chExt cx="2739600" cy="29253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151680" y="3659040"/>
                <a:ext cx="2739600" cy="2925360"/>
                <a:chOff x="6151680" y="3659040"/>
                <a:chExt cx="2739600" cy="292536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51680" y="36590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" name=""/>
                <p:cNvGrpSpPr/>
                <p:nvPr/>
              </p:nvGrpSpPr>
              <p:grpSpPr>
                <a:xfrm>
                  <a:off x="6757200" y="3786480"/>
                  <a:ext cx="1464480" cy="2561040"/>
                  <a:chOff x="6757200" y="3786480"/>
                  <a:chExt cx="1464480" cy="25610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757200" y="3786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7200" y="42134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57200" y="4640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57200" y="5920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757200" y="6347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757200" y="5067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757200" y="54939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13" name=""/>
                    <p:cNvSpPr txBox="1"/>
                    <p:nvPr/>
                  </p:nvSpPr>
                  <p:spPr>
                    <a:xfrm>
                      <a:off x="7123320" y="58906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4" name=""/>
              <p:cNvSpPr/>
              <p:nvPr/>
            </p:nvSpPr>
            <p:spPr>
              <a:xfrm>
                <a:off x="6627960" y="43621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21120" y="55418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345440" y="54277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9360" y="46530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4720" y="53528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5000" y="46753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1720" y="5297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2000" y="4511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70280" y="2290680"/>
            <a:ext cx="4473720" cy="881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27280"/>
            <a:ext cx="5753160" cy="2691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514680"/>
            <a:ext cx="57405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qE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experienc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the forces poin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 direction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because the proton and electron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ly charge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1920" y="3973680"/>
            <a:ext cx="4754520" cy="2152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040" y="4097160"/>
            <a:ext cx="477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have to push the positive charg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, 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to d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By contrast, path #4 is the easiest, since the field does all the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99040" y="7318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611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613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25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746440" y="3564000"/>
            <a:ext cx="3530520" cy="2840040"/>
            <a:chOff x="2746440" y="3564000"/>
            <a:chExt cx="3530520" cy="2840040"/>
          </a:xfrm>
        </p:grpSpPr>
        <p:sp>
          <p:nvSpPr>
            <p:cNvPr id="634" name=""/>
            <p:cNvSpPr/>
            <p:nvPr/>
          </p:nvSpPr>
          <p:spPr>
            <a:xfrm>
              <a:off x="274644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2938320" y="3840120"/>
              <a:ext cx="2438280" cy="1765080"/>
              <a:chOff x="2938320" y="3840120"/>
              <a:chExt cx="2438280" cy="176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293832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3832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93832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3832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353520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85884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64040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6256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7052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2620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1352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55292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48" name=""/>
            <p:cNvSpPr/>
            <p:nvPr/>
          </p:nvSpPr>
          <p:spPr>
            <a:xfrm>
              <a:off x="46591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0752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6440" y="3608280"/>
            <a:ext cx="4632120" cy="2079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680" y="3622680"/>
            <a:ext cx="481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are moving in a direction perpendicular to the field lines.  This means you are moving along an equipotential, which requires no work (by definitio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13360" y="15256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660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662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74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6178680"/>
            <a:ext cx="6026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ath requires the least wor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28600" y="3811680"/>
            <a:ext cx="5230800" cy="1909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240" y="3902040"/>
            <a:ext cx="55036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two capacitors are identical, the one that is connected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ater volta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ha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which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this c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94200" y="1319040"/>
            <a:ext cx="1660680" cy="43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201840" y="3108240"/>
            <a:ext cx="3016440" cy="3749400"/>
            <a:chOff x="3201840" y="3108240"/>
            <a:chExt cx="3016440" cy="3749400"/>
          </a:xfrm>
        </p:grpSpPr>
        <p:sp>
          <p:nvSpPr>
            <p:cNvPr id="693" name=""/>
            <p:cNvSpPr/>
            <p:nvPr/>
          </p:nvSpPr>
          <p:spPr>
            <a:xfrm>
              <a:off x="39146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46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2036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2036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34243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292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018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1364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1916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3664080"/>
            <a:ext cx="6093000" cy="2444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691080"/>
            <a:ext cx="6111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 = 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in order to increase the charge that a capacitor can hold at constant voltage, one ha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its capaci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apacitance is given by                 , that can be done by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05240" y="2089080"/>
            <a:ext cx="300204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3371760" y="499428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127920" y="3108240"/>
            <a:ext cx="3015720" cy="3749400"/>
            <a:chOff x="6127920" y="3108240"/>
            <a:chExt cx="3015720" cy="3749400"/>
          </a:xfrm>
        </p:grpSpPr>
        <p:sp>
          <p:nvSpPr>
            <p:cNvPr id="711" name=""/>
            <p:cNvSpPr/>
            <p:nvPr/>
          </p:nvSpPr>
          <p:spPr>
            <a:xfrm>
              <a:off x="684036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1036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3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12936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12936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35004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5500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2792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3936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4488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124080" y="3108240"/>
            <a:ext cx="3016440" cy="3749400"/>
            <a:chOff x="3124080" y="3108240"/>
            <a:chExt cx="3016440" cy="3749400"/>
          </a:xfrm>
        </p:grpSpPr>
        <p:sp>
          <p:nvSpPr>
            <p:cNvPr id="723" name=""/>
            <p:cNvSpPr/>
            <p:nvPr/>
          </p:nvSpPr>
          <p:spPr>
            <a:xfrm>
              <a:off x="383688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0688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2588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2588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34656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5152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2408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4596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148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3133800"/>
            <a:ext cx="5722920" cy="2757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35000" y="3144960"/>
            <a:ext cx="54100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the battery stays connected, the voltage must remain constant !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Since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ge must decreas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80240" y="3108240"/>
            <a:ext cx="3015720" cy="3749400"/>
            <a:chOff x="5880240" y="3108240"/>
            <a:chExt cx="3015720" cy="3749400"/>
          </a:xfrm>
        </p:grpSpPr>
        <p:sp>
          <p:nvSpPr>
            <p:cNvPr id="739" name=""/>
            <p:cNvSpPr/>
            <p:nvPr/>
          </p:nvSpPr>
          <p:spPr>
            <a:xfrm>
              <a:off x="659268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268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588168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588168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610236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0732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8024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014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69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6560" y="4041720"/>
                <a:ext cx="1019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9400" y="1577880"/>
            <a:ext cx="388476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6178680"/>
            <a:ext cx="568476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How do you increase the char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112920" y="3108240"/>
            <a:ext cx="3016440" cy="3749400"/>
            <a:chOff x="3112920" y="3108240"/>
            <a:chExt cx="3016440" cy="3749400"/>
          </a:xfrm>
        </p:grpSpPr>
        <p:sp>
          <p:nvSpPr>
            <p:cNvPr id="758" name=""/>
            <p:cNvSpPr/>
            <p:nvPr/>
          </p:nvSpPr>
          <p:spPr>
            <a:xfrm>
              <a:off x="382572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9572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1472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1472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333540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4036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292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348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403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9720" y="3638520"/>
            <a:ext cx="2739600" cy="2937960"/>
            <a:chOff x="3249720" y="3638520"/>
            <a:chExt cx="2739600" cy="2937960"/>
          </a:xfrm>
        </p:grpSpPr>
        <p:grpSp>
          <p:nvGrpSpPr>
            <p:cNvPr id="131" name=""/>
            <p:cNvGrpSpPr/>
            <p:nvPr/>
          </p:nvGrpSpPr>
          <p:grpSpPr>
            <a:xfrm>
              <a:off x="3249720" y="3638520"/>
              <a:ext cx="2739600" cy="2925360"/>
              <a:chOff x="3249720" y="3638520"/>
              <a:chExt cx="2739600" cy="29253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249720" y="363852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" name=""/>
              <p:cNvGrpSpPr/>
              <p:nvPr/>
            </p:nvGrpSpPr>
            <p:grpSpPr>
              <a:xfrm>
                <a:off x="3855240" y="3765960"/>
                <a:ext cx="1464480" cy="2561040"/>
                <a:chOff x="3855240" y="3765960"/>
                <a:chExt cx="1464480" cy="2561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855240" y="37659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55240" y="4192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55240" y="4619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55240" y="5900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55240" y="63270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855240" y="50464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855240" y="54734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4221360" y="587016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2" name=""/>
            <p:cNvSpPr/>
            <p:nvPr/>
          </p:nvSpPr>
          <p:spPr>
            <a:xfrm>
              <a:off x="3565440" y="446544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58600" y="564516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249720" y="3651120"/>
              <a:ext cx="2739600" cy="2925360"/>
              <a:chOff x="3249720" y="3651120"/>
              <a:chExt cx="2739600" cy="29253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49720" y="3651120"/>
                <a:ext cx="2739600" cy="2925360"/>
                <a:chOff x="3249720" y="3651120"/>
                <a:chExt cx="2739600" cy="292536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249720" y="365112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7" name=""/>
                <p:cNvGrpSpPr/>
                <p:nvPr/>
              </p:nvGrpSpPr>
              <p:grpSpPr>
                <a:xfrm>
                  <a:off x="3855240" y="3778560"/>
                  <a:ext cx="1464480" cy="2561040"/>
                  <a:chOff x="3855240" y="3778560"/>
                  <a:chExt cx="1464480" cy="25610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55240" y="37785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55240" y="4205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855240" y="4632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855240" y="5913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55240" y="63396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855240" y="50590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855240" y="54860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55" name=""/>
                    <p:cNvSpPr txBox="1"/>
                    <p:nvPr/>
                  </p:nvSpPr>
                  <p:spPr>
                    <a:xfrm>
                      <a:off x="4221360" y="588276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56" name=""/>
              <p:cNvSpPr/>
              <p:nvPr/>
            </p:nvSpPr>
            <p:spPr>
              <a:xfrm>
                <a:off x="3726000" y="435420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19160" y="553392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443480" y="541980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97400" y="464508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534492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3040" y="466740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9760" y="528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70040" y="450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1280" y="3290760"/>
            <a:ext cx="5823000" cy="310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335400"/>
            <a:ext cx="5843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ce the battery is disconnected,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as to remain consta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no charge can flow either to or from the battery.  Since   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ltage must doubl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2840" y="2033640"/>
            <a:ext cx="222876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6013440" y="3108240"/>
            <a:ext cx="3016440" cy="3749400"/>
            <a:chOff x="6013440" y="3108240"/>
            <a:chExt cx="3016440" cy="3749400"/>
          </a:xfrm>
        </p:grpSpPr>
        <p:sp>
          <p:nvSpPr>
            <p:cNvPr id="775" name=""/>
            <p:cNvSpPr/>
            <p:nvPr/>
          </p:nvSpPr>
          <p:spPr>
            <a:xfrm>
              <a:off x="67262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962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0152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0152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2359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408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134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3532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84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81160" y="472752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789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791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0" y="3333600"/>
            <a:ext cx="4759200" cy="2530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454560"/>
            <a:ext cx="4862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2 equal capacitors in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ri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dd up a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ver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giving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se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aralle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the first one, which add up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irectl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us, the total equivalent capacitance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3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8400" y="692280"/>
            <a:ext cx="2514600" cy="509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818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820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9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845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21120" y="1189080"/>
            <a:ext cx="2322720" cy="520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873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0" y="3067200"/>
            <a:ext cx="4083120" cy="3563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79200" y="3156120"/>
            <a:ext cx="415908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.  The combined capacitor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paralle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also 10 V.  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in series, their voltages add.  Thus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each has to be 5 V, which is less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72040" y="6146640"/>
            <a:ext cx="46591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urrent in this circu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902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97440" y="1233360"/>
            <a:ext cx="2155680" cy="52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930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0" y="3112920"/>
            <a:ext cx="3887640" cy="323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79200" y="3213000"/>
            <a:ext cx="39859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e already know that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 and the voltage across both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5 V each. 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all the capacitors, th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&gt; 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ref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&gt; 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76880" y="3675240"/>
            <a:ext cx="2739600" cy="2937960"/>
            <a:chOff x="6176880" y="3675240"/>
            <a:chExt cx="2739600" cy="2937960"/>
          </a:xfrm>
        </p:grpSpPr>
        <p:grpSp>
          <p:nvGrpSpPr>
            <p:cNvPr id="172" name=""/>
            <p:cNvGrpSpPr/>
            <p:nvPr/>
          </p:nvGrpSpPr>
          <p:grpSpPr>
            <a:xfrm>
              <a:off x="6176880" y="3675240"/>
              <a:ext cx="2739600" cy="2925360"/>
              <a:chOff x="6176880" y="3675240"/>
              <a:chExt cx="2739600" cy="29253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7688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6782400" y="3802680"/>
                <a:ext cx="1464480" cy="2561040"/>
                <a:chOff x="6782400" y="3802680"/>
                <a:chExt cx="1464480" cy="2561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8240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78240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78240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8240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240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40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8240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714852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3" name=""/>
            <p:cNvSpPr/>
            <p:nvPr/>
          </p:nvSpPr>
          <p:spPr>
            <a:xfrm>
              <a:off x="649260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576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76880" y="3687840"/>
              <a:ext cx="2739600" cy="2925360"/>
              <a:chOff x="6176880" y="3687840"/>
              <a:chExt cx="2739600" cy="2925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176880" y="3687840"/>
                <a:ext cx="2739600" cy="2925360"/>
                <a:chOff x="6176880" y="3687840"/>
                <a:chExt cx="2739600" cy="2925360"/>
              </a:xfrm>
            </p:grpSpPr>
            <p:pic>
              <p:nvPicPr>
                <p:cNvPr id="187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7688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8" name=""/>
                <p:cNvGrpSpPr/>
                <p:nvPr/>
              </p:nvGrpSpPr>
              <p:grpSpPr>
                <a:xfrm>
                  <a:off x="6782400" y="3815280"/>
                  <a:ext cx="1464480" cy="2561040"/>
                  <a:chOff x="6782400" y="3815280"/>
                  <a:chExt cx="1464480" cy="25610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78240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78240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78240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78240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8240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78240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78240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96" name=""/>
                    <p:cNvSpPr txBox="1"/>
                    <p:nvPr/>
                  </p:nvSpPr>
                  <p:spPr>
                    <a:xfrm>
                      <a:off x="714852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97" name=""/>
              <p:cNvSpPr/>
              <p:nvPr/>
            </p:nvSpPr>
            <p:spPr>
              <a:xfrm>
                <a:off x="665316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4632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37064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456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992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4020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692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720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43320" y="1109520"/>
            <a:ext cx="2141640" cy="528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4354560"/>
            <a:ext cx="5919840" cy="1609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41680"/>
            <a:ext cx="61815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ma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on is much less mass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the proton, th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experiences the larger accelera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74840" y="3675240"/>
            <a:ext cx="2739600" cy="2937960"/>
            <a:chOff x="3174840" y="3675240"/>
            <a:chExt cx="2739600" cy="2937960"/>
          </a:xfrm>
        </p:grpSpPr>
        <p:grpSp>
          <p:nvGrpSpPr>
            <p:cNvPr id="215" name=""/>
            <p:cNvGrpSpPr/>
            <p:nvPr/>
          </p:nvGrpSpPr>
          <p:grpSpPr>
            <a:xfrm>
              <a:off x="3174840" y="3675240"/>
              <a:ext cx="2739600" cy="2925360"/>
              <a:chOff x="3174840" y="3675240"/>
              <a:chExt cx="2739600" cy="292536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1748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" name=""/>
              <p:cNvGrpSpPr/>
              <p:nvPr/>
            </p:nvGrpSpPr>
            <p:grpSpPr>
              <a:xfrm>
                <a:off x="3780360" y="3802680"/>
                <a:ext cx="1464480" cy="2561040"/>
                <a:chOff x="3780360" y="3802680"/>
                <a:chExt cx="1464480" cy="2561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7803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803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803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03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803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803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7803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41464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6" name=""/>
            <p:cNvSpPr/>
            <p:nvPr/>
          </p:nvSpPr>
          <p:spPr>
            <a:xfrm>
              <a:off x="34905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837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174840" y="3687840"/>
              <a:ext cx="2739600" cy="2925360"/>
              <a:chOff x="3174840" y="3687840"/>
              <a:chExt cx="2739600" cy="2925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174840" y="3687840"/>
                <a:ext cx="2739600" cy="2925360"/>
                <a:chOff x="3174840" y="3687840"/>
                <a:chExt cx="2739600" cy="292536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1748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1" name=""/>
                <p:cNvGrpSpPr/>
                <p:nvPr/>
              </p:nvGrpSpPr>
              <p:grpSpPr>
                <a:xfrm>
                  <a:off x="3780360" y="3815280"/>
                  <a:ext cx="1464480" cy="2561040"/>
                  <a:chOff x="3780360" y="3815280"/>
                  <a:chExt cx="1464480" cy="25610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803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7803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803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7803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7803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7803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7803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41464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0" name=""/>
              <p:cNvSpPr/>
              <p:nvPr/>
            </p:nvSpPr>
            <p:spPr>
              <a:xfrm>
                <a:off x="36511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442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3686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5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478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381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48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951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84680"/>
            <a:ext cx="6070680" cy="2751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48440" y="3675240"/>
            <a:ext cx="2739600" cy="2937960"/>
            <a:chOff x="6148440" y="3675240"/>
            <a:chExt cx="2739600" cy="2937960"/>
          </a:xfrm>
        </p:grpSpPr>
        <p:grpSp>
          <p:nvGrpSpPr>
            <p:cNvPr id="256" name=""/>
            <p:cNvGrpSpPr/>
            <p:nvPr/>
          </p:nvGrpSpPr>
          <p:grpSpPr>
            <a:xfrm>
              <a:off x="6148440" y="3675240"/>
              <a:ext cx="2739600" cy="2925360"/>
              <a:chOff x="6148440" y="3675240"/>
              <a:chExt cx="2739600" cy="29253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484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6753960" y="3802680"/>
                <a:ext cx="1464480" cy="2561040"/>
                <a:chOff x="6753960" y="3802680"/>
                <a:chExt cx="1464480" cy="2561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7539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539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7539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539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7539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7539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539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66" name=""/>
                  <p:cNvSpPr txBox="1"/>
                  <p:nvPr/>
                </p:nvSpPr>
                <p:spPr>
                  <a:xfrm>
                    <a:off x="71200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7" name=""/>
            <p:cNvSpPr/>
            <p:nvPr/>
          </p:nvSpPr>
          <p:spPr>
            <a:xfrm>
              <a:off x="64641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73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8440" y="3687840"/>
              <a:ext cx="2739600" cy="2925360"/>
              <a:chOff x="6148440" y="3687840"/>
              <a:chExt cx="2739600" cy="2925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48440" y="3687840"/>
                <a:ext cx="2739600" cy="2925360"/>
                <a:chOff x="6148440" y="3687840"/>
                <a:chExt cx="2739600" cy="292536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484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2" name=""/>
                <p:cNvGrpSpPr/>
                <p:nvPr/>
              </p:nvGrpSpPr>
              <p:grpSpPr>
                <a:xfrm>
                  <a:off x="6753960" y="3815280"/>
                  <a:ext cx="1464480" cy="2561040"/>
                  <a:chOff x="6753960" y="3815280"/>
                  <a:chExt cx="1464480" cy="2561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7539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7539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7539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539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7539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7539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7539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80" name=""/>
                    <p:cNvSpPr txBox="1"/>
                    <p:nvPr/>
                  </p:nvSpPr>
                  <p:spPr>
                    <a:xfrm>
                      <a:off x="71200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81" name=""/>
              <p:cNvSpPr/>
              <p:nvPr/>
            </p:nvSpPr>
            <p:spPr>
              <a:xfrm>
                <a:off x="66247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178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3422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61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14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117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84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687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459320" y="1460520"/>
            <a:ext cx="4400640" cy="52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28960"/>
            <a:ext cx="5954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potential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itially.   Because energy is conserved, they both must ha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kinetic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fter they reach the opposite 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00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01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07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10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17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18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22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26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071960"/>
            <a:ext cx="4324320" cy="25970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167360"/>
            <a:ext cx="4210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needed to assemble a collection of charges is the same as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ose char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89080" y="5743440"/>
                <a:ext cx="1852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38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45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55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56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60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64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11840" y="1306440"/>
            <a:ext cx="1106640" cy="9399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19520" y="3840120"/>
            <a:ext cx="4524480" cy="1481040"/>
            <a:chOff x="4619520" y="3840120"/>
            <a:chExt cx="4524480" cy="1481040"/>
          </a:xfrm>
        </p:grpSpPr>
        <p:sp>
          <p:nvSpPr>
            <p:cNvPr id="368" name=""/>
            <p:cNvSpPr/>
            <p:nvPr/>
          </p:nvSpPr>
          <p:spPr>
            <a:xfrm>
              <a:off x="4619520" y="384012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9840" y="390204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or case 1: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nly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5229360" y="4398840"/>
                  <a:ext cx="31176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"/>
          <p:cNvGrpSpPr/>
          <p:nvPr/>
        </p:nvGrpSpPr>
        <p:grpSpPr>
          <a:xfrm>
            <a:off x="4619520" y="5376960"/>
            <a:ext cx="4524480" cy="1481040"/>
            <a:chOff x="4619520" y="5376960"/>
            <a:chExt cx="4524480" cy="1481040"/>
          </a:xfrm>
        </p:grpSpPr>
        <p:sp>
          <p:nvSpPr>
            <p:cNvPr id="372" name=""/>
            <p:cNvSpPr/>
            <p:nvPr/>
          </p:nvSpPr>
          <p:spPr>
            <a:xfrm>
              <a:off x="4619520" y="537696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49840" y="543888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or case 2:</a:t>
              </a: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here a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5072040" y="5935680"/>
                  <a:ext cx="34336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"/>
          <p:cNvSpPr/>
          <p:nvPr/>
        </p:nvSpPr>
        <p:spPr>
          <a:xfrm>
            <a:off x="2462040" y="5676840"/>
            <a:ext cx="1622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ded over all pa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733840" y="3260880"/>
            <a:ext cx="4189320" cy="3103560"/>
            <a:chOff x="2733840" y="3260880"/>
            <a:chExt cx="4189320" cy="310356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733840" y="326088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3152880" y="392940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80000" y="394668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2280" y="353232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55000" y="354816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2-01-23T16:08:46Z</cp:lastPrinted>
  <dcterms:modified xsi:type="dcterms:W3CDTF">2009-07-14T15:49:10Z</dcterms:modified>
  <cp:revision>21559</cp:revision>
  <dc:subject/>
  <dc:title>Chap. 17 Conceptual Modules Giancoli</dc:title>
</cp:coreProperties>
</file>