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12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585-8D45-41A3-9FB9-B3EB8721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CB6-1AA1-426B-A475-C21D56C0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913-8155-4C15-9B1C-26A570BE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443-8C58-4CD6-951E-3F155837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085D-A2A5-416C-8A17-C47D9320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2A7C-B64C-46A8-96AB-FFD61D3E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C0C-B82D-4FE3-800C-B61F8CF7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0777-EF60-49AC-91CB-C544AC92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8529-3A6E-4892-92A6-C5610C1F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1C89-642E-40D7-AC49-72D36145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9D9-9628-4ACC-84C6-7E532B82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5A6-FDD6-4EE3-B150-97D4256B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6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1B7E-05A6-479B-91DF-683632892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6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VA in R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CAN Be Done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thleen M. Sa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12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4419720"/>
            <a:ext cx="177624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6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95280" y="14479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pairwise.t.test(Precip,Decade,p.adj="bonferroni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wise comparisons using t tests with pooled S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:  Precip and Dec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h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ne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ies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neties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ies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value adjustment method: bonferro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4100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airwise differences differ significa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6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Factor ANOVA:  Factorial Experi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ata that take the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3164040" cy="3979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140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6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ormat the data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w and colum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ings as categor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and the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table as a depen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715000" y="533520"/>
            <a:ext cx="1935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6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:  No difference between the means of the a levels of fact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:  At least two means di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:  No difference between the means of the b levels of facto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:  At least two means di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A and B do not interact to affect mean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A and B do interact to affect mean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6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sell&lt;-read.csv("TVStudy2.csv",sep=",",header=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attach(se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names(se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"Sales"  "Media"  "Facto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anova(lm(Sales~Media+Factor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Varianc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: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Sq        Mean Sq       F value        Pr(&gt;F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72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317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467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0.230874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8839           49419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504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0.006568 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2746         8978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. codes:  0 ‘***’ 0.001 ‘**’ 0.01 ‘*’ 0.05 ‘.’ 0.1 ‘ ’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620120" y="4648320"/>
            <a:ext cx="0" cy="1295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6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results allow us to reject the null of all mu values being equal for the set of Factors (Convenience, Price, Qual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which Factors diff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2438280"/>
            <a:ext cx="533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pairwise.t.test(Sales,Factor,p.adj="bonferroni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wise comparisons using t tests with pooled S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:  Sales and Fa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83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05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value adjustment method: bonferro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4876920"/>
            <a:ext cx="76212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4495680"/>
            <a:ext cx="41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and Convenience are the statistically different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971800" y="4876920"/>
            <a:ext cx="137160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6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help getting your HJ Andrews data into sha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Kathle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Rotating images from the H.J. Andrews Experimental Forest"/>
          <p:cNvPicPr/>
          <p:nvPr/>
        </p:nvPicPr>
        <p:blipFill>
          <a:blip r:embed="rId1"/>
          <a:stretch/>
        </p:blipFill>
        <p:spPr>
          <a:xfrm>
            <a:off x="2362320" y="3124080"/>
            <a:ext cx="44956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6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Way ANO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ata of the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verage Annual Temp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Each column her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sam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e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2889360" cy="4496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981080" y="4267080"/>
            <a:ext cx="10749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6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Way ANO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olumns of different lengths: Reformat the data with the first column containing the temperature data and the second containing the name of the city corresponding to each measurement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1212840" cy="2895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57800" y="59436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o on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6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newt&lt;-read.csv("AveTemps2.csv",sep=",",header=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attach(new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names(new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"Temp" "City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anova(lm(Temp~City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Varianc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: T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f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Sq     Mean S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value    Pr(&gt;F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40.97     513.66          242.56         &lt; 2.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9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4.36       2.12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. codes:  0 ‘***’ 0.001 ‘**’ 0.01 ‘*’ 0.05 ‘.’ 0.1 ‘ ’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7086600" y="4343400"/>
            <a:ext cx="457200" cy="1447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57913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 the null hypothesis of equal means for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6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43000" y="11430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pairwise.t.test(Temp,City,p.adj="bonferroni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wise comparisons using t tests with pooled S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:  Temp and 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ne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Longvie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ym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vie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6e-1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-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ympia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2e-16      3.0e-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kane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2e-16      &lt; 2e-16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7e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value adjustment method: bonferro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4724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airwise comparisons show statistically significant differences in the temperatures for these c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6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Way ANOVA:  Randomized Block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5238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data of the form (Total Average Precipita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5788080" cy="1690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23880" y="48006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:  muOly = muLong = muKenn = muS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:  At least two means di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6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ormat the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281952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3962520"/>
            <a:ext cx="134964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6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ainy&lt;-read.csv("AvePrecip2.csv",sep=",",header=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attach(rai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names(rai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"Precip" "Decade" "City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anova(lm(Precip~Decade+City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Varianc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: Prec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S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Mean Sq     F value          Pr(&gt;F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e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.6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5.4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3.8526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0.03079 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91.9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2364.0        1683.9381     5.188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8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1.4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. codes:  0 ‘***’ 0.001 ‘**’ 0.01 ‘*’ 0.05 ‘.’ 0.1 ‘ ’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772400" y="4876560"/>
            <a:ext cx="0" cy="99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59436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the null hypothesis for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6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pairwise.t.test(Precip,City,p.adj="bonferroni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wise comparisons using t tests with pooled S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:  Precip and 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n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y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2e-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y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2e-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038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4e-0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7e-1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8e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value adjustment method: bonferro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47680" y="5257800"/>
            <a:ext cx="68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airwise differences for City differ significant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182880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5:43:17Z</dcterms:created>
  <dc:creator>Greg Saul</dc:creator>
  <dc:description/>
  <dc:language>en-US</dc:language>
  <cp:lastModifiedBy>judyc</cp:lastModifiedBy>
  <dcterms:modified xsi:type="dcterms:W3CDTF">2011-05-12T23:43:29Z</dcterms:modified>
  <cp:revision>15</cp:revision>
  <dc:subject/>
  <dc:title>Two’s Company, Three’s . . . ANOVA!</dc:title>
</cp:coreProperties>
</file>